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6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4.jpeg" ContentType="image/jpe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.jpeg" ContentType="image/jpeg"/>
  <Override PartName="/ppt/media/image1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3FB1-36C7-48F9-BE81-EFECF00C4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9154-B933-4FC5-8A33-21C72CF12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C8DE-256D-403A-AD78-2CD41C8D5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D580-5C7B-49D2-A6E9-16A73F5D1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38FA-8021-4B12-BB59-4410A46D9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20AA-FA70-485E-A9B1-C24124E11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D335-B997-4EEA-8665-47A3DEF56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DD68-BF7A-4604-A13C-9B0083D52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2903-B0BC-4B4A-AFE8-173E1D9FD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DF9A-566C-4F70-8E5C-6055491D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DC1D-93C1-49DE-9203-8B148E40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B52E-43FF-456C-86C4-1BF3832C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87390-65AE-4F59-9D5E-F20D3EC6447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hyperlink" Target="http://en.wikipedia.org/wiki/Image:Dubai_night_skyline.jpg" TargetMode="External"/><Relationship Id="rId5" Type="http://schemas.openxmlformats.org/officeDocument/2006/relationships/image" Target="../media/image1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Dubai_night_skyline.jpg" TargetMode="Externa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ffff"/>
                </a:solidFill>
                <a:latin typeface="Arial"/>
              </a:rPr>
              <a:t>Modern vs. Traditional</a:t>
            </a: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y 1 – Traditional Life in Islamic 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ligious Law vs. Secular La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lamic Law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ular Law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019920" y="1600200"/>
            <a:ext cx="312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ides the l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ides the l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733920" y="1295280"/>
            <a:ext cx="1752480" cy="13478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809880" y="3048120"/>
            <a:ext cx="1643040" cy="17524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838080" y="541008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k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reate a list explaining how a day at school be different living under Islamic religious law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raditional Southwest Asia – Econom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04920" y="1828800"/>
          <a:ext cx="403848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828800"/>
                    <a:ext cx="403848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48320" y="1904760"/>
            <a:ext cx="4038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sed on primary activities like fishing and agricultu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ock market, debt, and interest are seen as a form of gamb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46483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ditional market selling agricultural produ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conomic Development or Traditional Valu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conomics is changing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ould culture change to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T’S TAKE A LOOK 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UTHWEST ASI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105520" y="1523880"/>
            <a:ext cx="2125440" cy="2186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315200" y="1752480"/>
            <a:ext cx="914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Arial"/>
                <a:ea typeface="Arial"/>
              </a:rPr>
              <a:t>↓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143000" y="4314960"/>
            <a:ext cx="258120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MODERN 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rcRect l="73590" t="0" r="0" b="0"/>
          <a:stretch/>
        </p:blipFill>
        <p:spPr>
          <a:xfrm>
            <a:off x="5029200" y="4267080"/>
            <a:ext cx="1515960" cy="23623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707520" y="502920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Arial"/>
                <a:ea typeface="Arial"/>
              </a:rPr>
              <a:t>↑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001000" y="20574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itrus Farm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467480" y="55627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opping Ma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odern Econom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0384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rtiary Activiti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velopment of banks, stock mar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opping ma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omen entering the workplace as teachers, doctors, lawyers, etc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410080" y="1066680"/>
            <a:ext cx="3065760" cy="3581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638680" y="48006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ubai Hotel, largest in the world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219320" y="4267080"/>
          <a:ext cx="2241360" cy="228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4267080"/>
                    <a:ext cx="224136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dern Econom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3581280"/>
            <a:ext cx="44956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aternary Activiti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velopment of TV, media, and 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ular (non-religious) universiti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5486400"/>
            <a:ext cx="350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ubai’s Media City, home to news stations, online publishing, newspap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3276360" cy="2143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572000" y="1219320"/>
            <a:ext cx="4038480" cy="29718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 flipH="1" flipV="1">
            <a:off x="6476760" y="4495320"/>
            <a:ext cx="152280" cy="7621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3886200" y="3885840"/>
            <a:ext cx="1295280" cy="15238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ffff"/>
                </a:solidFill>
                <a:latin typeface="Arial"/>
              </a:rPr>
              <a:t>Modernization</a:t>
            </a: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067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oderniza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increased industrialization, increased urbanization, &amp; increased social chang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irpo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opping Ma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chnology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line busi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ep We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895480" y="2819520"/>
            <a:ext cx="1809720" cy="7668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572000" y="3124080"/>
            <a:ext cx="1652760" cy="2071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6324480" y="2895480"/>
            <a:ext cx="1827360" cy="1366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Dubai's skyline at night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172200" y="4673520"/>
            <a:ext cx="2666880" cy="1781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3657600" y="5181480"/>
            <a:ext cx="182880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rayer Model – Westerniz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1600200"/>
            <a:ext cx="7848360" cy="4800600"/>
          </a:xfrm>
          <a:prstGeom prst="rect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48320" y="1600200"/>
            <a:ext cx="0" cy="4800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4038480"/>
            <a:ext cx="78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724280" y="17524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fini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66680" y="2209680"/>
            <a:ext cx="32767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esternizat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"/>
          <p:cNvSpPr/>
          <p:nvPr/>
        </p:nvSpPr>
        <p:spPr>
          <a:xfrm>
            <a:off x="4724280" y="405288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41292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e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esterniz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finition – When a non-Western country adopts Western Ideas and traditions like culture, government, and economic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s – technology, diet, language, religion, entertainment, law, political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486400" y="1295280"/>
            <a:ext cx="800280" cy="21862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rcRect l="0" t="10461" r="21735" b="0"/>
          <a:stretch/>
        </p:blipFill>
        <p:spPr>
          <a:xfrm>
            <a:off x="6705720" y="2133720"/>
            <a:ext cx="1981080" cy="18795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876920" y="4267080"/>
            <a:ext cx="126972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at is the West?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Map of United States"/>
          <p:cNvPicPr/>
          <p:nvPr/>
        </p:nvPicPr>
        <p:blipFill>
          <a:blip r:embed="rId1"/>
          <a:stretch/>
        </p:blipFill>
        <p:spPr>
          <a:xfrm>
            <a:off x="457200" y="2438280"/>
            <a:ext cx="3352680" cy="2133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791320" y="2209680"/>
            <a:ext cx="2819160" cy="25196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809880" y="2438280"/>
            <a:ext cx="190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267080" y="2895480"/>
            <a:ext cx="1067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Arial"/>
              </a:rPr>
              <a:t>+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outhwest Asia Toda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sk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Read p. 506-507 (starting at “Religious Duties Shape Lives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your notebook, list all the aspects of religious law that are still practiced today in Modern Islam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urn your page sideways &amp; create the chart below in your notebook for today’s not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8229600" cy="5165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ditional Islamic Society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ern Islamic Society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8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Role of Women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Characteristics of Religious Law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Economy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Modern Economy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Tertiary Activiti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Quaternary Activiti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Modernization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(definition) –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Examples of Moderniza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it Ticket - Paragrap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can a country like Saudi Arabia modernize without westernizing its societ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7848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conomic Development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r Traditional Valu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2860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rn Islamic Nations in SW Asia have a major decision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Dubai's skyline at nigh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1752480"/>
            <a:ext cx="2971800" cy="1984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" name=""/>
          <p:cNvGraphicFramePr/>
          <p:nvPr/>
        </p:nvGraphicFramePr>
        <p:xfrm>
          <a:off x="3048120" y="4648320"/>
          <a:ext cx="2895480" cy="203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4648320"/>
                    <a:ext cx="2895480" cy="20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raditional Southwest As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ligion of Islam regulates all aspects of socie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separation of religion from politics and economics (Religion is part of EVERYTH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vernment = a Theocracy based on the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0" y="5070600"/>
            <a:ext cx="1828800" cy="14065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1752480" y="4800600"/>
            <a:ext cx="29718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Qu'ra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4" name=""/>
          <p:cNvSpPr/>
          <p:nvPr/>
        </p:nvSpPr>
        <p:spPr>
          <a:xfrm>
            <a:off x="5105520" y="5410080"/>
            <a:ext cx="14475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raditional Role of Women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st wear headscarf and be veil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fe devoted to husband and raising childr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 rights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couldn’t drive cars, work in a professional workplace, flirt/talk to men other than their husban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800600" y="182880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ran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you watch the first segment on Iran, complete the following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Create a list of elements of traditional culture in Iran that your observe during the clip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ligious Law – Characteristic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ws based on the Qu’r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ligious guidelines for prayers, fasting, giving to the poor, and many other religious matt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3712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ial guidelines for personal hygiene, diet, sexual conduct, and raising child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conomic laws and procedures based on the Isla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cular La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ecular Law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- laws that have no religious connection or influ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792680" y="1600200"/>
            <a:ext cx="3749760" cy="4525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304920" y="4952880"/>
            <a:ext cx="29048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US Constitu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3352680" y="4191120"/>
            <a:ext cx="1219320" cy="838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rayer Model – Secular La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762120" y="1600200"/>
            <a:ext cx="7848360" cy="4800600"/>
            <a:chOff x="762120" y="1600200"/>
            <a:chExt cx="7848360" cy="4800600"/>
          </a:xfrm>
        </p:grpSpPr>
        <p:sp>
          <p:nvSpPr>
            <p:cNvPr id="70" name=""/>
            <p:cNvSpPr/>
            <p:nvPr/>
          </p:nvSpPr>
          <p:spPr>
            <a:xfrm>
              <a:off x="762120" y="1600200"/>
              <a:ext cx="7848360" cy="4800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648320" y="1600200"/>
              <a:ext cx="0" cy="4800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62120" y="4038480"/>
              <a:ext cx="7848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24280" y="1752480"/>
              <a:ext cx="289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efinition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 txBox="1"/>
            <p:nvPr/>
          </p:nvSpPr>
          <p:spPr>
            <a:xfrm>
              <a:off x="1066680" y="2209680"/>
              <a:ext cx="3276720" cy="106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Secular Law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24280" y="4052880"/>
              <a:ext cx="365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on-Example of a Country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62120" y="4129200"/>
              <a:ext cx="289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xample of a Country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21:44:29Z</dcterms:created>
  <dc:creator>CFISD</dc:creator>
  <dc:description/>
  <dc:language>en-US</dc:language>
  <cp:lastModifiedBy>CFISD</cp:lastModifiedBy>
  <dcterms:modified xsi:type="dcterms:W3CDTF">2009-02-13T13:05:32Z</dcterms:modified>
  <cp:revision>42</cp:revision>
  <dc:subject/>
  <dc:title>Economic Development or Traditional Values?</dc:title>
</cp:coreProperties>
</file>