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A458-D924-443D-8507-2942A15E6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E6F8-2388-448D-A9E5-84869C22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67B-FCE2-457B-AE1A-33EC7EEC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183-DD63-42BF-A593-9C411214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C862-EC1B-4FFB-93FE-B10CA6BC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684-EC1A-4864-9AF3-F34ECFBC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ACC8-799D-45FE-B6E3-5031EFA9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668-32C4-40FC-9DB4-26A5409B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534-3D43-45BE-8ECF-0C1B5C94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EB5-38B0-49D5-8D8D-24C1B805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D50-749D-49D8-BC78-2CB5210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5977-44B3-4061-9E63-C1C45323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1903-A20E-46DE-8504-AE1EF37A4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uture.state.gov/when/timeline/1969_detente/fall_of_communism.html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laboutphilosophy.org/fall-of-communism-in-russia-faq.htm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all of Commu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litical Revolutions in the Republic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uture.state.gov/when/timeline/1969_detente/fall_of_communism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What were the effects of the collapse of the Berlin W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Describe the revolutionary movements in the Republ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hy did the revolutionaries have the confidence to attempt revolu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tuation during the 198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Soviets invade Afghanistan – to support the Communist government in the Afghan Civil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People were sick of Communism’s negative effects – Stalin’s Purges, Industrialization at all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on #1 – Soviet Union runs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Rapid industrialization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Fighting/funding wars to spread communism =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negative economic effects of communis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etch two examples of how the economic effects of communism caused the Soviet Union to run out of mone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ll of Communism – Reason #2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ocial Fact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llaboutphilosophy.org/fall-of-communism-in-russia-faq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 the question below from the website abov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How did the Great Purge under Stalin contribute to the Fall of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How was religion viewed under Communis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Explain the negative effects of Communism’s economic poli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cribe the state of Russia’s political system when Gorbachev took pow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sm F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khail Gorbachev became the leader of the USSR in 1985 and began reforms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estroik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hanges to a market economy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asno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penness within the USS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ikhail Gorbachev"/>
          <p:cNvPicPr/>
          <p:nvPr/>
        </p:nvPicPr>
        <p:blipFill>
          <a:blip r:embed="rId2"/>
          <a:stretch/>
        </p:blipFill>
        <p:spPr>
          <a:xfrm>
            <a:off x="304920" y="3657600"/>
            <a:ext cx="85341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Perestroika – the restructuring of the Soviet econom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 to market econ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d to privatization of busines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rbachev’s Poli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1600200"/>
          <a:ext cx="8839080" cy="4724280"/>
        </p:xfrm>
        <a:graphic>
          <a:graphicData uri="http://schemas.openxmlformats.org/drawingml/2006/table">
            <a:tbl>
              <a:tblPr/>
              <a:tblGrid>
                <a:gridCol w="4620600"/>
                <a:gridCol w="421848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VATIZATI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elling government-owned businesses to regular citizen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How is this different from life under the Soviet Unio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rbachev’s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Glasnost - the policy of openness in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the activities of all government institu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edom of inform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5T12:49:18Z</dcterms:created>
  <dc:creator>CFISD</dc:creator>
  <dc:description/>
  <dc:language>en-US</dc:language>
  <cp:lastModifiedBy>CFISD</cp:lastModifiedBy>
  <dcterms:modified xsi:type="dcterms:W3CDTF">2009-01-05T13:27:03Z</dcterms:modified>
  <cp:revision>4</cp:revision>
  <dc:subject/>
  <dc:title>The Fall of Communism</dc:title>
</cp:coreProperties>
</file>