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9E9-25F6-47A9-B964-0BECB24C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206-CE23-4708-8367-B3F73373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4E3-F9D1-495B-BBD6-7EF2E6F0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339E-8046-47EB-9A42-7C66CBDF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77D-A1EA-4CB2-822B-244CAC03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037-1C62-47F2-8100-40FAA776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17A5-FF8E-4F60-AF7C-B9BF2353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587-A04F-47A0-8CCB-F0D423F4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746-4B4B-4FFF-B6D7-082C7AAF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AC78-A38B-46AC-B41B-4C37C1C5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AD3-5501-4F75-A092-2C75D0EB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CA2-61E6-4E6B-B87B-98E49184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D683-41F5-4D60-952E-0C5E0661D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uture.state.gov/when/timeline/1969_detente/fall_of_communism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laboutphilosophy.org/fall-of-communism-in-russia-faq.ht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ll of 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Revolutions in the Republ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uture.state.gov/when/timeline/1969_detente/fall_of_communism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he questions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were the effects of the collapse of the Berlin W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escribe the revolutionary movements in the Republ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y did the revolutionaries have the confidence to attempt revolu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uation during the 198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oviets invade Afghanistan – to support the Communist government in the Afghan Civil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eople were sick of Communism’s negative effects – Stalin’s Purges, Industrialization at al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l of Commu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 #1 – Soviet Union runs out of mon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apid industrialization =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ighting/funding wars to spread communism =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negative economic effects of commun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two examples of how the economic effects of communism caused the Soviet Union to run out of mon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l of Communism – Reason #2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ocial F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llaboutphilosophy.org/fall-of-communism-in-russia-faq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he question below from the website abo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w did the Great Purge under Stalin contribute to the Fall of Communi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was religion viewed under Communi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plain the negative effects of Communism’s economic poli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escribe the state of Russia’s political system when Gorbachev took po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sm F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hail Gorbachev became the leader of the USSR in 1985 and began reforms of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estroik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anges to a market econom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asno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enness within the USS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ikhail Gorbachev"/>
          <p:cNvPicPr/>
          <p:nvPr/>
        </p:nvPicPr>
        <p:blipFill>
          <a:blip r:embed="rId2"/>
          <a:stretch/>
        </p:blipFill>
        <p:spPr>
          <a:xfrm>
            <a:off x="304920" y="3657600"/>
            <a:ext cx="85341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erestroika – the restructuring of the Sovi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to market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to privatization of busines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rbachev’s Polic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IZ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lling government-owned businesses to regular citizen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is this different from life under the Soviet Un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rbachev’s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Glasnost - the policy of openness in the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cy in the activities of all government institu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edom of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2:49:18Z</dcterms:created>
  <dc:creator>CFISD</dc:creator>
  <dc:description/>
  <dc:language>en-US</dc:language>
  <cp:lastModifiedBy>CFISD</cp:lastModifiedBy>
  <dcterms:modified xsi:type="dcterms:W3CDTF">2009-01-05T13:27:03Z</dcterms:modified>
  <cp:revision>4</cp:revision>
  <dc:subject/>
  <dc:title>The Fall of Communism</dc:title>
</cp:coreProperties>
</file>