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2588-EE71-45FB-B696-EE7E48D6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2118-5748-41C2-9082-23B69C74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57B0-961A-4BE6-A199-0695E999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4B82-452B-493E-AE43-AE992EB6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9C73-22DF-43C8-B173-C7106BDD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AD78-686B-4D97-95B5-14E84224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0532-6ED0-47F4-80E4-A2C36F03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EF7-1C7B-4DA9-820B-0676D6C8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83B0-0401-4E1F-9810-97543D77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65F-D06C-40D8-A7DD-5CABB63E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D78E-B2A7-4D5E-963F-3E246A29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601-6A5C-4ABA-BED2-31CF02DE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C2A4-FE3E-4137-995E-B7344A66A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flict in the Balk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line under your notes on the conflict in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“Conflict in the Balkans” as the title of your second section of your conflict no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5257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. Who is fight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rbs = Christia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. Bosnians = 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ny other ethnic groups are fighting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. Ethnic Grou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from similar cultural back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57642" t="35188" r="16669" b="17592"/>
          <a:stretch/>
        </p:blipFill>
        <p:spPr>
          <a:xfrm>
            <a:off x="5351400" y="152280"/>
            <a:ext cx="3792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. 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ides used to be controlled by a strong SERBIAN dictator when the country was Yugoslav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ctator died, Yugoslavia splits up, and the conflict begi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43000" y="4724280"/>
            <a:ext cx="69343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alkanization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5257800" y="3580920"/>
            <a:ext cx="106668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2895480"/>
            <a:ext cx="4267080" cy="838440"/>
          </a:xfrm>
          <a:prstGeom prst="ellipse">
            <a:avLst/>
          </a:prstGeom>
          <a:noFill/>
          <a:ln w="381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1828800"/>
          <a:ext cx="8686800" cy="44956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kanization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. Definitio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rocess of breaking up a region into small, mutually hostile unit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. Examples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provide 1 in addition to min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ups fighting for independence after a country’s dictator dies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609480" y="0"/>
            <a:ext cx="822960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aye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rections: Complete the task described in each box for the word Balkanization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rcRect l="26388" t="13891" r="39585" b="22225"/>
          <a:stretch/>
        </p:blipFill>
        <p:spPr>
          <a:xfrm>
            <a:off x="228600" y="152280"/>
            <a:ext cx="4800600" cy="624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5867280" y="1600200"/>
            <a:ext cx="221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ipers would hide in the surrounding buildings and hotels and shoot Parliament members going to wor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. Why they are f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sides want their own country, filled with only members of their ethnic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se the reading titled to answer questions be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ain the war tactics of the Serb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a picture of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p Ques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how they were fighting during the confli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conflict still impact the reg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. How they are f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nic Clean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removing all members of  an ethnic group by forcing them to move or genoc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Genoci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killing all members of an ethnic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13:45Z</dcterms:created>
  <dc:creator>CFISD</dc:creator>
  <dc:description/>
  <dc:language>en-US</dc:language>
  <cp:lastModifiedBy>CFISD</cp:lastModifiedBy>
  <dcterms:modified xsi:type="dcterms:W3CDTF">2008-11-20T20:35:38Z</dcterms:modified>
  <cp:revision>5</cp:revision>
  <dc:subject/>
  <dc:title>The Conflict in the Balkans</dc:title>
</cp:coreProperties>
</file>