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461-9A08-49AA-AFFB-BE6FC921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580-D01B-4C74-A6C6-B46DEA93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728-5CB1-4907-A1F9-5288F229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F8D-3C7D-48DD-A50A-2D21F92A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A99-B65D-49E1-A705-893F4BA8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5BB-95DB-4DE4-9E3E-5C3D6A8B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2643-6737-4B11-9945-620EC53C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A07-3CD5-46E5-9963-81525F56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E37-DBEA-4C6A-8F4F-C12516EE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5A3-069A-43A3-9437-663182D0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0F2-98C3-46BD-837D-808B523E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7A1-F48A-4999-8ADB-77765466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7CD4-135A-4F24-AECE-CF3560C41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flict in the Balk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line under your notes on the conflict in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“Conflict in the Balkans” as the title of your second section of your conflict no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5257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Who is fight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rbs = Christi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 Bosnians = 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ny other ethnic groups are fighting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Ethnic Grou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from similar cultural 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57642" t="35188" r="16669" b="17592"/>
          <a:stretch/>
        </p:blipFill>
        <p:spPr>
          <a:xfrm>
            <a:off x="5351400" y="152280"/>
            <a:ext cx="3792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ides used to be controlled by a strong SERBIAN dictator when the country was Yugoslav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ctator died, Yugoslavia splits up, and the conflict beg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4724280"/>
            <a:ext cx="6934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lkaniza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57800" y="3580920"/>
            <a:ext cx="106668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2895480"/>
            <a:ext cx="4267080" cy="838440"/>
          </a:xfrm>
          <a:prstGeom prst="ellipse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1828800"/>
          <a:ext cx="8686800" cy="44956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kaniz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. Definitio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cess of breaking up a region into small, mutually hostile uni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. Examples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vide 1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s fighting for independence after a country’s dictator die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09480" y="0"/>
            <a:ext cx="822960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Balkanization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26388" t="13891" r="39585" b="22225"/>
          <a:stretch/>
        </p:blipFill>
        <p:spPr>
          <a:xfrm>
            <a:off x="228600" y="152280"/>
            <a:ext cx="480060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5867280" y="1600200"/>
            <a:ext cx="221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ipers would hide in the surrounding buildings and hotels and shoot Parliament members going to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Why they are f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ides want their own country, filled with only members of their ethnic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the reading titled to answer questions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war tactics of the Serb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a picture of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they were fighting during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conflict still impact the reg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. How they are f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ic Clean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removing all members of  an ethnic group by forcing them to move or genoc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Genoc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killing all members of an ethnic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13:45Z</dcterms:created>
  <dc:creator>CFISD</dc:creator>
  <dc:description/>
  <dc:language>en-US</dc:language>
  <cp:lastModifiedBy>CFISD</cp:lastModifiedBy>
  <dcterms:modified xsi:type="dcterms:W3CDTF">2008-11-20T20:35:38Z</dcterms:modified>
  <cp:revision>5</cp:revision>
  <dc:subject/>
  <dc:title>The Conflict in the Balkans</dc:title>
</cp:coreProperties>
</file>