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7A9-9720-4F09-B70F-DE2D1265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2046-9809-44FE-B552-44B7ECE5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75AE-2C87-44CE-973B-49C636469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9281-3522-492F-9685-7E107D92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6EE1-7D30-4FF5-9BBF-B79421A1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2F71-26E7-46ED-A1D0-BAB3C35F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9D72-72C1-4303-82D8-D72ADEB1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E8BC-29E6-40C6-A003-DEBFE4ED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F9F-EF32-4F23-953E-4E71A60B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3E0-F834-4400-A276-79B4DF021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07E-8498-433E-B7E0-F8A93441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868-84FD-4EA7-B28E-B4D4BE1C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9CB9-4690-4EFA-B904-5B2AFA4A8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flict in the Balk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line under your notes on the conflict in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“Conflict in the Balkans” as the title of your second section of your conflict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5257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rbs = Christi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Bosnians =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ny other ethnic groups are fighting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Ethnic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from similar cultural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57642" t="35188" r="16669" b="17592"/>
          <a:stretch/>
        </p:blipFill>
        <p:spPr>
          <a:xfrm>
            <a:off x="5351400" y="152280"/>
            <a:ext cx="3792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used to be controlled by a strong SERBIAN dictator when the country was Yugoslav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ctator died, Yugoslavia splits up, and the conflict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4724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lkaniz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3580920"/>
            <a:ext cx="106668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895480"/>
            <a:ext cx="4267080" cy="838440"/>
          </a:xfrm>
          <a:prstGeom prst="ellipse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kaniz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cess of breaking up a region into small, mutually hostile uni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1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 fighting for independence after a country’s dictator die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Balkanization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26388" t="13891" r="39585" b="22225"/>
          <a:stretch/>
        </p:blipFill>
        <p:spPr>
          <a:xfrm>
            <a:off x="228600" y="152280"/>
            <a:ext cx="48006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867280" y="160020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ipers would hide in the surrounding buildings and hotels and shoot Parliament members going to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Why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want their own country, filled with only members of their ethnic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the reading titled to answer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war tactics of the Ser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a picture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y were fighting during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conflict still impact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. How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ic Clean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emoving all members of  an ethnic group by forcing them to move or genoc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Genoc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killing all members of an ethnic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13:45Z</dcterms:created>
  <dc:creator>CFISD</dc:creator>
  <dc:description/>
  <dc:language>en-US</dc:language>
  <cp:lastModifiedBy>CFISD</cp:lastModifiedBy>
  <dcterms:modified xsi:type="dcterms:W3CDTF">2008-11-20T20:35:38Z</dcterms:modified>
  <cp:revision>5</cp:revision>
  <dc:subject/>
  <dc:title>The Conflict in the Balkans</dc:title>
</cp:coreProperties>
</file>