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735-5908-482A-91E0-3623BAA0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06F-4201-4DF4-9493-D6184149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487-CD67-4731-83FC-40FADE14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B5E-F57D-4F33-B433-823CE3BA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386-D274-405B-97D5-9F5D056E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39D-C9C0-49DE-A7B2-039DFA00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7EE-54F6-4E2E-9319-319984D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865-7E77-4F05-B5A5-CEB7A8BD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4F9-FDD3-4C90-AFCA-7D70C10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EF7-D62F-496A-B846-58C3261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047-D29A-4938-B840-B7EEB12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514-96CC-4D12-ACD1-46206DFD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43E-417C-48BF-91D2-54C072C7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flict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under your notes on the conflict in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“Conflict in the Balkans” as the title of your second section of your conflict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rbs =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Bosnians =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other ethnic groups are fighting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Ethn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from similar cultural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57642" t="35188" r="16669" b="17592"/>
          <a:stretch/>
        </p:blipFill>
        <p:spPr>
          <a:xfrm>
            <a:off x="5351400" y="152280"/>
            <a:ext cx="379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used to be controlled by a strong SERBIAN dictator when the country was Yugoslav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ctator died, Yugoslavia splits up, and the conflict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4724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lkaniz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3580920"/>
            <a:ext cx="10666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895480"/>
            <a:ext cx="4267080" cy="838440"/>
          </a:xfrm>
          <a:prstGeom prst="ellipse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kaniz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breaking up a region into small, mutually hostile un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1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 fighting for independence after a country’s dictator di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Balkanization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26388" t="13891" r="39585" b="22225"/>
          <a:stretch/>
        </p:blipFill>
        <p:spPr>
          <a:xfrm>
            <a:off x="228600" y="152280"/>
            <a:ext cx="4800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867280" y="160020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ipers would hide in the surrounding buildings and hotels and shoot Parliament members going to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Why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want their own country, filled with only members of their ethnic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reading titled to answer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war tactics of the S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y were fighting during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nflict still impact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. How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Clean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moving all members of  an ethnic group by forcing them to move or genoc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enoc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illing all members of an ethni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13:45Z</dcterms:created>
  <dc:creator>CFISD</dc:creator>
  <dc:description/>
  <dc:language>en-US</dc:language>
  <cp:lastModifiedBy>CFISD</cp:lastModifiedBy>
  <dcterms:modified xsi:type="dcterms:W3CDTF">2008-11-20T20:35:38Z</dcterms:modified>
  <cp:revision>5</cp:revision>
  <dc:subject/>
  <dc:title>The Conflict in the Balkans</dc:title>
</cp:coreProperties>
</file>