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DC83-EA8B-46F1-9F27-8DB5B2E6E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38B4-E5BF-4B3B-A755-995B3500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132-FD12-490E-9B97-C22123E38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C59-0D56-4906-A888-E09DA1C0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AD1C-DD8A-4DDB-95DC-90F61A17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12CD-3903-4066-B217-33D2A446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7ECF-22CA-42A8-9678-8F79604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75C-5B67-4D23-8C47-4E34240CC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99A1-87C4-4DFC-95F0-733DCA48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1ED-BCF7-43DB-AA28-728AC26B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ED1-F538-4A83-B0B3-60C31415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656B-6CE9-45B0-A350-AED243A1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8864-2EE6-4627-9C6D-D915B4CBC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use the 5 A’s to examine spatial relationsh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Analy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nalyze their findings and the answers to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he data s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we present our information to Mr. Hilt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r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arrange the data so that it is easy to read and interp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data into charts, graphs, tables,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k B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391520" cy="5232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905120" y="6095880"/>
            <a:ext cx="457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Winter      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43800" y="175248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jured tour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Ap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, they apply their decisions to the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the hotel in the best possibl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is to maximize prof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tur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plan using the 5 A’s to convince your parents to buy you one of the following items: IPhone, PS3, 61’ HDTV, stereo system, IPOD, car, or dirtbik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each step of the 5 A process and how you intend to persuade your par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plan for a  __________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quir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600200"/>
                <a:gridCol w="4572000"/>
                <a:gridCol w="205740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MPs – Foc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Themes of Geograph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A’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5 A’s –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is Hilton asked you to help plan her family’s next Hil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ill be built in Hawai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re money they make from the hotel in the first year, the more money you get pa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your pl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ers analyze spatial relationships to look for patterns and tre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cquir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alyz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rang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, geographers ask questions to help them make decis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Question: Where should the hotel be loc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economy li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the volcanoes erup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e up with 2 more questions that a geographer might ask in our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Acqu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, geographers go out and find the answer to the questions they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y find the location of their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nd data on volcano eru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2:02:06Z</dcterms:created>
  <dc:creator>CFISD</dc:creator>
  <dc:description/>
  <dc:language>en-US</dc:language>
  <cp:lastModifiedBy>CFISD</cp:lastModifiedBy>
  <dcterms:modified xsi:type="dcterms:W3CDTF">2008-08-29T20:03:11Z</dcterms:modified>
  <cp:revision>12</cp:revision>
  <dc:subject/>
  <dc:title>The 5 A’s</dc:title>
</cp:coreProperties>
</file>