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F45C-68DE-4612-8048-F9588B4F8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878C-3011-4276-AFF8-3CD39A89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DD1B-393E-4D72-8F08-7034B549C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EB39-6388-4CA0-A71C-E589BBCD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11C7-0B7C-47D6-AA01-D9F90054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9E7B-74CA-4D3E-B578-ACAB837A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8A9B-1DD8-418F-AD53-4ADB251E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66EA-157E-4020-8983-5884EFBA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8C19-C24F-467D-84B0-FC506C39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9F8A-694D-4612-B004-95173FC7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2349-B3AC-44FA-92F0-8415D8A8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CA52-1E60-4737-A04C-380D07D8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CFF9-40BA-4F36-9800-3211E325E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5 A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ers use the 5 A’s to examine spatial relationshi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Analy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, geographers analyze their findings and the answers to the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the data s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we present our information to Mr. Hilt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Ar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, geographers arrange the data so that it is easy to read and interpr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data into charts, graphs, tables,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k B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391520" cy="5232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05120" y="609588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F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Winter       Sp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43800" y="175248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jured tour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A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, they apply their decisions to the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the hotel in the best possible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is to maximize prof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ur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 plan using the 5 A’s to convince your parents to buy you one of the following items: IPhone, PS3, 61’ HDTV, stereo system, IPOD, car, or dirtbik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each step of the 5 A process and how you intend to persuade your par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plan for a  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quire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nge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e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MPs – Foc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Ana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Themes of Geograph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A’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5 A’s –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is Hilton asked you to help plan her family’s next Hilt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ill be built in Hawai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re money they make from the hotel in the first year, the more money you get pa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your pl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ers analyze spatial relationships to look for patterns and tren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quir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alyz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rang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0"/>
          <a:ext cx="9144000" cy="68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, geographers ask questions to help them make decis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Question: Where should the hotel be loc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economy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often do the volcanoes erup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e up with 2 more questions that a geographer might ask in our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Acqu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, geographers go out and find the answer to the questions they ask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y find the location of their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find data on volcano eru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0"/>
          <a:ext cx="9144000" cy="682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0"/>
          <a:ext cx="9144000" cy="686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12:02:06Z</dcterms:created>
  <dc:creator>CFISD</dc:creator>
  <dc:description/>
  <dc:language>en-US</dc:language>
  <cp:lastModifiedBy>CFISD</cp:lastModifiedBy>
  <dcterms:modified xsi:type="dcterms:W3CDTF">2008-08-29T20:03:11Z</dcterms:modified>
  <cp:revision>12</cp:revision>
  <dc:subject/>
  <dc:title>The 5 A’s</dc:title>
</cp:coreProperties>
</file>