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549-7599-4CF0-B02F-B3B85F61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4DC-E282-43EF-9DB6-93405CBB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347-2997-4F10-BC08-7C9DF9DD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530-41C0-40DF-B282-2CAAF9FF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FFC-154D-49BF-AC53-B1BBAF39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F13-8B0E-4D0D-897E-3CA7A8D8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A30-5384-4495-9C87-49FC910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F12-6CBE-458C-ACFD-5F5F13E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84F-D26A-4F2C-8B41-E05A068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F6F-5CC8-4870-8C73-5347506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8C4-C3A3-49A8-BA96-4B3CD7C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786-876A-4FC5-B07C-DEA34F6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D078-9A80-4F05-95A5-4A082128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examin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nalyze their findings and the answers to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ata s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present our information to Mr. Hil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rrange the data so that it is easy to read and interp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ata into charts, graphs, tables,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k B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3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609588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Winter      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17524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ured tour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they apply their decisions 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he hotel in the best possibl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maximize pro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lan using the 5 A’s to convince your parents to buy you one of the following items: IPhone, PS3, 61’ HDTV, stereo system, IPOD, car, or dirtb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each step of the 5 A process and how you intend to persuade your pa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lan for a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 –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Hilton asked you to help plan her family’s next Hil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built in Hawa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money they make from the hotel in the first year, the more money you get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your pl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analyze spatial relationships to look for patterns and tr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geographers ask questions to help them make deci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: Where should the hotel be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conomy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 the volcanoes erup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 up with 2 more questions that a geographer might ask in ou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go out and find the answer to the questions they as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ind the location of their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nd data on volcano e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2:02:06Z</dcterms:created>
  <dc:creator>CFISD</dc:creator>
  <dc:description/>
  <dc:language>en-US</dc:language>
  <cp:lastModifiedBy>CFISD</cp:lastModifiedBy>
  <dcterms:modified xsi:type="dcterms:W3CDTF">2008-08-29T20:03:11Z</dcterms:modified>
  <cp:revision>12</cp:revision>
  <dc:subject/>
  <dc:title>The 5 A’s</dc:title>
</cp:coreProperties>
</file>