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0E4B-ACDD-4260-AAF6-1DB0CDA9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C40-D83D-4209-9AB2-DA87C38E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82E-9460-41FE-8A80-96024D2F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AB9-137C-4CE1-BBF3-28875C09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24F-6941-41DF-A10D-A58C5656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A091-98D2-4432-A7CE-37E7EEF7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6FC-4DD2-4C4A-A125-8341B681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0062-FCFE-4409-82A9-22C56394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F20-B882-4FD9-8D0E-97CF6BCA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F72D-0CB2-4E74-97B8-AD2AC3A0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026-2C96-4C03-AEA5-D7132BEA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0B92-6AF9-4508-B44E-0B910F7B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E748-6732-482C-8617-D90A862E4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uture.state.gov/when/timeline/1969_detente/fall_of_communism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laboutphilosophy.org/fall-of-communism-in-russia-faq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Revolutions in the Republ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uture.state.gov/when/timeline/1969_detente/fall_of_communism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were the effects of the collapse of the Berlin W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scribe the revolutionary movements in the Republ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did the revolutionaries have the confidence to attempt revolu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 during the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oviets invade Afghanistan – to support the Communist government in the Afghan Civil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eople were sick of Communism’s negative effects – Stalin’s Purges, Industrialization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 #1 – Soviet Union runs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pid industrialization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ighting/funding wars to spread communism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negative economic effects of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wo examples of how the economic effects of communism caused the Soviet Union to run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 – Reason #2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cia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aboutphilosophy.org/fall-of-communism-in-russia-faq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 below from the website ab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did the Great Purge under Stalin contribute to the Fall of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as religion viewed under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plain the negative effects of Communism’s economic poli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cribe the state of Russia’s political system when Gorbachev took p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 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hail Gorbachev became the leader of the USSR in 1985 and began reforms of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estroi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nges to a market econom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n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nness within the USS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ikhail Gorbachev"/>
          <p:cNvPicPr/>
          <p:nvPr/>
        </p:nvPicPr>
        <p:blipFill>
          <a:blip r:embed="rId2"/>
          <a:stretch/>
        </p:blipFill>
        <p:spPr>
          <a:xfrm>
            <a:off x="304920" y="3657600"/>
            <a:ext cx="85341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erestroika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to market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IZ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ling government-owned businesses to regular citize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is this different from life under the Soviet Un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lasnost - the policy of openness in the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edom of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2:49:18Z</dcterms:created>
  <dc:creator>CFISD</dc:creator>
  <dc:description/>
  <dc:language>en-US</dc:language>
  <cp:lastModifiedBy>CFISD</cp:lastModifiedBy>
  <dcterms:modified xsi:type="dcterms:W3CDTF">2009-01-05T13:27:03Z</dcterms:modified>
  <cp:revision>4</cp:revision>
  <dc:subject/>
  <dc:title>The Fall of Communism</dc:title>
</cp:coreProperties>
</file>