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28BF-2747-4909-AB72-092EC959A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F30B-26A4-4D52-B51B-41BFD4B8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0EC8-89BB-43F8-A4A8-1C47C44D1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E82D-9DCE-4268-88BA-46F3BF1D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08F9-35CB-447E-9F09-A4BF26AC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9CE0-03CA-478F-B587-F8C07CED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9A5C-AE67-4023-BCF6-8FFAF57D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191C-128D-46EB-936F-576F0311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F253-CE6F-40EC-9478-6DB7EE5E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69A1-8648-4E53-832A-7DF8346D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FDCE-E1F6-4B6C-B82C-E07D925B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DBB8-7BF5-4E1B-8DE1-43D49DD5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8962-9023-45BE-BCA5-0343AE5E1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flict in the Balk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line under your notes on the conflict in Northern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“Conflict in the Balkans” as the title of your second section of your conflict no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5257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Who is fight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erbs = Christia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 Bosnians = Musl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any other ethnic groups are fighting 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Ethnic Grou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from similar cultural backgr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57642" t="35188" r="16669" b="17592"/>
          <a:stretch/>
        </p:blipFill>
        <p:spPr>
          <a:xfrm>
            <a:off x="5351400" y="152280"/>
            <a:ext cx="3792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.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ides used to be controlled by a strong SERBIAN dictator when the country was Yugoslav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ctator died, Yugoslavia splits up, and the conflict beg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43000" y="4724280"/>
            <a:ext cx="69343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alkanizatio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257800" y="3580920"/>
            <a:ext cx="106668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2895480"/>
            <a:ext cx="4267080" cy="838440"/>
          </a:xfrm>
          <a:prstGeom prst="ellipse">
            <a:avLst/>
          </a:prstGeom>
          <a:noFill/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28600" y="1828800"/>
          <a:ext cx="8686800" cy="449568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kanizati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. Definition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rocess of breaking up a region into small, mutually hostile uni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. Examples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provide 1 in addition to mi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s fighting for independence after a country’s dictator die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609480" y="0"/>
            <a:ext cx="822960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aye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rections: Complete the task described in each box for the word Balkanization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rcRect l="26388" t="13891" r="39585" b="22225"/>
          <a:stretch/>
        </p:blipFill>
        <p:spPr>
          <a:xfrm>
            <a:off x="228600" y="152280"/>
            <a:ext cx="4800600" cy="624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5867280" y="1600200"/>
            <a:ext cx="2210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ipers would hide in the surrounding buildings and hotels and shoot Parliament members going to wo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. Why they are f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ides want their own country, filled with only members of their ethnic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e the reading titled to answer questions be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war tactics of the Serb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tch a picture of the confli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 Ques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how they were fighting during the confli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is conflict still impact the reg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5. How they are f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nic Cleans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removing all members of  an ethnic group by forcing them to move or genoci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Genoc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killing all members of an ethnic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7:13:45Z</dcterms:created>
  <dc:creator>CFISD</dc:creator>
  <dc:description/>
  <dc:language>en-US</dc:language>
  <cp:lastModifiedBy>CFISD</cp:lastModifiedBy>
  <dcterms:modified xsi:type="dcterms:W3CDTF">2008-11-20T20:35:38Z</dcterms:modified>
  <cp:revision>5</cp:revision>
  <dc:subject/>
  <dc:title>The Conflict in the Balkans</dc:title>
</cp:coreProperties>
</file>