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5A5-B877-4196-ADDD-437095B4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D50-ECC2-43D5-8689-75A5703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0E2-35DE-4996-B912-7ECB030A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C597-5EA6-4CDA-874F-A68DEF823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AF6B-793A-4124-A742-97C7F22A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B7B-8EDD-4265-B49F-66B966AB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689-102F-4629-ACDE-DC13DC2E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79C-DF32-4EDE-A8ED-5F6C2761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20E2-DBDE-4726-A290-B80EACCB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2E57-CB76-44C4-BEC0-F93986F2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369C-1526-4E15-A7E7-3915B75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7BB1-4C71-4B2E-B24F-C48C25D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D9EE-33AF-4D26-8C8E-2F5A751B3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examin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nalyze their findings and the answers to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data s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present our information to Mr. Hil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rrange the data so that it is easy to read and interp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ata into charts, graphs, tables,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k B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32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609588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Winter      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17524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ured tour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they apply their decisions 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he hotel in the best possibl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maximize pro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plan using the 5 A’s to convince your parents to buy you one of the following items: IPhone, PS3, 61’ HDTV, stereo system, IPOD, car, or dirtb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each step of the 5 A process and how you intend to persuade your pa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lan for a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 –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 Hilton asked you to help plan her family’s next Hil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built in Hawa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money they make from the hotel in the first year, the more money you get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your pl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analyze spatial relationships to look for patterns and tr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geographers ask questions to help them make deci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: Where should the hotel be lo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conomy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 the volcanoes erup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 up with 2 more questions that a geographer might ask in ou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go out and find the answer to the questions they as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find the location of their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nd data on volcano e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2:02:06Z</dcterms:created>
  <dc:creator>CFISD</dc:creator>
  <dc:description/>
  <dc:language>en-US</dc:language>
  <cp:lastModifiedBy>CFISD</cp:lastModifiedBy>
  <dcterms:modified xsi:type="dcterms:W3CDTF">2008-08-29T20:03:11Z</dcterms:modified>
  <cp:revision>12</cp:revision>
  <dc:subject/>
  <dc:title>The 5 A’s</dc:title>
</cp:coreProperties>
</file>