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6D6-76BC-4D6C-BE9C-CDC9C640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FD5-E578-48EB-8352-9351185B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26A-F7E0-4DDB-A4CF-62AEC1C9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DC9-2395-49B8-8031-1F02BEA0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081-587D-4B5D-A626-AB2841F8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E0F-33D6-49C6-B888-0F630308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54B-4E33-44E4-A7A1-D92ACE2A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E5A-6E3D-4195-9FFC-FAF58385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09F-C1ED-40EA-86EB-DEEEAD64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535-3D85-4EEA-AAED-637D274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EC9-3454-4C7A-80E1-5CA785F9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C36-B60F-4FAC-8784-F0A859E1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25E-55BB-48B1-938D-28A6155E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examin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nalyze their findings and the answers to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data s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present our information to Mr. Hil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rrange the data so that it is easy to read and interp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ata into charts, graphs, tables,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k B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32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609588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Winter      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17524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ured tour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they apply their decisions 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he hotel in the best possibl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maximize pro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plan using the 5 A’s to convince your parents to buy you one of the following items: IPhone, PS3, 61’ HDTV, stereo system, IPOD, car, or dirtb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each step of the 5 A process and how you intend to persuade your pa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lan for a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 –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 Hilton asked you to help plan her family’s next Hil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built in Hawa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money they make from the hotel in the first year, the more money you get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your pl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analyze spatial relationships to look for patterns and tr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geographers ask questions to help them make deci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: Where should the hotel be lo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conomy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 the volcanoes erup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 up with 2 more questions that a geographer might ask in ou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go out and find the answer to the questions they as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find the location of their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nd data on volcano e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2:02:06Z</dcterms:created>
  <dc:creator>CFISD</dc:creator>
  <dc:description/>
  <dc:language>en-US</dc:language>
  <cp:lastModifiedBy>CFISD</cp:lastModifiedBy>
  <dcterms:modified xsi:type="dcterms:W3CDTF">2008-08-29T20:03:11Z</dcterms:modified>
  <cp:revision>12</cp:revision>
  <dc:subject/>
  <dc:title>The 5 A’s</dc:title>
</cp:coreProperties>
</file>