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A06-2417-4CD6-8522-830A1BFA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C21-F463-4644-9812-811E537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FF5-5E42-4722-A9AC-8C068CF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31C-F68F-45E1-8BF6-5390C788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E81-99DD-4719-83B2-00F8E7D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BA4-B6DA-4350-B42A-83E0B20B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EE5-E42B-4D51-A089-F24276E7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CDE-8F65-4409-8951-BA3DB209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185-2885-418A-9EA5-5EB8AAFD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51A-CD12-4244-A7E1-0B79941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21F-1579-4D76-9C5A-B1CD3C3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61D-6C47-4F5E-80BC-B7613D9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E519-DCF1-4536-B5DB-4488C5E2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625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1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600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28 Bay Area Blv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8 FM 1960, Huffma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ar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0 Krug 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Oats R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ing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Travis St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78792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What is storm su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rge dome of water that sweeps across the coastline near where a hurricane makes land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Why is storm surge such a huge problem i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Mexico instead of places like the Atlantic Ocea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orm surge is a huge problem in the Gulf of Mexico because of oil drilling and cities like New Orleans being below sea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Explain the three causes of storm sur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unusually high and low pressure during a hurricane. The low pressure sucks in the water towards the middle of the storm. The high pressure pushes the water down and creates the bubble of w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What makes storm surge so devasta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aves act like a giant bulldozer and take down anything in their pa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038480" y="1143000"/>
          <a:ext cx="4419360" cy="243792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  <a:gridCol w="1104480"/>
                <a:gridCol w="110484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rican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23T13:11:07Z</dcterms:modified>
  <cp:revision>5</cp:revision>
  <dc:subject/>
  <dc:title>Thinking like a Geographer</dc:title>
</cp:coreProperties>
</file>