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5882-D981-4FF1-A6C2-A4A0DBE30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A6A0-6AB9-49B8-B1F7-BCD72CA36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84EF-F742-4F79-9F6C-DC7B07300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D5C1-2997-4790-9FF6-61CD63AD7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70C6-4E29-4311-A8B4-E96FFEE91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1BDC-5534-4BA9-83CB-6D49692E9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EE3B-2BE9-4153-AFCC-719067E2C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9F59-D220-4D1A-979F-4323537DA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E970-7192-4BAF-9637-2284203E8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A367-CDC0-4380-9513-845A3E66E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A76D-7119-4252-A856-662745192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F956-A8D3-4D3A-A447-FCFE121D0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410D7-C052-47F7-ACA4-481067657E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king like a Geograp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ry Lu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so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chances of a hurricane hitting there? What are the chances of flood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conditions of the soil and ground the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lose to a fault is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kind of buildings are there? Is it a major city with a lot of buildings or more of a rural are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other college choices are there around in the are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is the climate like in that are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qu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457200" y="1447920"/>
            <a:ext cx="85345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ledge 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Floodpl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Watersh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Fault data and mechanical weath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Hurricane storm surge and potential dam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Land pr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 Crim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odpla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280" y="762120"/>
          <a:ext cx="7391520" cy="5762520"/>
        </p:xfrm>
        <a:graphic>
          <a:graphicData uri="http://schemas.openxmlformats.org/drawingml/2006/table">
            <a:tbl>
              <a:tblPr/>
              <a:tblGrid>
                <a:gridCol w="1847880"/>
                <a:gridCol w="1847880"/>
                <a:gridCol w="1847880"/>
                <a:gridCol w="1847880"/>
              </a:tblGrid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 of floodpl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ent-created explanation of floodpl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ions of floodplain in Harris Coun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anation of potential floo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ley Floodpl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floodplain where the ground is deep and flooding can stay for a few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west portion of Harris Coun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n it rains, the valley may fill and overflow causing major floo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jor River Floodpl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floodplain is large and deep. It moves fast and flooding can last a week or mor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n Jacinto Riv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n it rains, the river may overflow causing severe floo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allow Floodpl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n the floodplain exceeds its capacity, it will overflow causing flooding that will last only hou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around the coun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n it rains, the channel may overflow causing minor floo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astal Floodpl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floodplain on the coast that when unusually high tides or hurricanes surge waves onto the coast flooding low buildin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the coa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n high tides or hurricanes surge big waves and flood low lying buildin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Text Box 134"/>
          <p:cNvSpPr/>
          <p:nvPr/>
        </p:nvSpPr>
        <p:spPr>
          <a:xfrm flipV="1" rot="10800000">
            <a:off x="7619760" y="-360"/>
            <a:ext cx="1523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the three categories of flood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01"/>
          <p:cNvSpPr/>
          <p:nvPr/>
        </p:nvSpPr>
        <p:spPr>
          <a:xfrm>
            <a:off x="7620120" y="1371600"/>
            <a:ext cx="15238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ong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ak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 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 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0 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358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sh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04920" y="1066680"/>
          <a:ext cx="8229600" cy="46008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74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 of floodpl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ersh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ooding Threat  Lev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28 Bay Area Blvd., Houston, T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 year floodpl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ear Cree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688 FM 1960, Huffman, T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year floodpl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dar Bayo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50 Krug R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year floodpl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ring Cree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0 Oats Rd., Houston, T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year floodpl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nting Bayo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0 Travis St., Houston, T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a of lowest r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watersh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3787920"/>
            <a:ext cx="914400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. What is storm surg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large dome of water that sweeps across the coastline near where a hurricane makes landf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 Why is storm surge such a huge problem in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ulf of Mexico instead of places like the Atlantic Ocea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storm surge is a huge problem in the Gulf of Mexico because of oil drilling and cities like New Orleans being below sea leve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. Explain the three causes of storm surg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unusually high and low pressure during a hurricane. The low pressure sucks in the water towards the middle of the storm. The high pressure pushes the water down and creates the bubble of wat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 What makes storm surge so devastating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waves act like a giant bulldozer and take down anything in their pat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038480" y="1143000"/>
          <a:ext cx="4419360" cy="2437920"/>
        </p:xfrm>
        <a:graphic>
          <a:graphicData uri="http://schemas.openxmlformats.org/drawingml/2006/table">
            <a:tbl>
              <a:tblPr/>
              <a:tblGrid>
                <a:gridCol w="1104840"/>
                <a:gridCol w="1105200"/>
                <a:gridCol w="1104480"/>
                <a:gridCol w="1104840"/>
              </a:tblGrid>
              <a:tr h="117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egory of hurricane that would require an evac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rm surge height that would flood the camp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rricane Threat Lev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73392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urricane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12:51:41Z</dcterms:created>
  <dc:creator>CFISD</dc:creator>
  <dc:description/>
  <dc:language>en-US</dc:language>
  <cp:lastModifiedBy>cfisd</cp:lastModifiedBy>
  <dcterms:modified xsi:type="dcterms:W3CDTF">2008-09-23T13:11:07Z</dcterms:modified>
  <cp:revision>5</cp:revision>
  <dc:subject/>
  <dc:title>Thinking like a Geographer</dc:title>
</cp:coreProperties>
</file>