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182-13DC-4870-9B74-73DC919C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315-668B-4061-BC7F-9132ABB3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4BA-33C2-4C8E-B48E-BCFDC440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BB9-9495-46D7-A4A7-773FB0D8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C1B-13A3-4158-B5D6-9EF165F9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11DA-5C69-4497-AE9A-D205750D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B9A-C3AE-4BCC-84E4-1B407826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0DC-8469-4805-A757-1CBBA409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FB6-4265-454D-9D99-285A4963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48A-08D3-403E-AABB-F5D951ED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D82-105B-40DC-9287-A3167F18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FF6-9724-402C-A443-8341C319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9BD4-E8FE-47C4-88FE-64260BCB8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a Geogra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y Lu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so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nces of a hurricane hitting there? What are the chances of floo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nditions of the soil and ground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lose to a faul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buildings are there? Is it a major city with a lot of buildings or more of a rural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other college choices are there around in the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climate like in that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57200" y="144792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lood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tersh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ault data and mechanical weath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urricane storm surge and potentia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rim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762120"/>
          <a:ext cx="7391520" cy="576252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  <a:gridCol w="1847880"/>
                <a:gridCol w="184788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-created explanation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s of floodplain in Harris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potential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loodplain where the ground is deep and flooding can stay for a few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 portion of Harris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valley may fill and overflow causing major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Rive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plain is large and deep. It moves fast and flooding can last a week or mo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Jacinto 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river may overflow causing severe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llow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floodplain exceeds its capacity, it will overflow causing flooding that will last only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ound the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channel may overflow causing minor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al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loodplain on the coast that when unusually high tides or hurricanes surge waves onto the coast flooding low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the co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high tides or hurricanes surge big waves and flood low lying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134"/>
          <p:cNvSpPr/>
          <p:nvPr/>
        </p:nvSpPr>
        <p:spPr>
          <a:xfrm flipV="1" rot="10800000">
            <a:off x="7619760" y="-36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three categories of floo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1"/>
          <p:cNvSpPr/>
          <p:nvPr/>
        </p:nvSpPr>
        <p:spPr>
          <a:xfrm>
            <a:off x="7620120" y="1371600"/>
            <a:ext cx="1523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on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ak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sh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066680"/>
          <a:ext cx="8229600" cy="4600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sh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ing Threat 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28 Bay Area Blvd., Houston, 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yea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 Cr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88 FM 1960, Huffman, 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dar Ba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50 Krug 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 Cr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 Oats Rd., Houston, 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ing Ba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 Travis St., Houston, 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f lowest r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watersh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787920"/>
            <a:ext cx="9144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. What is storm sur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arge dome of water that sweeps across the coastline near where a hurricane makes landf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Why is storm surge such a huge problem i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lf of Mexico instead of places like the Atlantic Ocea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orm surge is a huge problem in the Gulf of Mexico because of oil drilling and cities like New Orleans being below sea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 Explain the three causes of storm sur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unusually high and low pressure during a hurricane. The low pressure sucks in the water towards the middle of the storm. The high pressure pushes the water down and creates the bubble of wa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What makes storm surge so devastat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aves act like a giant bulldozer and take down anything in their pa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038480" y="1143000"/>
          <a:ext cx="4419360" cy="2437920"/>
        </p:xfrm>
        <a:graphic>
          <a:graphicData uri="http://schemas.openxmlformats.org/drawingml/2006/table">
            <a:tbl>
              <a:tblPr/>
              <a:tblGrid>
                <a:gridCol w="1104840"/>
                <a:gridCol w="1105200"/>
                <a:gridCol w="1104480"/>
                <a:gridCol w="1104840"/>
              </a:tblGrid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of hurricane that would require an evac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m surge height that would flood the camp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 Threat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339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rrican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2:51:41Z</dcterms:created>
  <dc:creator>CFISD</dc:creator>
  <dc:description/>
  <dc:language>en-US</dc:language>
  <cp:lastModifiedBy>cfisd</cp:lastModifiedBy>
  <dcterms:modified xsi:type="dcterms:W3CDTF">2008-09-23T13:11:07Z</dcterms:modified>
  <cp:revision>5</cp:revision>
  <dc:subject/>
  <dc:title>Thinking like a Geographer</dc:title>
</cp:coreProperties>
</file>