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CF91-EE34-4B2F-AB2A-C0582823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5DAA-01CD-4955-A8E3-A0AC350A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C26-0641-4D64-A4A6-EC873E95F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C59D-D62E-4834-98DB-DD6563D2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1D71-EDD6-4816-A681-5506B53B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FCB-2E53-4652-950C-CBBFDDCD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A02-E5D1-4EB9-B996-EFAF8B0E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B7B9-2EA5-482E-B462-646CAD669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70B5-A8FF-40F5-B3E0-8400EDC2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4B38-3B0F-461D-99B7-83706FCE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1C3-3CC9-4D72-A2A4-FDCE2ED6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36F-8800-47C9-BCC5-8C0EEF65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251A-E292-4602-9739-031F48A56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so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nces of a hurricane hitting there? What are the chances of floo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ditions of the soil and ground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lose to a faul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buildings are there? Is it a major city with a lot of buildings or more of a rural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other college choices are there around in the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climate like in tha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72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tersh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ult data and mechanical we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urricane storm surge and potent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m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762120"/>
          <a:ext cx="7391520" cy="57625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880"/>
                <a:gridCol w="184788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where the ground is deep and flooding can stay for a few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portion of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valley may fill and overflow causing maj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is large and deep. It moves fast and flooding can last a week or mo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acint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river may overflow causing severe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floodplain exceeds its capacity, it will overflow causing flooding that will last only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ound the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channel may overflow causing min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on the coast that when unusually high tides or hurricanes surge waves onto the coast flooding low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co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high tides or hurricanes surge big waves and flood low lying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134"/>
          <p:cNvSpPr/>
          <p:nvPr/>
        </p:nvSpPr>
        <p:spPr>
          <a:xfrm flipV="1" rot="10800000">
            <a:off x="7619760" y="-36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hree categories of flo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1"/>
          <p:cNvSpPr/>
          <p:nvPr/>
        </p:nvSpPr>
        <p:spPr>
          <a:xfrm>
            <a:off x="7620120" y="1371600"/>
            <a:ext cx="152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k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066680"/>
          <a:ext cx="8229600" cy="4600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28 Bay Area Blvd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 Cr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88 FM 1960, Huffma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dar Ba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50 Krug 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Cr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 Oats Rd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ing Ba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Travis St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atersh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787920"/>
            <a:ext cx="9144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 What is storm sur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arge dome of water that sweeps across the coastline near where a hurricane makes landf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Why is storm surge such a huge problem i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lf of Mexico instead of places like the Atlantic Ocea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orm surge is a huge problem in the Gulf of Mexico because of oil drilling and cities like New Orleans being below sea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Explain the three causes of storm sur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unusually high and low pressure during a hurricane. The low pressure sucks in the water towards the middle of the storm. The high pressure pushes the water down and creates the bubble of wa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What makes storm surge so devastat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aves act like a giant bulldozer and take down anything in their pa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038480" y="1143000"/>
          <a:ext cx="4419360" cy="2437920"/>
        </p:xfrm>
        <a:graphic>
          <a:graphicData uri="http://schemas.openxmlformats.org/drawingml/2006/table">
            <a:tbl>
              <a:tblPr/>
              <a:tblGrid>
                <a:gridCol w="1104840"/>
                <a:gridCol w="1105200"/>
                <a:gridCol w="1104480"/>
                <a:gridCol w="1104840"/>
              </a:tblGrid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of hurricane that would require an evac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m surge height that would flood the camp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 Threat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339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rican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2:51:41Z</dcterms:created>
  <dc:creator>CFISD</dc:creator>
  <dc:description/>
  <dc:language>en-US</dc:language>
  <cp:lastModifiedBy>cfisd</cp:lastModifiedBy>
  <dcterms:modified xsi:type="dcterms:W3CDTF">2008-09-23T13:11:07Z</dcterms:modified>
  <cp:revision>5</cp:revision>
  <dc:subject/>
  <dc:title>Thinking like a Geographer</dc:title>
</cp:coreProperties>
</file>