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203-C531-46E2-89FB-67EBC823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DD8B-1EBC-4DA3-A29E-B20522B9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5F7-07F6-43AE-8B98-5A148A7EE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101-1A57-41F0-9BB0-8AE0A874B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640-F51D-49FB-8CC6-FC64E3A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51E3-B2B4-40B6-B9DF-DC4E893B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C14-5046-44B6-9C10-F702B675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70D6-E325-41BC-8EDD-328F9EB3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9D6F-C706-48F1-A970-280C7D52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CFF7-1080-4C12-B2B3-47F105FD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CF6-8BCC-415D-A2BF-5C2B0B81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97C-D346-4306-8485-46D09FD9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3A6B-FEDB-43FB-9B24-8F5E2167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371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Arial"/>
              </a:rPr>
              <a:t>Propaganda P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990720" y="4724280"/>
            <a:ext cx="189684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362320"/>
            <a:ext cx="2475000" cy="2046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28600" y="990720"/>
            <a:ext cx="6477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sm is for everybod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a job! There is no political or economic decisions to make! Everyone is treated equally! Communism provides everything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tebulb"/>
          <p:cNvSpPr/>
          <p:nvPr/>
        </p:nvSpPr>
        <p:spPr>
          <a:xfrm>
            <a:off x="6629400" y="1905120"/>
            <a:ext cx="1386000" cy="162396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029200" y="4800600"/>
            <a:ext cx="1200240" cy="1708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590920" y="25909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food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19920" y="3657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has electricit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1320" y="4800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ovide your ho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60958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gets pai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5:05:56Z</dcterms:created>
  <dc:creator>cfisd</dc:creator>
  <dc:description/>
  <dc:language>en-US</dc:language>
  <cp:lastModifiedBy>cfisd</cp:lastModifiedBy>
  <dcterms:modified xsi:type="dcterms:W3CDTF">2008-12-18T15:06:38Z</dcterms:modified>
  <cp:revision>2</cp:revision>
  <dc:subject/>
  <dc:title>Propaganda Poster</dc:title>
</cp:coreProperties>
</file>