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A72-EC20-42FE-BDAE-A6C84605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469-785D-48D5-8924-ACE27C36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4F8-3D9F-4358-B3FE-E0930E56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F85-B061-446A-AA8C-FADB6B2C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441-25D3-444B-ABDB-9F397212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39D-F846-48F5-9603-9B604DB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F6E-E7D7-455A-9F47-F2766283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EFA-373A-4043-8705-3446EFFD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3F3-BA3B-4702-B3EE-F58FF3D9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131-EAF8-4BE0-BC8F-CE37A3B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CED-7AB1-4EA2-A10F-21EF5F1E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29C-1F0E-4781-A8A2-26277261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85AC-105C-4DA9-AE8B-E23BE879C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371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Propaganda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189684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475000" cy="204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990720"/>
            <a:ext cx="6477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 is for everybo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has a job! There is no political or economic decisions to make! Everyone is treated equally! Communism provides everything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tebulb"/>
          <p:cNvSpPr/>
          <p:nvPr/>
        </p:nvSpPr>
        <p:spPr>
          <a:xfrm>
            <a:off x="6629400" y="1905120"/>
            <a:ext cx="1386000" cy="16239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029200" y="4800600"/>
            <a:ext cx="1200240" cy="170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2590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vide food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3657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has electric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800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vide your h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60958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gets pai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5:05:56Z</dcterms:created>
  <dc:creator>cfisd</dc:creator>
  <dc:description/>
  <dc:language>en-US</dc:language>
  <cp:lastModifiedBy>cfisd</cp:lastModifiedBy>
  <dcterms:modified xsi:type="dcterms:W3CDTF">2008-12-18T15:06:38Z</dcterms:modified>
  <cp:revision>2</cp:revision>
  <dc:subject/>
  <dc:title>Propaganda Poster</dc:title>
</cp:coreProperties>
</file>