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F56-177B-4799-A204-0A5F53D4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057F-CFD2-47F8-9B3D-D636A7F97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B0CA-101F-4290-AD34-2214BE8A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4A9E-9C72-4201-821E-038BE5055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648-D4C9-4176-9216-4AB37127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3A3-1D1E-435A-9224-E11ECB00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4F23-2E33-477E-B866-BB1E3A85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E3D-0A14-4B6C-8BE4-3DA6ED78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20C4-B629-4388-B6DA-0C8C1725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160C-0FE7-40C7-91A0-FE3D6845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5BE9-AB7C-4E5D-B5E5-27FCD534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D72A-C146-4116-BB14-BC54126C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3F94-9B03-46AB-8FB4-4FF958C8B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371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Propaganda 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4724280"/>
            <a:ext cx="189684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2475000" cy="2046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990720"/>
            <a:ext cx="6477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sm is for everybod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has a job! There is no political or economic decisions to make! Everyone is treated equally! Communism provides everything for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tebulb"/>
          <p:cNvSpPr/>
          <p:nvPr/>
        </p:nvSpPr>
        <p:spPr>
          <a:xfrm>
            <a:off x="6629400" y="1905120"/>
            <a:ext cx="1386000" cy="16239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029200" y="4800600"/>
            <a:ext cx="1200240" cy="1708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90920" y="2590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ovide food for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3657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has electrici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48006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ovide your ho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60958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gets pai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5:05:56Z</dcterms:created>
  <dc:creator>cfisd</dc:creator>
  <dc:description/>
  <dc:language>en-US</dc:language>
  <cp:lastModifiedBy>cfisd</cp:lastModifiedBy>
  <dcterms:modified xsi:type="dcterms:W3CDTF">2008-12-18T15:06:38Z</dcterms:modified>
  <cp:revision>2</cp:revision>
  <dc:subject/>
  <dc:title>Propaganda Poster</dc:title>
</cp:coreProperties>
</file>