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AA6-2CDF-4F03-B97C-0A1F2DDB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5C7-2C78-4A4A-B16D-0A95B25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88F-2B57-40AB-91AC-BC6B84C1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2FD-F994-4D6A-B96D-FB3E4CAE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D82-767C-48F7-B05C-C50D0087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911-84A6-40FF-BAB7-11BA0A4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076-FBA9-488E-A344-B1D9862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86F-36D2-429D-BD70-DB32BD75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9CD-131D-4A2E-B63B-54F7E473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249-BA56-4338-AE3E-26159A8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060-182C-4E37-9A42-CD8C5AF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00F-A6F7-4D2F-B897-A4AAF0F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F26-355D-40CF-82FE-426281E8B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189684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475000" cy="20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6477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 is for every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a job! There is no political or economic decisions to make! Everyone is treated equally! Communism provides everything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tebulb"/>
          <p:cNvSpPr/>
          <p:nvPr/>
        </p:nvSpPr>
        <p:spPr>
          <a:xfrm>
            <a:off x="6629400" y="1905120"/>
            <a:ext cx="1386000" cy="16239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1200240" cy="170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2590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food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657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electri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800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your h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095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gets p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5:05:56Z</dcterms:created>
  <dc:creator>cfisd</dc:creator>
  <dc:description/>
  <dc:language>en-US</dc:language>
  <cp:lastModifiedBy>cfisd</cp:lastModifiedBy>
  <dcterms:modified xsi:type="dcterms:W3CDTF">2008-12-18T15:06:38Z</dcterms:modified>
  <cp:revision>2</cp:revision>
  <dc:subject/>
  <dc:title>Propaganda Poster</dc:title>
</cp:coreProperties>
</file>