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62E7AF-0A31-4911-88D9-6F9E84F6E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56D732-9688-438D-BC7E-7416C0D7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B2F1DE-E96E-4474-9705-72D41448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C0B03A4-3F39-4AD5-A7C2-D00F2DD9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495B4-B127-4202-84B3-8076C5A1A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9176E-333C-4A89-86C8-10AF8736E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674D2-28B3-4DDE-A065-12F17673C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0D65C-1AF8-4D2B-8E68-DC01515F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1AED5-E036-4857-9233-9DD8B912F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73164-8CE8-43B5-BA70-DDEB50303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76A35-2E05-454C-B000-762B9E6D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E999D3-A428-48DA-9124-6886BB4E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D2CAC-4190-48E3-A8CE-579173DB2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7F2EE-9E50-4A68-BB45-9ADD289FA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ED92A-D84F-40C0-8EFA-702C9A20B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1AFC7-A0C4-4127-AFC8-B1DA70E67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5C3DB-46CB-4190-A1D5-039559D50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7E2929-6CF3-4B2A-911D-9E83152C8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442C1F-7E59-447A-80E6-FC2DB21B4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F3FDCA-2C61-4C3D-8E9E-0689319FB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069EF5-997B-4C39-A47D-5BE692194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BEEDA3-8F08-4CC6-B6DC-A795B691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44BE78-672E-4B32-A5D1-DD49D14D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14AFC0-B724-4F09-B9EA-93739AA07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59B4-4D71-4684-A3BF-C3317354823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99C9-2C39-4B7C-9337-9BD01535A68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5:09Z</dcterms:modified>
  <cp:revision>12</cp:revision>
  <dc:subject/>
  <dc:title>title</dc:title>
</cp:coreProperties>
</file>