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E52D5C0-9A9B-422C-B07C-9BAABFCEAD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FC8FAAC-DC4F-4CD6-ADA5-E80377B9B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7D6DCD1-6D92-48FE-9E65-E50683349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5A67CC9-024C-42AA-954A-97280E625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5554DB-334F-433A-8C02-8622D2AAD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A2C69-58FB-49DB-9CCC-77A4539D5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58E54D-B5BF-44FF-9717-BC5171359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12BF92-E6C3-4B2E-B6EB-AFCBC7078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94CDD-67C5-4D3F-B473-F5006790F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A9C85-699A-4B4F-B88F-48F8D49DB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16909-A052-4D64-85DD-D7BED2A98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7708574-7DEF-4CFB-896D-6A0F9393D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B62B2-9E02-47FB-884B-6157F7CD9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6A1C69-A5BA-49EF-9B37-6ECB9A4605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271BF-D971-492B-94CB-03BCF6BCEE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7017D3-D7B0-4B3C-8AA8-17C8876798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2DF215-56D0-421E-9361-52BBF08DEB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33B91B-6AAA-463B-B351-E0D54ED9D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5EFB8A0-4968-405F-A087-3BF5500AE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54EBBEB-B92B-4CE1-B73B-83A7E25D1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E8D0C6F-31EE-408B-97C3-F09E268E7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4B4E723-2065-49D9-8A99-F7B983CC8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BA86D1-E534-4BA2-88D8-38A14B535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C04DAD-A2BC-4E6B-BF1E-142A54FDB5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CAC6-493E-44ED-87BA-7EC6CFB745F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E6733-A889-4D0A-842C-ABBCA2ABF4A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Orso University</a:t>
            </a:r>
            <a:br>
              <a:rPr sz="5400"/>
            </a:br>
            <a:r>
              <a:rPr b="1" lang="en-US" sz="2400" spc="-1" strike="noStrike">
                <a:solidFill>
                  <a:srgbClr val="e5e5ff"/>
                </a:solidFill>
                <a:latin typeface="Garamond"/>
              </a:rPr>
              <a:t>by Rebecca Guilfoyle</a:t>
            </a:r>
            <a:endParaRPr b="1" lang="en-US" sz="2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ault Data</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types of problems do you anticipate from the fault data?</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ank the locations in order from worst to best based on your analysis of fault data.</a:t>
            </a: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your ranking for each individual location.</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East – Has an estimated 5,000 dollar repair costs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Bayside – Has an estimated 2,000 dollar repair cost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Central –. Has an estimated 1,000 dollar repair cost and is near a few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NE Houston – Has no fault lines in area. Has an estimated 500 dollar repair cost.</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 Tomball – Has no fault lines in area. Estimated repair cost is 100 dollars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rime Data and Land Pric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crime data will affect the recruitment of future stud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ture students will not want to attend a school in an area high in crime. Students want to live in a safe environment.</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land prices will affect the recruitment of future student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llege students all ready have many school expenses and some may not be able to afford to live in an area with high land prices. A student might not go to a school if they can’t afford to live close by.</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dict how the Board of Directors and investors will respond to both sets of data.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Board of Directors and other investors are going to want to buy land in a safe neighborhood, with lower land prices. However, I think the Board would rather buy land that’s more expensive then buy land in a dangerous area.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graphicFrame>
        <p:nvGraphicFramePr>
          <p:cNvPr id="128" name=""/>
          <p:cNvGraphicFramePr/>
          <p:nvPr/>
        </p:nvGraphicFramePr>
        <p:xfrm>
          <a:off x="762120" y="1676520"/>
          <a:ext cx="8192880" cy="4689360"/>
        </p:xfrm>
        <a:graphic>
          <a:graphicData uri="http://schemas.openxmlformats.org/drawingml/2006/table">
            <a:tbl>
              <a:tblPr/>
              <a:tblGrid>
                <a:gridCol w="2047680"/>
                <a:gridCol w="2049480"/>
                <a:gridCol w="2048040"/>
                <a:gridCol w="20476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ther sources of inform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planation of how the source would be benefic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most from your sour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least from your sourc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ear Campus Hous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re needs to be enough space for all the students to live. In the country, for example, there is lots of land for  housing, but there probably aren’t very many apartment buildings in place. In the city, however, there are lots of apartments but not much room.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nd Avail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 college might need a lot of land to build on, and in the middle of the city there isn’t enough room to build a huge campus. The college is going to want land to maybe expand in the futur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30" name=""/>
          <p:cNvSpPr txBox="1"/>
          <p:nvPr/>
        </p:nvSpPr>
        <p:spPr>
          <a:xfrm>
            <a:off x="304920" y="1523880"/>
            <a:ext cx="403704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clusion</a:t>
            </a:r>
            <a:endParaRPr b="0" lang="en-US" sz="1800" spc="-1" strike="noStrike">
              <a:solidFill>
                <a:srgbClr val="ffffff"/>
              </a:solidFill>
              <a:latin typeface="Garamond"/>
            </a:endParaRPr>
          </a:p>
          <a:p>
            <a:pPr marL="343080" indent="-34308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
          <p:cNvSpPr txBox="1"/>
          <p:nvPr/>
        </p:nvSpPr>
        <p:spPr>
          <a:xfrm>
            <a:off x="4649760" y="1600200"/>
            <a:ext cx="4037040" cy="4525920"/>
          </a:xfrm>
          <a:prstGeom prst="rect">
            <a:avLst/>
          </a:prstGeom>
          <a:noFill/>
          <a:ln w="0">
            <a:noFill/>
          </a:ln>
        </p:spPr>
        <p:txBody>
          <a:bodyPr lIns="90000" rIns="90000" tIns="46800" bIns="46800" anchor="t">
            <a:normAutofit fontScale="94000"/>
          </a:bodyPr>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odplains- A university can’t flood a lot because then the school would have to be constanly closing for repairs.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tersheds</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nd prices- If land prices are expensive,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ult data and mechanical weathering-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urricane storm surge and potential damage- A university must be able to withstand a hurricane.</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ime data- Students shouldn’t have to live in a violent area.</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y</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did you put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 build it for extra cred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K</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is most likely to floo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have the least crim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roads and traffic like in the five areas?</a:t>
            </a:r>
            <a:endParaRPr b="0" lang="en-US" sz="2800" spc="-1" strike="noStrike">
              <a:solidFill>
                <a:srgbClr val="ffffff"/>
              </a:solidFill>
              <a:latin typeface="Garamond"/>
            </a:endParaRPr>
          </a:p>
        </p:txBody>
      </p:sp>
      <p:sp>
        <p:nvSpPr>
          <p:cNvPr id="102"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will be the safest during a hurrica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has the cheapest lan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there any fault lines near the five loc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plains</a:t>
            </a:r>
            <a:endParaRPr b="1" lang="en-US" sz="4400" spc="-1" strike="noStrike">
              <a:solidFill>
                <a:srgbClr val="e5e5ff"/>
              </a:solidFill>
              <a:latin typeface="Garamond"/>
            </a:endParaRPr>
          </a:p>
        </p:txBody>
      </p:sp>
      <p:sp>
        <p:nvSpPr>
          <p:cNvPr id="104"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graphicFrame>
        <p:nvGraphicFramePr>
          <p:cNvPr id="105" name=""/>
          <p:cNvGraphicFramePr/>
          <p:nvPr/>
        </p:nvGraphicFramePr>
        <p:xfrm>
          <a:off x="2133720" y="838080"/>
          <a:ext cx="6858000" cy="6019560"/>
        </p:xfrm>
        <a:graphic>
          <a:graphicData uri="http://schemas.openxmlformats.org/drawingml/2006/table">
            <a:tbl>
              <a:tblPr/>
              <a:tblGrid>
                <a:gridCol w="1523880"/>
                <a:gridCol w="1905120"/>
                <a:gridCol w="1714320"/>
                <a:gridCol w="171468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tudent-created explanation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s of floodplain in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nation of potential flood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Valley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has creak valleys and the ground is often more sloped then fl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mostly in the Northwe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can last up to a couple days and can also be very de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Major River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plain occurs along a river, and can be very fast and dee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ong the San Jacinto Rive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in this area can last for week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hallow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occurs when channels reach their limi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present in many areas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looding usually lasts for a couple hours, but thousands of business's and homes can be affec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astal Floodplai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a hurricane or an unusually high tide, buildings close to the ground can floo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outhea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lying structures near the coast can be affected. Ground subsidence can result in the coastal areas flooding more severely and frequent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a:t>
                      </a:r>
                      <a:r>
                        <a:rPr b="1" lang="en-US" sz="1200" spc="-1" strike="noStrike" baseline="30000">
                          <a:solidFill>
                            <a:srgbClr val="ffffff"/>
                          </a:solidFill>
                          <a:latin typeface="Garamond"/>
                        </a:rPr>
                        <a:t>th</a:t>
                      </a:r>
                      <a:r>
                        <a:rPr b="1" lang="en-US" sz="1200" spc="-1" strike="noStrike">
                          <a:solidFill>
                            <a:srgbClr val="ffffff"/>
                          </a:solidFill>
                          <a:latin typeface="Garamond"/>
                        </a:rPr>
                        <a:t> Scenari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rainfall exceeds the capacity of ditches and sewers, the water overflows into the streets and can flood homes and buildings.</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kind of flooding is not restricted to any part of Harris County. It can happen anywhe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sidences not near a bayou or creak can be affected if there is too much rainf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6"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What are the three different categories of floods.  Rank them in order from strongest to weakest.</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 Year Flood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ing Data</a:t>
            </a:r>
            <a:endParaRPr b="1" lang="en-US" sz="4400" spc="-1" strike="noStrike">
              <a:solidFill>
                <a:srgbClr val="e5e5ff"/>
              </a:solidFill>
              <a:latin typeface="Garamond"/>
            </a:endParaRPr>
          </a:p>
        </p:txBody>
      </p:sp>
      <p:graphicFrame>
        <p:nvGraphicFramePr>
          <p:cNvPr id="108" name=""/>
          <p:cNvGraphicFramePr/>
          <p:nvPr/>
        </p:nvGraphicFramePr>
        <p:xfrm>
          <a:off x="1185840" y="2017800"/>
          <a:ext cx="7765920" cy="4324320"/>
        </p:xfrm>
        <a:graphic>
          <a:graphicData uri="http://schemas.openxmlformats.org/drawingml/2006/table">
            <a:tbl>
              <a:tblPr/>
              <a:tblGrid>
                <a:gridCol w="1941480"/>
                <a:gridCol w="1941480"/>
                <a:gridCol w="1941480"/>
                <a:gridCol w="1941480"/>
              </a:tblGrid>
              <a:tr h="34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atersh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looding Threat  Leve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yside (La Porte,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lear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F</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E Houston (Huffma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edar Bayou</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 Tomball (Tomball, TX) </a:t>
                      </a:r>
                      <a:r>
                        <a:rPr b="0" lang="en-US" sz="1200" spc="-1" strike="noStrike">
                          <a:solidFill>
                            <a:srgbClr val="ffffff"/>
                          </a:solidFill>
                          <a:latin typeface="Wingdings"/>
                          <a:ea typeface="Wingdings"/>
                        </a:rPr>
                        <a:t></a:t>
                      </a:r>
                      <a:r>
                        <a:rPr b="0"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ow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East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Hunting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1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Central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Buffalo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Hurricane Data</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111" name=""/>
          <p:cNvGraphicFramePr/>
          <p:nvPr/>
        </p:nvGraphicFramePr>
        <p:xfrm>
          <a:off x="2971800" y="1038240"/>
          <a:ext cx="5943600" cy="5581800"/>
        </p:xfrm>
        <a:graphic>
          <a:graphicData uri="http://schemas.openxmlformats.org/drawingml/2006/table">
            <a:tbl>
              <a:tblPr/>
              <a:tblGrid>
                <a:gridCol w="1828800"/>
                <a:gridCol w="1371600"/>
                <a:gridCol w="1371600"/>
                <a:gridCol w="1371600"/>
              </a:tblGrid>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tegory of hurricane that would require an evac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orm surge height that would flood the campu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urricane Threat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48- 2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2" name="Text Box 96"/>
          <p:cNvSpPr/>
          <p:nvPr/>
        </p:nvSpPr>
        <p:spPr>
          <a:xfrm>
            <a:off x="0" y="1600200"/>
            <a:ext cx="2895480" cy="511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is a storm surge?</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rge amount of water that hits the coastline where a hurricane is coming through.</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y is storm surge such a huge problem in the Gulf of Mexico instead of places like the Atlantic Ocea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llow waters in the Gulf  make the storm surge stronger.</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xplain the three causes of storm surge.</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low</a:t>
            </a:r>
            <a:r>
              <a:rPr b="1" lang="en-US" sz="1200" spc="-1" strike="noStrike">
                <a:solidFill>
                  <a:srgbClr val="ffffff"/>
                </a:solidFill>
                <a:latin typeface="Arial"/>
              </a:rPr>
              <a:t> </a:t>
            </a:r>
            <a:r>
              <a:rPr b="0" lang="en-US" sz="1200" spc="-1" strike="noStrike">
                <a:solidFill>
                  <a:srgbClr val="ffffff"/>
                </a:solidFill>
                <a:latin typeface="Arial"/>
              </a:rPr>
              <a:t>pressure</a:t>
            </a:r>
            <a:r>
              <a:rPr b="1" lang="en-US" sz="1200" spc="-1" strike="noStrike">
                <a:solidFill>
                  <a:srgbClr val="ffffff"/>
                </a:solidFill>
                <a:latin typeface="Arial"/>
              </a:rPr>
              <a:t> </a:t>
            </a:r>
            <a:r>
              <a:rPr b="0" lang="en-US" sz="1200" spc="-1" strike="noStrike">
                <a:solidFill>
                  <a:srgbClr val="ffffff"/>
                </a:solidFill>
                <a:latin typeface="Arial"/>
              </a:rPr>
              <a:t>builds, water from the ocean is sucked to the middle of the storm.</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rricanes</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 and tide actio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at makes storm surge so devastating?</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surge reaches the coast, it destroys everything in its path, and buildings that aren’t specifically designed to handle a storm surge will get crushed.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Fault Data</a:t>
            </a:r>
            <a:endParaRPr b="1" lang="en-US" sz="4400" spc="-1" strike="noStrike">
              <a:solidFill>
                <a:srgbClr val="e5e5ff"/>
              </a:solidFill>
              <a:latin typeface="Garamond"/>
            </a:endParaRPr>
          </a:p>
        </p:txBody>
      </p:sp>
      <p:graphicFrame>
        <p:nvGraphicFramePr>
          <p:cNvPr id="114" name=""/>
          <p:cNvGraphicFramePr/>
          <p:nvPr/>
        </p:nvGraphicFramePr>
        <p:xfrm>
          <a:off x="2743200" y="1143000"/>
          <a:ext cx="6172200" cy="5118120"/>
        </p:xfrm>
        <a:graphic>
          <a:graphicData uri="http://schemas.openxmlformats.org/drawingml/2006/table">
            <a:tbl>
              <a:tblPr/>
              <a:tblGrid>
                <a:gridCol w="1690560"/>
                <a:gridCol w="3600720"/>
                <a:gridCol w="88092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aults Nearby (High, Medium,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jected Repair Cost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hip Channel, Battleground, Pelly, Magnolia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2,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 Battleground, Ship Channe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ediu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5" name="Text Box 62"/>
          <p:cNvSpPr/>
          <p:nvPr/>
        </p:nvSpPr>
        <p:spPr>
          <a:xfrm>
            <a:off x="304920" y="1219320"/>
            <a:ext cx="23619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The images included on the map are examples of which kind of weather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 How far are Harris County’s faults moving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 0.8 Inches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 How would faults and weathering impact your Univers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acks could form and destroy the building structure. This could cause costly repair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Crime Data</a:t>
            </a:r>
            <a:endParaRPr b="1" lang="en-US" sz="4400" spc="-1" strike="noStrike">
              <a:solidFill>
                <a:srgbClr val="e5e5ff"/>
              </a:solidFill>
              <a:latin typeface="Garamond"/>
            </a:endParaRPr>
          </a:p>
        </p:txBody>
      </p:sp>
      <p:sp>
        <p:nvSpPr>
          <p:cNvPr id="117" name="PlaceHolder 2"/>
          <p:cNvSpPr>
            <a:spLocks noGrp="1"/>
          </p:cNvSpPr>
          <p:nvPr>
            <p:ph/>
          </p:nvPr>
        </p:nvSpPr>
        <p:spPr>
          <a:xfrm>
            <a:off x="6248160" y="1295280"/>
            <a:ext cx="2438280" cy="4525920"/>
          </a:xfrm>
          <a:prstGeom prst="rect">
            <a:avLst/>
          </a:prstGeom>
          <a:noFill/>
          <a:ln w="0">
            <a:noFill/>
          </a:ln>
        </p:spPr>
        <p:txBody>
          <a:bodyPr anchor="t">
            <a:normAutofit fontScale="82000"/>
          </a:bodyPr>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ffffff"/>
              </a:solidFill>
              <a:latin typeface="Garamond"/>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Closest Police Station</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stimated Police Response Time</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Closest Hospital</a:t>
            </a:r>
            <a:endParaRPr b="0" lang="en-US" sz="2000" spc="-1" strike="noStrike">
              <a:solidFill>
                <a:srgbClr val="ffffff"/>
              </a:solidFill>
              <a:latin typeface="Garamond"/>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18" name=""/>
          <p:cNvGraphicFramePr/>
          <p:nvPr/>
        </p:nvGraphicFramePr>
        <p:xfrm>
          <a:off x="228600" y="1371600"/>
          <a:ext cx="5248440" cy="4043520"/>
        </p:xfrm>
        <a:graphic>
          <a:graphicData uri="http://schemas.openxmlformats.org/drawingml/2006/table">
            <a:tbl>
              <a:tblPr/>
              <a:tblGrid>
                <a:gridCol w="1312920"/>
                <a:gridCol w="1311120"/>
                <a:gridCol w="1312920"/>
                <a:gridCol w="13114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oc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Rap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Murd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ime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1: Baysid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2: NE Houst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3: W Tombal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4: Downtown Ea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u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5: Downtown Centr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Land Prices</a:t>
            </a:r>
            <a:endParaRPr b="1" lang="en-US" sz="4400" spc="-1" strike="noStrike">
              <a:solidFill>
                <a:srgbClr val="e5e5ff"/>
              </a:solidFill>
              <a:latin typeface="Garamond"/>
            </a:endParaRPr>
          </a:p>
        </p:txBody>
      </p:sp>
      <p:graphicFrame>
        <p:nvGraphicFramePr>
          <p:cNvPr id="120"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c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and Price (per ac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1: Baysi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7,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2: NE Houst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3: W Tombal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4: Downtown Ea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5: Downtown Centr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6,8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lood Plain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loodplains</a:t>
            </a:r>
            <a:endParaRPr b="0" lang="en-US" sz="36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2000" spc="-1" strike="noStrike">
                <a:solidFill>
                  <a:srgbClr val="ffffff"/>
                </a:solidFill>
                <a:latin typeface="Garamond"/>
              </a:rPr>
              <a:t>Each location and its corresponding floodplain creates a different flooding scenario.  Which floodplain creates the worst situation?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 floodplains in order from best to worst based on your analysis. Explain your ranking for each individual location/floodplain.</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Shallow Floodplain- Flooding can affect thousands of homes and businesse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Valley Floodplain- Flooding can last a couple days and be very deep</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Major River Floodplain- Flooding in this area can last for week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Costal Floodplain- Occurs along the coastline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Becca</cp:lastModifiedBy>
  <dcterms:modified xsi:type="dcterms:W3CDTF">2008-10-03T01:25:09Z</dcterms:modified>
  <cp:revision>12</cp:revision>
  <dc:subject/>
  <dc:title>title</dc:title>
</cp:coreProperties>
</file>