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55F-DF71-4CFF-987F-737767D5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EB1-FD4E-4BD3-B38B-2C0B36FE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5B5-ADF5-4E20-9AB0-ED089EEB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C94-9AC4-4511-A2FF-DC630872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269-6D04-4AFC-B786-1F9B5204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7ED-578A-43EE-BBCB-02C398A6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992-AB16-4CA6-87F8-6D217B35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CE1-BD9B-46F3-84AB-97FDE379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A2E-9742-460C-83F2-C805E8D2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C39-622E-40FD-90DC-3BAC070F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F3B-6690-4EC9-B68B-F4E0913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7D4-D2B5-4B84-8D45-E0A16CAA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DFB7-B0FD-4490-9FC1-3AA4C4322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Ltte_emble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errorist_organization" TargetMode="External"/><Relationship Id="rId2" Type="http://schemas.openxmlformats.org/officeDocument/2006/relationships/hyperlink" Target="http://en.wikipedia.org/wiki/Tamil_tigers#Proscription_as_a_terrorist_group" TargetMode="External"/><Relationship Id="rId3" Type="http://schemas.openxmlformats.org/officeDocument/2006/relationships/hyperlink" Target="http://en.wikipedia.org/wiki/Child_soldier" TargetMode="External"/><Relationship Id="rId4" Type="http://schemas.openxmlformats.org/officeDocument/2006/relationships/hyperlink" Target="http://en.wikipedia.org/wiki/Suicide_belt" TargetMode="External"/><Relationship Id="rId5" Type="http://schemas.openxmlformats.org/officeDocument/2006/relationships/hyperlink" Target="http://en.wikipedia.org/wiki/Suicide_bombing" TargetMode="External"/><Relationship Id="rId6" Type="http://schemas.openxmlformats.org/officeDocument/2006/relationships/hyperlink" Target="http://en.wikipedia.org/wiki/Tamil_tigers#cite_note-2" TargetMode="External"/><Relationship Id="rId7" Type="http://schemas.openxmlformats.org/officeDocument/2006/relationships/hyperlink" Target="http://en.wikipedia.org/wiki/Tamil_tigers#cite_note-3" TargetMode="External"/><Relationship Id="rId8" Type="http://schemas.openxmlformats.org/officeDocument/2006/relationships/hyperlink" Target="http://en.wikipedia.org/wiki/Tamil_tigers#cite_note-4" TargetMode="External"/><Relationship Id="rId9" Type="http://schemas.openxmlformats.org/officeDocument/2006/relationships/hyperlink" Target="http://en.wikipedia.org/wiki/Hamas" TargetMode="External"/><Relationship Id="rId10" Type="http://schemas.openxmlformats.org/officeDocument/2006/relationships/hyperlink" Target="http://en.wikipedia.org/wiki/Islamic_Jihad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sland n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ed religious land for both Hindus and Buddh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91320" y="5029200"/>
            <a:ext cx="2971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ri Lank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2320" y="5715000"/>
            <a:ext cx="31240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jority,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ority (18%), Hi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government stops giving Tamils civil rights –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begin using terrorism, want their own hom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mages from the story"/>
          <p:cNvPicPr/>
          <p:nvPr/>
        </p:nvPicPr>
        <p:blipFill>
          <a:blip r:embed="rId1"/>
          <a:stretch/>
        </p:blipFill>
        <p:spPr>
          <a:xfrm>
            <a:off x="380880" y="4800600"/>
            <a:ext cx="83059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 to divide country in hal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rorist group - uses suicide bombings, kidnappings, child soldiers, assassi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 Ques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 Describe the conflict in   Sri Lan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How do the Tamil Tigers work for their goal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40280" y="1676520"/>
            <a:ext cx="3541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mil Tigers are currently proscribed 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rrorist 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32 countri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st of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They have a well-developed militia cadre, and are notorious for committing atrocities against civilians, for carrying out high profile attacks, including the assassinations of several high-ranking Sri Lankan and Indian politicians, and for recruiting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ld sold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LTTE invented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icide be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widely known f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uicide bomb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actic. They also pioneered the use of women in suicide attacks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[3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4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5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TTE has carried out more suicide bombings tha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a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slamic Jih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l-Qaeda combined.[2] The LTTE is the only rebel organization known to have possessed aircraft.[6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57200"/>
            <a:ext cx="990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ttp://news.bbc.co.uk/2/hi/south_asia/24053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ach question and write one sentence summarizing the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2:35:28Z</dcterms:created>
  <dc:creator>CFISD</dc:creator>
  <dc:description/>
  <dc:language>en-US</dc:language>
  <cp:lastModifiedBy>CFISD</cp:lastModifiedBy>
  <dcterms:modified xsi:type="dcterms:W3CDTF">2009-04-01T12:36:57Z</dcterms:modified>
  <cp:revision>4</cp:revision>
  <dc:subject/>
  <dc:title>Slide 1</dc:title>
</cp:coreProperties>
</file>