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EDD-77C3-40D5-8FFD-1528F2B4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268-2FEA-4705-9B1E-576A2975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09CF-F18E-40BE-B7E8-F9820216A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547-31B4-4019-85D8-BFD5880E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89B-30DD-411F-BCEC-51413D31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0EE6-02BD-474C-90BA-C119BF13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5DE4-D33C-42D8-8EA9-60C8213C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BF4-6AA8-4C40-9E50-EA113470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EA8-85ED-4C9B-9E6A-B7FCB02C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4C9F-03F0-4850-A369-A3A3B8DB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3F3-BACB-4232-A175-63C26F41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F9F5-9382-4BCE-BB28-1F9DEBA4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CE4-E2A8-45A7-A5B3-778FC3EC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Ltte_emblem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rrorist_organization" TargetMode="External"/><Relationship Id="rId2" Type="http://schemas.openxmlformats.org/officeDocument/2006/relationships/hyperlink" Target="http://en.wikipedia.org/wiki/Tamil_tigers#Proscription_as_a_terrorist_group" TargetMode="External"/><Relationship Id="rId3" Type="http://schemas.openxmlformats.org/officeDocument/2006/relationships/hyperlink" Target="http://en.wikipedia.org/wiki/Child_soldier" TargetMode="External"/><Relationship Id="rId4" Type="http://schemas.openxmlformats.org/officeDocument/2006/relationships/hyperlink" Target="http://en.wikipedia.org/wiki/Suicide_belt" TargetMode="External"/><Relationship Id="rId5" Type="http://schemas.openxmlformats.org/officeDocument/2006/relationships/hyperlink" Target="http://en.wikipedia.org/wiki/Suicide_bombing" TargetMode="External"/><Relationship Id="rId6" Type="http://schemas.openxmlformats.org/officeDocument/2006/relationships/hyperlink" Target="http://en.wikipedia.org/wiki/Tamil_tigers#cite_note-2" TargetMode="External"/><Relationship Id="rId7" Type="http://schemas.openxmlformats.org/officeDocument/2006/relationships/hyperlink" Target="http://en.wikipedia.org/wiki/Tamil_tigers#cite_note-3" TargetMode="External"/><Relationship Id="rId8" Type="http://schemas.openxmlformats.org/officeDocument/2006/relationships/hyperlink" Target="http://en.wikipedia.org/wiki/Tamil_tigers#cite_note-4" TargetMode="External"/><Relationship Id="rId9" Type="http://schemas.openxmlformats.org/officeDocument/2006/relationships/hyperlink" Target="http://en.wikipedia.org/wiki/Hamas" TargetMode="External"/><Relationship Id="rId10" Type="http://schemas.openxmlformats.org/officeDocument/2006/relationships/hyperlink" Target="http://en.wikipedia.org/wiki/Islamic_Jihad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Island nation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ed religious land for both Hindus and Buddhi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28600" y="2882880"/>
            <a:ext cx="4419720" cy="3975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5105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809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4419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3352680" y="4647960"/>
            <a:ext cx="15264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791320" y="5029200"/>
            <a:ext cx="297180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ri Lank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2320" y="5715000"/>
            <a:ext cx="31240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grou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jority, Buddh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ority (18%), Hi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 government stops giving Tamils civil rights – 197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begin using terrorism, want their own home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Images from the story"/>
          <p:cNvPicPr/>
          <p:nvPr/>
        </p:nvPicPr>
        <p:blipFill>
          <a:blip r:embed="rId1"/>
          <a:stretch/>
        </p:blipFill>
        <p:spPr>
          <a:xfrm>
            <a:off x="380880" y="4800600"/>
            <a:ext cx="83059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 to divide country in hal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rrorist group - uses suicide bombings, kidnappings, child soldiers, assassin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 Ques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 Describe the conflict in   Sri Lank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How do the Tamil Tigers work for their goal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0280" y="1676520"/>
            <a:ext cx="35416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mil Tig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amil Tigers are currently proscribed as a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errorist organ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32 countrie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st of count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They have a well-developed militia cadre, and are notorious for committing atrocities against civilians, for carrying out high profile attacks, including the assassinations of several high-ranking Sri Lankan and Indian politicians, and for recruiting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child sold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LTTE invented the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icide be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widely known for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uicide bomb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actic. They also pioneered the use of women in suicide attacks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[3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[4]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[5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TTE has carried out more suicide bombings tha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a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Islamic Jih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al-Qaeda combined.[2] The LTTE is the only rebel organization known to have possessed aircraft.[6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57200"/>
            <a:ext cx="990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ttp://news.bbc.co.uk/2/hi/south_asia/2405347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ach question and write one sentence summarizing the answ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2:35:28Z</dcterms:created>
  <dc:creator>CFISD</dc:creator>
  <dc:description/>
  <dc:language>en-US</dc:language>
  <cp:lastModifiedBy>CFISD</cp:lastModifiedBy>
  <dcterms:modified xsi:type="dcterms:W3CDTF">2009-04-01T12:36:57Z</dcterms:modified>
  <cp:revision>4</cp:revision>
  <dc:subject/>
  <dc:title>Slide 1</dc:title>
</cp:coreProperties>
</file>