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481-BE0B-42AF-B066-500C64DB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7B0-D822-4D27-8E63-46EEEEEB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5F2-C570-4B8D-A02B-6433359D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3EC-126B-4431-9DFF-290B1FDD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E93-464E-468D-90A5-6A4D2FDE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BC8-3FAF-433E-B7B4-97841400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5AF-3B7F-41B1-9464-1BDB88F0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876-EE2A-4B8A-837F-D2C66CC2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5C1-B0B8-4EE7-A4A8-E064A52F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E8D-F49C-49CD-9FE1-D9B52948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E66B-22FA-4382-82F8-946C77A7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213-DC90-4618-B41F-281CA6A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1A42-B128-4152-8CD0-049935D04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Ltte_emble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errorist_organization" TargetMode="External"/><Relationship Id="rId2" Type="http://schemas.openxmlformats.org/officeDocument/2006/relationships/hyperlink" Target="http://en.wikipedia.org/wiki/Tamil_tigers#Proscription_as_a_terrorist_group" TargetMode="External"/><Relationship Id="rId3" Type="http://schemas.openxmlformats.org/officeDocument/2006/relationships/hyperlink" Target="http://en.wikipedia.org/wiki/Child_soldier" TargetMode="External"/><Relationship Id="rId4" Type="http://schemas.openxmlformats.org/officeDocument/2006/relationships/hyperlink" Target="http://en.wikipedia.org/wiki/Suicide_belt" TargetMode="External"/><Relationship Id="rId5" Type="http://schemas.openxmlformats.org/officeDocument/2006/relationships/hyperlink" Target="http://en.wikipedia.org/wiki/Suicide_bombing" TargetMode="External"/><Relationship Id="rId6" Type="http://schemas.openxmlformats.org/officeDocument/2006/relationships/hyperlink" Target="http://en.wikipedia.org/wiki/Tamil_tigers#cite_note-2" TargetMode="External"/><Relationship Id="rId7" Type="http://schemas.openxmlformats.org/officeDocument/2006/relationships/hyperlink" Target="http://en.wikipedia.org/wiki/Tamil_tigers#cite_note-3" TargetMode="External"/><Relationship Id="rId8" Type="http://schemas.openxmlformats.org/officeDocument/2006/relationships/hyperlink" Target="http://en.wikipedia.org/wiki/Tamil_tigers#cite_note-4" TargetMode="External"/><Relationship Id="rId9" Type="http://schemas.openxmlformats.org/officeDocument/2006/relationships/hyperlink" Target="http://en.wikipedia.org/wiki/Hamas" TargetMode="External"/><Relationship Id="rId10" Type="http://schemas.openxmlformats.org/officeDocument/2006/relationships/hyperlink" Target="http://en.wikipedia.org/wiki/Islamic_Jihad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Island n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red religious land for both Hindus and Buddh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4419720" cy="397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91320" y="5029200"/>
            <a:ext cx="2971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ri Lank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2320" y="5715000"/>
            <a:ext cx="31240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jority,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ority (18%), Hi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 government stops giving Tamils civil rights –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begin using terrorism, want their own hom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mages from the story"/>
          <p:cNvPicPr/>
          <p:nvPr/>
        </p:nvPicPr>
        <p:blipFill>
          <a:blip r:embed="rId1"/>
          <a:stretch/>
        </p:blipFill>
        <p:spPr>
          <a:xfrm>
            <a:off x="380880" y="4800600"/>
            <a:ext cx="83059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il Ti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 to divide country in hal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rorist group - uses suicide bombings, kidnappings, child soldiers, assassi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 Ques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 Describe the conflict in   Sri Lank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How do the Tamil Tigers work for their goal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40280" y="1676520"/>
            <a:ext cx="3541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il Ti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mil Tigers are currently proscribed 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rrorist orga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32 countri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st of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They have a well-developed militia cadre, and are notorious for committing atrocities against civilians, for carrying out high profile attacks, including the assassinations of several high-ranking Sri Lankan and Indian politicians, and for recruiting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ld sold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LTTE invented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icide be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widely known f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uicide bomb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actic. They also pioneered the use of women in suicide attacks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[3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4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5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TTE has carried out more suicide bombings tha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a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slamic Jih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al-Qaeda combined.[2] The LTTE is the only rebel organization known to have possessed aircraft.[6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57200"/>
            <a:ext cx="990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ttp://news.bbc.co.uk/2/hi/south_asia/2405347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ach question and write one sentence summarizing the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2:35:28Z</dcterms:created>
  <dc:creator>CFISD</dc:creator>
  <dc:description/>
  <dc:language>en-US</dc:language>
  <cp:lastModifiedBy>CFISD</cp:lastModifiedBy>
  <dcterms:modified xsi:type="dcterms:W3CDTF">2009-04-01T12:36:57Z</dcterms:modified>
  <cp:revision>4</cp:revision>
  <dc:subject/>
  <dc:title>Slide 1</dc:title>
</cp:coreProperties>
</file>