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012-21E9-4794-92D0-A42E93A9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82A-5FE6-4371-A7B1-0BF149D0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505-90B7-4CF1-9371-8950A8D6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B14-6362-46BC-BFF2-E02E0840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122-DF55-4016-8F98-F89A2D2A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D9B-71DE-4E64-A878-498725A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52B-190E-48D8-A4AA-00E3C00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78F-3562-4FE1-9433-8D44995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D51-443C-4F67-A442-F1951513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1E7-7F79-41C5-885B-C4DC2B4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D3D-B797-4960-84E2-66F9059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EED-12EE-4C46-B0A2-DE95CD6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0E1-C37F-4C61-8BBB-73811617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tte_emble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rrorist_organization" TargetMode="External"/><Relationship Id="rId2" Type="http://schemas.openxmlformats.org/officeDocument/2006/relationships/hyperlink" Target="http://en.wikipedia.org/wiki/Tamil_tigers#Proscription_as_a_terrorist_group" TargetMode="External"/><Relationship Id="rId3" Type="http://schemas.openxmlformats.org/officeDocument/2006/relationships/hyperlink" Target="http://en.wikipedia.org/wiki/Child_soldier" TargetMode="External"/><Relationship Id="rId4" Type="http://schemas.openxmlformats.org/officeDocument/2006/relationships/hyperlink" Target="http://en.wikipedia.org/wiki/Suicide_belt" TargetMode="External"/><Relationship Id="rId5" Type="http://schemas.openxmlformats.org/officeDocument/2006/relationships/hyperlink" Target="http://en.wikipedia.org/wiki/Suicide_bombing" TargetMode="External"/><Relationship Id="rId6" Type="http://schemas.openxmlformats.org/officeDocument/2006/relationships/hyperlink" Target="http://en.wikipedia.org/wiki/Tamil_tigers#cite_note-2" TargetMode="External"/><Relationship Id="rId7" Type="http://schemas.openxmlformats.org/officeDocument/2006/relationships/hyperlink" Target="http://en.wikipedia.org/wiki/Tamil_tigers#cite_note-3" TargetMode="External"/><Relationship Id="rId8" Type="http://schemas.openxmlformats.org/officeDocument/2006/relationships/hyperlink" Target="http://en.wikipedia.org/wiki/Tamil_tigers#cite_note-4" TargetMode="External"/><Relationship Id="rId9" Type="http://schemas.openxmlformats.org/officeDocument/2006/relationships/hyperlink" Target="http://en.wikipedia.org/wiki/Hamas" TargetMode="External"/><Relationship Id="rId10" Type="http://schemas.openxmlformats.org/officeDocument/2006/relationships/hyperlink" Target="http://en.wikipedia.org/wiki/Islamic_Jihad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land 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ed religious land for both Hindus and Buddh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91320" y="5029200"/>
            <a:ext cx="2971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ri Lank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5715000"/>
            <a:ext cx="3124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,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ity (18%), 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government stops giving Tamils civil rights –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begin using terrorism, want their own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s from the story"/>
          <p:cNvPicPr/>
          <p:nvPr/>
        </p:nvPicPr>
        <p:blipFill>
          <a:blip r:embed="rId1"/>
          <a:stretch/>
        </p:blipFill>
        <p:spPr>
          <a:xfrm>
            <a:off x="380880" y="4800600"/>
            <a:ext cx="8305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 divide country in ha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orist group - uses suicide bombings, kidnappings, child soldiers, assass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 Ques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Describe the conflict in   Sri Lan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How do the Tamil Tigers work for their goal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0280" y="1676520"/>
            <a:ext cx="354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mil Tigers are currently proscrib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orist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32 countri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st of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hey have a well-developed militia cadre, and are notorious for committing atrocities against civilians, for carrying out high profile attacks, including the assassinations of several high-ranking Sri Lankan and Indian politicians, and for recruit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ld sold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TTE invented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icide b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widely known 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icide bo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actic. They also pioneered the use of women in suicide attack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4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TTE has carried out more suicide bombings th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a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slamic Ji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l-Qaeda combined.[2] The LTTE is the only rebel organization known to have possessed aircraft.[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57200"/>
            <a:ext cx="99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tp://news.bbc.co.uk/2/hi/south_asia/24053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question and write one sentence summariz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35:28Z</dcterms:created>
  <dc:creator>CFISD</dc:creator>
  <dc:description/>
  <dc:language>en-US</dc:language>
  <cp:lastModifiedBy>CFISD</cp:lastModifiedBy>
  <dcterms:modified xsi:type="dcterms:W3CDTF">2009-04-01T12:36:57Z</dcterms:modified>
  <cp:revision>4</cp:revision>
  <dc:subject/>
  <dc:title>Slide 1</dc:title>
</cp:coreProperties>
</file>