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gif" ContentType="image/gi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2BED-76D6-4FA5-9FA3-8A9D9129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6D93-B9D3-4BC3-A833-CD106441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346-5FF5-4B91-947A-37BAA9EC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BAE4-0C94-48EC-9DE5-75784E89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4148-D870-4D29-8A1B-4194BDD7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ED3-7565-4329-9692-7A40C422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3C0A-255C-478E-B010-DEEEC91F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302B-8487-46D1-A564-3825FA74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130-683E-4ED3-8A8A-A50D4106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74A-E74C-481B-AA6E-8A51662D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E8D-DB05-4E6A-8175-05364A37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A11-B941-46DA-B464-8562A74D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0505-2A5A-451F-A87D-41C0C64D0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en.wikipedia.org/wiki/Image:Office_of_CBP_Air_and_Marine_helicopter_and_boats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4/45/Census-2000-Data-Top-US-Ancestries-by-County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en.wikipedia.org/wiki/Image:BraceroProgram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hyperlink" Target="http://upload.wikimedia.org/wikipedia/commons/b/b8/Fidel_Castro5_cropped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Inequality and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603396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705720" y="2209680"/>
            <a:ext cx="205740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auses widespread immmigration of Cub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uban population in Florida greatly incre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 million immigrants became citizens in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ound 800,000 illegal immigrants enter the US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increasing 2.3% per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419720" y="5334120"/>
            <a:ext cx="1095120" cy="1266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Border control at sea by the U.S. Customs and Border Protec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1542960"/>
            <a:ext cx="4190760" cy="29527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876920" y="44956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 Border Patrol in the Gulf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Image:Census-2000-Data-Top-US-Ancestries-by-Count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e US decide whether immigration from Latin America is ok or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ni Coefficient – number used to measure spatial ine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7520" y="152280"/>
            <a:ext cx="9048960" cy="6553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4800600"/>
            <a:ext cx="220968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out the tit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ow has spatial inequality in the Americas changed over the last 15 year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0" t="0" r="10001" b="0"/>
          <a:stretch/>
        </p:blipFill>
        <p:spPr>
          <a:xfrm>
            <a:off x="0" y="431640"/>
            <a:ext cx="9144000" cy="5588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80880" y="6095880"/>
            <a:ext cx="54864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igher the number = higher the spatial in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53080" y="4648320"/>
            <a:ext cx="1905120" cy="188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continents have the highest spatial inequality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edict w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 Stance on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Question: How has the US’ position regarding Latin American immigration changed over the last 100 yea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after taking all the 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ation of Border Patrol - 19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stop illeg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i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migration through Mexican b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r used to control Mexican and Central American im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114800" y="5486400"/>
            <a:ext cx="847800" cy="857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Unfinished section of US-Mexico border fence"/>
          <p:cNvPicPr/>
          <p:nvPr/>
        </p:nvPicPr>
        <p:blipFill>
          <a:blip r:embed="rId2"/>
          <a:stretch/>
        </p:blipFill>
        <p:spPr>
          <a:xfrm>
            <a:off x="5105520" y="2214720"/>
            <a:ext cx="3352680" cy="25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acero Program - 19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government recruited 350,000 Mexicans per year to work in the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age of labor during WWII, most went to California and worked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287960" y="5562720"/>
            <a:ext cx="669960" cy="961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The first Braceros arrive in Los Angeles by train in 1942. Photograph by Dorothea Lan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57800" y="1752480"/>
            <a:ext cx="3162240" cy="3227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4120" y="5029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Bracero’s arrive in Califor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igration Ac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 creates first quotas (limits) on Latin American immi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llowed 20,000 per Latin American 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847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ee Act - 19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who claims they are in personal danger may leave their country and come to the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to allow Cubans to leave their  Communist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1041120" cy="1495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Image:Fidel Castro5 cropped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1447920"/>
            <a:ext cx="2253960" cy="3429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248520" y="49528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del Castro, Cuban Communist Dict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4:03:29Z</dcterms:created>
  <dc:creator>Braden Orso</dc:creator>
  <dc:description/>
  <dc:language>en-US</dc:language>
  <cp:lastModifiedBy>CFISD</cp:lastModifiedBy>
  <dcterms:modified xsi:type="dcterms:W3CDTF">2009-02-02T13:56:28Z</dcterms:modified>
  <cp:revision>4</cp:revision>
  <dc:subject/>
  <dc:title>Spatial Inequality and Immigration</dc:title>
</cp:coreProperties>
</file>