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8F04-3797-4F36-A996-EDA2A6A41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8C71-9DF1-43A1-A41F-CB3BC92D8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F972-CD97-4074-B088-7207F0C3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90F-F576-49CF-9221-827C919C5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7BC8-CBE2-402C-A979-EB5AC413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52EB-2819-4395-8C8A-2994A150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04AC-F8BB-4258-8160-E695168A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8311-A803-48D7-9AEA-3B5C9B0DB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B6E-697F-4AEA-91CD-0FB926E9D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634-A017-451A-A01E-AA170D34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9D23-866B-469D-9DC1-DC8AEE5B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BB8-8B66-4B7D-B6F3-486E08C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0B51-62E9-4950-B2F0-E52A23360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Office_of_CBP_Air_and_Marine_helicopter_and_boats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BraceroProgram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upload.wikimedia.org/wikipedia/commons/b/b8/Fidel_Castro5_cropped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Inequalit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2209680"/>
            <a:ext cx="2057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auses widespread immmigration of Cub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uban population in Florida greatly incre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million immigrants became citizen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800,000 illegal immigrants enter the U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ing 2.3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5334120"/>
            <a:ext cx="1095120" cy="126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order control at sea by the U.S. Customs and Border Protec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542960"/>
            <a:ext cx="419076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76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Border Patrol in the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Image:Census-2000-Data-Top-US-Ancestries-by-Count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S decide whether immigration from Latin America is ok or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i Coefficient – number used to measure spatial in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52280"/>
            <a:ext cx="9048960" cy="655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800600"/>
            <a:ext cx="22096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the ti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ow has spatial inequality in the Americas changed over the last 15 yea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0" y="431640"/>
            <a:ext cx="9144000" cy="558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95880"/>
            <a:ext cx="5486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gher the number = higher the spatial in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90512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inents have the highest spatial inequal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edict w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Stance on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How has the US’ position regarding Latin American immigration changed over the last 100 yea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after taking all the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of Border Patrol - 1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stop illeg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igration through Mexican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used to control Mexican and Central American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54864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Unfinished section of US-Mexico border fence"/>
          <p:cNvPicPr/>
          <p:nvPr/>
        </p:nvPicPr>
        <p:blipFill>
          <a:blip r:embed="rId2"/>
          <a:stretch/>
        </p:blipFill>
        <p:spPr>
          <a:xfrm>
            <a:off x="5105520" y="2214720"/>
            <a:ext cx="33526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ero Program - 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government recruited 350,000 Mexicans per year to work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age of labor during WWII, most went to California and worked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87960" y="5562720"/>
            <a:ext cx="669960" cy="96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he first Braceros arrive in Los Angeles by train in 1942. Photograph by Dorothea Lan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752480"/>
            <a:ext cx="3162240" cy="3227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029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Bracero’s arrive in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creates first quotas (limits) on Latin American immi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llowed 20,000 per Latin America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847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ho claims they are in personal danger may leave their country and come to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allow Cubans to leave their  Communist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1041120" cy="149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Fidel Castro5 cropp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1447920"/>
            <a:ext cx="225396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48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el Castro, Cuban Communist Dic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4:03:29Z</dcterms:created>
  <dc:creator>Braden Orso</dc:creator>
  <dc:description/>
  <dc:language>en-US</dc:language>
  <cp:lastModifiedBy>CFISD</cp:lastModifiedBy>
  <dcterms:modified xsi:type="dcterms:W3CDTF">2009-02-02T13:56:28Z</dcterms:modified>
  <cp:revision>4</cp:revision>
  <dc:subject/>
  <dc:title>Spatial Inequality and Immigration</dc:title>
</cp:coreProperties>
</file>