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C01-50FE-4F13-BBA6-EDBB708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82C-056F-4F0A-A739-891E18E3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1CA-3D10-44C4-83DC-2D7A2965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967-8066-4F0F-BF48-EDD2605A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825-BCD7-4BAD-8D53-7787D3B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B0B-07B8-45C4-8504-8977916E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1C5-A43E-4842-BDA2-8B3FE26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0BD-85FD-4F23-9CB3-A95C4C5D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5D8-0547-4F86-AF06-75E2AEE1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351-DB68-4EF9-9D9E-49F6518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745-7923-498C-BD9E-BBD31CA7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565-CBC9-450E-B540-5C81761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4EAE-38A5-417A-8A2B-05C66DB86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Office_of_CBP_Air_and_Marine_helicopter_and_boat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BraceroProgram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upload.wikimedia.org/wikipedia/commons/b/b8/Fidel_Castro5_cropped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Inequalit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2209680"/>
            <a:ext cx="2057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auses widespread immmigration of Cub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uban population in Florida greatly incre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million immigrants became citizen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800,000 illegal immigrants enter the U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ing 2.3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5334120"/>
            <a:ext cx="109512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order control at sea by the U.S. Customs and Border Prot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542960"/>
            <a:ext cx="419076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76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Border Patrol in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Image:Census-2000-Data-Top-US-Ancestries-by-Coun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S decide whether immigration from Latin America is ok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i Coefficient – number used to measure spatial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52280"/>
            <a:ext cx="9048960" cy="655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800600"/>
            <a:ext cx="22096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the ti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ow has spatial inequality in the Americas changed over the last 15 yea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0" y="431640"/>
            <a:ext cx="9144000" cy="558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588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gher the number = higher the spatial in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9051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inents have the highest spatial inequal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dict w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Stance on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How has the US’ position regarding Latin American immigration changed over the last 100 yea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fter taking all the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Border Patrol -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stop illeg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igration through Mexican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used to control Mexican and Central American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finished section of US-Mexico border fence"/>
          <p:cNvPicPr/>
          <p:nvPr/>
        </p:nvPicPr>
        <p:blipFill>
          <a:blip r:embed="rId2"/>
          <a:stretch/>
        </p:blipFill>
        <p:spPr>
          <a:xfrm>
            <a:off x="5105520" y="2214720"/>
            <a:ext cx="3352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ero Program - 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government recruited 350,000 Mexicans per year to work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labor during WWII, most went to California and worked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87960" y="5562720"/>
            <a:ext cx="66996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first Braceros arrive in Los Angeles by train in 1942. Photograph by Dorothea Lan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752480"/>
            <a:ext cx="3162240" cy="322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029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Bracero’s arrive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creates first quotas (limits) on Latin American im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ed 20,000 per Latin America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claims they are in personal danger may leave their country and come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allow Cubans to leave their  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1041120" cy="149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Fidel Castro5 cropp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44792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el Castro, Cuban Communist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4:03:29Z</dcterms:created>
  <dc:creator>Braden Orso</dc:creator>
  <dc:description/>
  <dc:language>en-US</dc:language>
  <cp:lastModifiedBy>CFISD</cp:lastModifiedBy>
  <dcterms:modified xsi:type="dcterms:W3CDTF">2009-02-02T13:56:28Z</dcterms:modified>
  <cp:revision>4</cp:revision>
  <dc:subject/>
  <dc:title>Spatial Inequality and Immigration</dc:title>
</cp:coreProperties>
</file>