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6EF-119F-43A4-BB87-14683111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762-42F0-4776-A918-5CDA2400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D52-D908-4CE3-BF34-1604F7E2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0BA-98FC-4D37-AE84-8C411E5B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0E7-9E49-478E-89E6-FA8A61CF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0DD1-A6DB-4BF3-9216-9ECD21C4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78B2-C34D-4D50-948A-1854AE86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BE6-898F-4496-B3F7-C6869128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A367-0C10-4491-A815-0B3DECB0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6DD-C9E5-4941-AF1C-FF97B633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D99-C613-4413-8145-6811F8EF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FEF-BFB1-4602-802D-E7994B0B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024E-0659-42E1-B625-457D751D1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en.wikipedia.org/wiki/Image:Office_of_CBP_Air_and_Marine_helicopter_and_boats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5/Census-2000-Data-Top-US-Ancestries-by-County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en.wikipedia.org/wiki/Image:BraceroProgram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upload.wikimedia.org/wikipedia/commons/b/b8/Fidel_Castro5_cropped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Inequality and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ugee Act -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05720" y="2209680"/>
            <a:ext cx="20574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auses widespread immmigration of Cuba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uban population in Florida greatly incre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 million immigrants became citizens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nd 800,000 illegal immigrants enter the US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ncreasing 2.3%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5334120"/>
            <a:ext cx="1095120" cy="1266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Border control at sea by the U.S. Customs and Border Protec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542960"/>
            <a:ext cx="4190760" cy="2952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876920" y="4495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 Border Patrol in the Gulf of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Image:Census-2000-Data-Top-US-Ancestries-by-Count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US decide whether immigration from Latin America is ok or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ni Coefficient – number used to measure spatial ine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520" y="152280"/>
            <a:ext cx="9048960" cy="6553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4800600"/>
            <a:ext cx="220968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out the tit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ow has spatial inequality in the Americas changed over the last 15 year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10001" b="0"/>
          <a:stretch/>
        </p:blipFill>
        <p:spPr>
          <a:xfrm>
            <a:off x="0" y="431640"/>
            <a:ext cx="9144000" cy="558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6095880"/>
            <a:ext cx="5486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igher the number = higher the spatial in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4648320"/>
            <a:ext cx="190512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ontinents have the highest spatial inequali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edict w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Stance on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Question: How has the US’ position regarding Latin American immigration changed over the last 100 yea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after taking all the no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of Border Patrol - 19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to stop illeg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migration through Mexican b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used to control Mexican and Central American 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14800" y="5486400"/>
            <a:ext cx="847800" cy="857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Unfinished section of US-Mexico border fence"/>
          <p:cNvPicPr/>
          <p:nvPr/>
        </p:nvPicPr>
        <p:blipFill>
          <a:blip r:embed="rId2"/>
          <a:stretch/>
        </p:blipFill>
        <p:spPr>
          <a:xfrm>
            <a:off x="5105520" y="2214720"/>
            <a:ext cx="335268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cero Program - 19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government recruited 350,000 Mexicans per year to work in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age of labor during WWII, most went to California and worked in agri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87960" y="5562720"/>
            <a:ext cx="669960" cy="961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The first Braceros arrive in Los Angeles by train in 1942. Photograph by Dorothea Lan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752480"/>
            <a:ext cx="3162240" cy="3227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4120" y="50292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Bracero’s arrive in Califor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 Act -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 creates first quotas (limits) on Latin American immig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llowed 20,000 per Latin American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8478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ugee Act - 19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who claims they are in personal danger may leave their country and come to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to allow Cubans to leave their  Communist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1041120" cy="1495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Image:Fidel Castro5 croppe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1447920"/>
            <a:ext cx="2253960" cy="3429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4852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del Castro, Cuban Communist Dic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4:03:29Z</dcterms:created>
  <dc:creator>Braden Orso</dc:creator>
  <dc:description/>
  <dc:language>en-US</dc:language>
  <cp:lastModifiedBy>CFISD</cp:lastModifiedBy>
  <dcterms:modified xsi:type="dcterms:W3CDTF">2009-02-02T13:56:28Z</dcterms:modified>
  <cp:revision>4</cp:revision>
  <dc:subject/>
  <dc:title>Spatial Inequality and Immigration</dc:title>
</cp:coreProperties>
</file>