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FB31-AF89-4379-BC41-1A5CADF16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CE9A-97BE-45AD-A550-8564A5BD1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AD53-B6AC-47B2-9E24-53970B74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6F086-3BF9-4542-91D0-4CD851AED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56DD5-142E-43A4-A91D-14FACA41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45F38-B897-4512-8D83-AC7A75F0F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6BB2-0E66-436C-9F08-04ABA0DB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D19AF-A53B-49BA-AEE2-4DC397BA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3AE97-E1CD-4F87-901C-FF637F4AF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98B7C-2290-4B38-AB47-5A50B8EEA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860CA-E102-4350-9492-25D7E243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0FFD-3B21-4F45-B3B5-62C4347D3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0A0B-1FD1-4876-B4F7-2E6AA257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F448-9C28-4CA5-A4D5-AA53732F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11A-7AA0-4B75-B94C-A8F7AB272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425CD-7624-4A2E-8B12-61C41D596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78C95-949C-4219-895D-E9BED6A0D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652781-BBAD-4EF0-AA92-EFF1E86E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5DB5B-9324-42D1-AB15-310E832A3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87908-33CE-4962-A0DE-8BB0ADA2C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FB414-03CE-4990-9D87-3083918A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F8CACB-C6BA-4FD9-BB0F-710994E6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5B0-99AF-493B-9B1F-3C9F362A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E9C940-6445-4DE6-9D95-8F9CEC857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C03630-B6B5-4597-B497-2E4CC01C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53861B-1BB2-4C03-A861-71F50211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6CB47D-2D3A-4D55-B315-2FB686DF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2EE81-92CC-49B4-AE10-DC60CA8D1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882A92-EFB3-4CAD-8B63-C11A067F3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5B19AA-0420-4824-9E34-A93153FB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2A48E-1CE0-439F-B62C-07663870E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9EF68F-FEBF-406B-BEAC-EDF3930E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0764E-466C-4DFD-B8E0-171E8630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B1266-89CF-4ACC-8805-5B826A7C7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2B8E7F-E7CE-40B7-A47F-CF5AB9F4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85D000-2188-4EF9-AA67-7474176C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10B5E-3ED1-4771-891D-8392BB79E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2FC4EB-A551-4E58-8E09-6C650594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5BFDC6-F389-4FAF-9288-F25A7809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E4A56-79E9-4DED-B7B9-654A4690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1CB47-BDA3-4679-859C-BEDD6FE4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B3377C-457E-4953-BE2C-71B0EBC50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99A46-3826-4CFF-B95C-616572EF7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DD4-C227-4AE9-BFBF-3912040B6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5CD6-E8EE-4E6E-8AC4-64E4F30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4D93-8427-4AFD-BE9D-B40BB61E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454D-A289-4DE0-92E2-4545FE67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A913-9008-4EC6-B295-FB22E60E7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C529-067D-4CA5-996B-2DEDA643FA9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3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4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5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26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4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1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2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3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4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4767-FF0B-4796-B2A6-509232D22C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9FB9-EE7F-4E5A-8C9F-E1CDC966E3D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2E3E0-B2E2-42B3-9748-0044A842761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WordArt 4"/>
          <p:cNvSpPr txBox="1"/>
          <p:nvPr/>
        </p:nvSpPr>
        <p:spPr>
          <a:xfrm>
            <a:off x="1905120" y="3808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East/Southeast Asia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28" name="WordArt 5"/>
          <p:cNvSpPr txBox="1"/>
          <p:nvPr/>
        </p:nvSpPr>
        <p:spPr>
          <a:xfrm>
            <a:off x="914400" y="4952880"/>
            <a:ext cx="2533680" cy="10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Peacock, Zarosky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ORSO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1st Period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pril 23, 2009</a:t>
            </a:r>
            <a:endParaRPr b="0" lang="en-US" sz="2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29" name="Picture 10" descr="http://www.opendoorsusa.org/UserFiles/Image/Maps/SoutheastAsia_ODUSA_ministry_map.jpg"/>
          <p:cNvPicPr/>
          <p:nvPr/>
        </p:nvPicPr>
        <p:blipFill>
          <a:blip r:embed="rId1"/>
          <a:stretch/>
        </p:blipFill>
        <p:spPr>
          <a:xfrm>
            <a:off x="4038480" y="2743200"/>
            <a:ext cx="48103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4"/>
          <p:cNvSpPr txBox="1"/>
          <p:nvPr/>
        </p:nvSpPr>
        <p:spPr>
          <a:xfrm>
            <a:off x="2438280" y="380880"/>
            <a:ext cx="37148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Physical Geography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31" name="Picture 5" descr="File:Southeast asia.jpg"/>
          <p:cNvPicPr/>
          <p:nvPr/>
        </p:nvPicPr>
        <p:blipFill>
          <a:blip r:embed="rId1"/>
          <a:stretch/>
        </p:blipFill>
        <p:spPr>
          <a:xfrm>
            <a:off x="4876920" y="1752480"/>
            <a:ext cx="3895560" cy="4453200"/>
          </a:xfrm>
          <a:prstGeom prst="rect">
            <a:avLst/>
          </a:prstGeom>
          <a:ln w="0">
            <a:noFill/>
          </a:ln>
        </p:spPr>
      </p:pic>
      <p:sp>
        <p:nvSpPr>
          <p:cNvPr id="232" name="TextBox 5"/>
          <p:cNvSpPr/>
          <p:nvPr/>
        </p:nvSpPr>
        <p:spPr>
          <a:xfrm>
            <a:off x="1066680" y="571500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untains And Deserts contribute to China's iso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6"/>
          <p:cNvSpPr/>
          <p:nvPr/>
        </p:nvSpPr>
        <p:spPr>
          <a:xfrm>
            <a:off x="1066680" y="4191120"/>
            <a:ext cx="289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eat Wall of china is significant because it isolates china and keeps foreigners o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7"/>
          <p:cNvSpPr/>
          <p:nvPr/>
        </p:nvSpPr>
        <p:spPr>
          <a:xfrm>
            <a:off x="1066680" y="2362320"/>
            <a:ext cx="2743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pan has adapted to the ring of fire by buildings on giant springs and a huge inner water free zo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WordArt 4"/>
          <p:cNvSpPr txBox="1"/>
          <p:nvPr/>
        </p:nvSpPr>
        <p:spPr>
          <a:xfrm>
            <a:off x="3886200" y="609480"/>
            <a:ext cx="7524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HEI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6" name="TextBox 4"/>
          <p:cNvSpPr/>
          <p:nvPr/>
        </p:nvSpPr>
        <p:spPr>
          <a:xfrm>
            <a:off x="914400" y="1828800"/>
            <a:ext cx="3657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s Inclu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ck of Arable 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ctonic Activ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http://anthro.palomar.edu/subsistence/images/terraced_farm_fields.jpg"/>
          <p:cNvPicPr/>
          <p:nvPr/>
        </p:nvPicPr>
        <p:blipFill>
          <a:blip r:embed="rId3"/>
          <a:stretch/>
        </p:blipFill>
        <p:spPr>
          <a:xfrm>
            <a:off x="5334120" y="4038480"/>
            <a:ext cx="3485880" cy="24386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457200" y="464832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s for the lack of arable land would fit more in developing areas because they are more r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952880" y="1600200"/>
            <a:ext cx="3886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cation for tectonic activity would be better in developed areas because they have more money and resour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0047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WordArt 4"/>
          <p:cNvSpPr txBox="1"/>
          <p:nvPr/>
        </p:nvSpPr>
        <p:spPr>
          <a:xfrm>
            <a:off x="2971800" y="380880"/>
            <a:ext cx="26668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opul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241" name="Object 5"/>
          <p:cNvGraphicFramePr/>
          <p:nvPr/>
        </p:nvGraphicFramePr>
        <p:xfrm>
          <a:off x="4038480" y="2133720"/>
          <a:ext cx="4772160" cy="33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2133720"/>
                    <a:ext cx="4772160" cy="33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3" name="Rectangle 5" descr=""/>
          <p:cNvPicPr/>
          <p:nvPr/>
        </p:nvPicPr>
        <p:blipFill>
          <a:blip r:embed="rId3"/>
          <a:stretch/>
        </p:blipFill>
        <p:spPr>
          <a:xfrm>
            <a:off x="-365040" y="2066760"/>
            <a:ext cx="4357440" cy="1146240"/>
          </a:xfrm>
          <a:prstGeom prst="rect">
            <a:avLst/>
          </a:prstGeom>
          <a:ln w="0">
            <a:noFill/>
          </a:ln>
        </p:spPr>
      </p:pic>
      <p:sp>
        <p:nvSpPr>
          <p:cNvPr id="244" name="TextBox 6"/>
          <p:cNvSpPr/>
          <p:nvPr/>
        </p:nvSpPr>
        <p:spPr>
          <a:xfrm>
            <a:off x="380880" y="3429000"/>
            <a:ext cx="3048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apore has under population problem. I feel the only one way you can solve this is to bribe people to have ki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3505320" y="457200"/>
            <a:ext cx="16952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Religion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6" name="TextBox 4"/>
          <p:cNvSpPr/>
          <p:nvPr/>
        </p:nvSpPr>
        <p:spPr>
          <a:xfrm>
            <a:off x="3352680" y="4648320"/>
            <a:ext cx="5562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ddhism Video http://video.google.com/videosearch?imgsz=small%7Cmedium%7Clarge%7Cxlarge&amp;hl=en&amp;um=1&amp;q=buddhism&amp;ie=UTF-8&amp;sa=N&amp;tab=iv#imgsz=small%7Cmedium%7Clarge%7Cxlarge&amp;hl=en&amp;um=1&amp;q=buddhism&amp;ie=UTF-8&amp;sa=N&amp;tab=iv&amp;dur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1447920"/>
            <a:ext cx="350496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hi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nfucian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uddhis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48" name=""/>
          <p:cNvSpPr/>
          <p:nvPr/>
        </p:nvSpPr>
        <p:spPr>
          <a:xfrm>
            <a:off x="4952880" y="1447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panese G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029200" y="2666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al Beli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105520" y="36576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rv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7f7f7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WordArt 4"/>
          <p:cNvSpPr txBox="1"/>
          <p:nvPr/>
        </p:nvSpPr>
        <p:spPr>
          <a:xfrm>
            <a:off x="2971800" y="304920"/>
            <a:ext cx="23716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mmunism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228600" y="1447920"/>
            <a:ext cx="32004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oviet Union started the pattern of Communism through many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895480" y="2590920"/>
            <a:ext cx="2743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dea of Communism spread from the Soviet Union to Chi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172200" y="44956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34120" y="4419720"/>
            <a:ext cx="3504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, Communism has spread through most of the continent, including South East A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WordArt 4"/>
          <p:cNvSpPr txBox="1"/>
          <p:nvPr/>
        </p:nvSpPr>
        <p:spPr>
          <a:xfrm>
            <a:off x="3200400" y="609480"/>
            <a:ext cx="1851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Economic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aphicFrame>
        <p:nvGraphicFramePr>
          <p:cNvPr id="257" name="Object 5"/>
          <p:cNvGraphicFramePr/>
          <p:nvPr/>
        </p:nvGraphicFramePr>
        <p:xfrm>
          <a:off x="5068800" y="1905120"/>
          <a:ext cx="40752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68800" y="1905120"/>
                    <a:ext cx="40752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9" name=""/>
          <p:cNvSpPr txBox="1"/>
          <p:nvPr/>
        </p:nvSpPr>
        <p:spPr>
          <a:xfrm>
            <a:off x="609480" y="1676520"/>
            <a:ext cx="1447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Goo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828800" y="2743200"/>
            <a:ext cx="226692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frastructu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752480" y="3352680"/>
            <a:ext cx="2638440" cy="24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dustrializ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4038480"/>
            <a:ext cx="11145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Bad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762120" y="5105520"/>
            <a:ext cx="36907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Trading Rout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80880" y="5638680"/>
            <a:ext cx="441036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 Natural Resource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3T12:40:23Z</dcterms:created>
  <dc:creator>cfisd</dc:creator>
  <dc:description/>
  <dc:language>en-US</dc:language>
  <cp:lastModifiedBy>dzarosky</cp:lastModifiedBy>
  <dcterms:modified xsi:type="dcterms:W3CDTF">2009-04-27T03:37:38Z</dcterms:modified>
  <cp:revision>9</cp:revision>
  <dc:subject/>
  <dc:title>Slide 1</dc:title>
</cp:coreProperties>
</file>