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2F0-E2E6-49E4-9E27-17B36DD3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49F-2C65-4796-9F66-7CA12651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B93-CCB0-4EFF-ABD4-993BD82D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556-6942-4B26-A386-99C3054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4882-1039-4B01-AFB2-676B3418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C00A-1104-44DC-AC74-6A595977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963D-8E45-43D8-BB89-23AD54D8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FFCF-C6D9-4A1F-8427-F37BDE95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7D96-20EC-4836-BBC8-87CAB41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4292-FC42-45A7-B549-1DC8368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0939-EBEF-4E9B-AD11-157B3CF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2F8-7363-44CD-AC4E-7950B6F8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CCA5-BFD4-4CB5-9D4B-2698A32B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00E-A7CD-426F-804C-EFDDCCD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8DB1-E02D-482D-AB14-6E2CBBDB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18D-1F99-454F-A4FB-84F2F023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86CE-76B1-4956-864A-ECC2CE05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04A01-6750-4D90-940D-0600B3CE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7C192-9F05-42E8-8243-6B78602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FFB37-FF3B-4FF5-BDD4-DDCBE58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B5E12-F636-44DB-A1E4-9165352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4C0E6-F384-4B7E-B1A1-CEE08094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157-8EA7-4881-BAAA-C2404245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ED53C-6E56-4D42-B601-16138A3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7EB99-498B-4081-BB26-EA554C25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41AF5-0517-4EED-8592-B72B415B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65E70-2B21-409D-93D0-FEE4406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E8489-CBAE-494F-BF7B-644822E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8491A-7EDA-4E22-AC2F-DFBAB3AB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6BAF1-560C-418B-B346-F1EC7DCC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6C28-EFF6-4396-BE17-E89681C7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02900-D3AC-407C-AE62-6972253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09E9-F0FA-4D09-AFB6-79E7608E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217-3BEC-4368-B98B-84D0972C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C8EE-F7F1-427E-BEF9-86E8B9C7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6F4F-BE42-4F60-98B3-F406206C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D0BE-97C6-41EF-BBFC-4DCD22C6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C4EF-3206-4481-9B9F-0B38839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FD29-FB52-44CE-B1F0-CA1BB80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AB20-0E2A-469D-8B56-E33FE8E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5CF9-FA06-4DDF-ABC1-876E943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C1E3-0FCE-4D4E-BDE8-72CDC59D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B137-52D7-472D-8448-961CC379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2D8-1C0A-47AF-A02F-C6A00046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1EF-4305-49CC-8A98-199C47AA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1E3-8498-44B6-B84A-904BC8F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F25-150E-43DF-BB92-C35CAA9C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6C6-A2B9-4C63-B1D7-E1B238B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624B-3E62-49CF-8AB2-BD9C0C7BCB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C83-74F0-418F-9667-5D153DB9B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D648-1DB6-4C5E-BBB1-3D1ED72EC2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C0CB-EF0E-4FA4-8A0E-60FD06216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46483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for the lack of arable land would fit more in developing areas because they are more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00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for tectonic activity would be better in developed areas because they have more money an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447920"/>
            <a:ext cx="35049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ucian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ddh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44792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viet Union started the pattern of Communism through many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5909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Communism spread from the Soviet Union to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Communism has spread through most of the continent, including South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5068800" y="190512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190512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 txBox="1"/>
          <p:nvPr/>
        </p:nvSpPr>
        <p:spPr>
          <a:xfrm>
            <a:off x="609480" y="16765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28800" y="2743200"/>
            <a:ext cx="22669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ra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752480" y="3352680"/>
            <a:ext cx="26384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ustrializ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40384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5105520"/>
            <a:ext cx="3690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Trading Rou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5638680"/>
            <a:ext cx="4410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Natural 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dzarosky</cp:lastModifiedBy>
  <dcterms:modified xsi:type="dcterms:W3CDTF">2009-04-27T03:37:38Z</dcterms:modified>
  <cp:revision>9</cp:revision>
  <dc:subject/>
  <dc:title>Slide 1</dc:title>
</cp:coreProperties>
</file>