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F7C-30E5-497F-A044-FB877DCD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BA2-7853-4958-8E1F-277FB5F4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8B9-886B-4AFA-B932-7CB6065A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4C1-1FBD-4145-B380-C1B90916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44EC-2AE7-4209-94DA-640EAE9D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8F28-2D0F-4941-8202-51A43C43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0372-94E2-4A43-8048-48F13000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06A3-1B73-4E9E-BE2A-3BA5C45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6F28-6D8C-4C7B-9133-9DF544EE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2741-EDCE-4CCF-8AD3-E3DD9CE5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A807-F002-4AB4-AD83-00266FC8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ABE-0D71-4CA1-BDDC-D6B41B1F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5B99-3BE6-4E7D-A387-5487D0EF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8714-ACB0-43C0-A447-7586C1F9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674E-C25C-4D7F-BE37-BBA54D5D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600B-3A00-48B6-8A17-1FAC932C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19F5-33D8-4B82-B408-7A6BD1C9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02920-7235-4377-B7B8-FBEF816D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D830D-906D-46BF-ADF9-14610E90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A3C4C-EB8B-4D75-9BEE-240D1A73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E3C4D-129A-446C-85C6-9C2B90F6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381A6-7E7F-4458-847C-0931A4E3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80B-D97B-45A4-80C0-E5DFABFB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BAFC4-BD25-48EC-B3E5-8E7F7AF1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A828F-776D-4892-A094-64148276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45DBA-7DD9-45A1-8ACB-70D99C26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6927B-5C67-424D-9F16-77238C30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75AE3-EF44-4EFD-9DF7-05845F72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86FAA-94EB-4645-8102-55C1361E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AD640-4328-4505-85B5-C14FF6A8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4174-43B1-4FD5-B840-AC08B7C9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EA5D-68DC-4CDB-99E4-04F1CC7D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D1BB-2F41-49FC-B7E8-0BB177E3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B5A-5674-4568-9EF9-F300655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F25B-8012-431C-805C-27C8ABCF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05D2-ED19-4E0B-AFCD-9F10D4D8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EBB6-12D9-4449-B9C7-923A2BD1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5732-123B-4CFF-9B41-10010A3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B29AF-06B3-4A0A-8B50-62F7374E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0F74D-A2C9-4F60-A66D-7774F81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4FED-34DA-4AF5-A0C9-9EB552CE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AD414-8696-4D95-8F84-583D9083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F07F-D280-4C25-8BA9-EAAE75F4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4FF-73EB-4A84-B5EF-FA615E3B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F96-C316-4CF2-82B6-F85AE43C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EDF-3DF6-4209-8786-1A104376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743-74DD-4A52-BE22-684F6131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E28-DD0E-4BF8-BB59-A226658B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2315-582D-4F93-BC64-75786A1DD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EC2F-E39A-4B7A-B9FC-365E26A710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5C14-E544-4AF5-9420-CAF6A12F70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06F8-D885-481B-B039-FEFCE68707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1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3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46483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s for the lack of arable land would fit more in developing areas because they are more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00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 for tectonic activity would be better in developed areas because they have more money and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41" name="Object 5"/>
          <p:cNvGraphicFramePr/>
          <p:nvPr/>
        </p:nvGraphicFramePr>
        <p:xfrm>
          <a:off x="4038480" y="2133720"/>
          <a:ext cx="47721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33720"/>
                    <a:ext cx="4772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447920"/>
            <a:ext cx="35049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fucian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ddh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 B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3657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v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144792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viet Union started the pattern of Communism through many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5909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Communism spread from the Soviet Union to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4956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441972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Communism has spread through most of the continent, including South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5068800" y="1905120"/>
          <a:ext cx="4075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8800" y="1905120"/>
                    <a:ext cx="407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 txBox="1"/>
          <p:nvPr/>
        </p:nvSpPr>
        <p:spPr>
          <a:xfrm>
            <a:off x="609480" y="16765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828800" y="2743200"/>
            <a:ext cx="22669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ra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752480" y="3352680"/>
            <a:ext cx="263844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ustrializ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40384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d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5105520"/>
            <a:ext cx="36907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Trading Rou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880" y="5638680"/>
            <a:ext cx="44103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Natural 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dzarosky</cp:lastModifiedBy>
  <dcterms:modified xsi:type="dcterms:W3CDTF">2009-04-27T03:37:38Z</dcterms:modified>
  <cp:revision>9</cp:revision>
  <dc:subject/>
  <dc:title>Slide 1</dc:title>
</cp:coreProperties>
</file>