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367A8-4420-4AB6-B065-2F2D7CC10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D87AC-E2C4-4577-984E-8935A9EF3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5DE47-303A-4019-862F-B0EC62052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8D4C9-6B8C-43F1-88CD-1955DF393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78854-88CE-4EC2-8B8A-484DD99AB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E8117-8CD8-468E-AEC8-EF5A56CF6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02F79-6BB7-4EBE-8518-788C2FE31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22549-EE51-4AA7-AE45-8DD09460E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E3D19-C5C1-47A2-BC60-71A961BFE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CF236-8B7D-43D2-A1E4-45EEACB67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BB86C-66E9-48A2-8B3F-87D2778B2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29C02-5F56-4CCA-AB0E-A7370F2FB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CD358-0D9B-466A-A42D-DEF1B012B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C0DEE-3F01-4120-B214-52B9427B7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CBA82-B822-47FF-B339-B0CFEB694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8266D-9790-4E94-BB1A-26DDE4748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6F70A-CE5B-4422-9484-A8843B0DF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0E52031-E371-4680-AABC-A7F255856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3C14D79-C9F9-4CAD-8CBB-7FCDD62DA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F4B85B6-FA8B-4AF2-8D76-BEDF8C5EA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35DA60-A3F7-4922-B247-D84EBF5EB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8D7A1CC-B331-4630-87B9-8857A6593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A9429-B48E-4106-A54C-C94E0E36A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04F4540-0660-40BE-8459-F5E193FE8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79D7776-A3A0-451D-8183-27DC23000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B0B1A8-F41C-4FB1-BB74-5C22B02CA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8D0D71-4850-42A6-96C2-06B1F0449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EC54F0E-D179-4E8C-8863-6AE698EEC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CFC5F36-607E-433D-A351-14F527F97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BB257F7-0ED2-4EB5-A8C0-14104B864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27CC4E-25B3-4FFC-9360-50D54737B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1D8C09-55C2-4C6F-ADEA-A1D58AA5D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E78670-4863-428B-A5F2-73C8E4ECB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A0D77-6EAE-4047-BBD2-421560DEA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51E8BD-9840-4FD0-AF98-8B1C804E1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34EA76-C85D-4D27-9BB1-A8641F57F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05A330-46D0-436E-A888-4F3C474F1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E30105-336A-4BF9-BE96-9F970073D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363BD6-3B04-4099-AE07-CFFCCBBFA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746740-D2ED-4CC4-8AB1-BA29050EE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FBB726-2F93-46B4-9C41-15F37DC4F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F6C7CB-ED8D-42A3-BE23-006DE5053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A06782-AABB-4A63-9E96-25F72FAB7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B1252-37DE-4876-84D6-BD2FBF533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F604F-A8A3-41FD-B2CB-CCF0D83C9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9DB64-EE0E-4389-807A-650D3C354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6CA27-1521-4A37-8F92-A3E4D36DD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97621-F80D-42E1-AEC7-0663D8D17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bf5"/>
            </a:gs>
            <a:gs pos="100000">
              <a:srgbClr val="55261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C6FB2-AB0A-4C2D-AF07-84827124BAD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bf5"/>
            </a:gs>
            <a:gs pos="100000">
              <a:srgbClr val="55261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3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24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5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ounded Rectangle 26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ounded Rectangle 40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41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42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43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44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A847B-8B27-45F7-819F-1684CCF18D1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bf5"/>
            </a:gs>
            <a:gs pos="100000">
              <a:srgbClr val="55261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B23B7-1F9F-4220-9940-BBA85477250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bf5"/>
            </a:gs>
            <a:gs pos="100000">
              <a:srgbClr val="55261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D17E0-A1D4-46A6-B19B-D975112BFCE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WordArt 4"/>
          <p:cNvSpPr txBox="1"/>
          <p:nvPr/>
        </p:nvSpPr>
        <p:spPr>
          <a:xfrm>
            <a:off x="1905120" y="380880"/>
            <a:ext cx="50101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East/Southeast Asia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28" name="WordArt 5"/>
          <p:cNvSpPr txBox="1"/>
          <p:nvPr/>
        </p:nvSpPr>
        <p:spPr>
          <a:xfrm>
            <a:off x="914400" y="4952880"/>
            <a:ext cx="2533680" cy="108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Peacock, Zarosky</a:t>
            </a:r>
            <a:endParaRPr b="0" lang="en-US" sz="20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ORSO</a:t>
            </a:r>
            <a:endParaRPr b="0" lang="en-US" sz="20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1st Period</a:t>
            </a:r>
            <a:endParaRPr b="0" lang="en-US" sz="20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April 23, 2009</a:t>
            </a:r>
            <a:endParaRPr b="0" lang="en-US" sz="20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229" name="Picture 10" descr="http://www.opendoorsusa.org/UserFiles/Image/Maps/SoutheastAsia_ODUSA_ministry_map.jpg"/>
          <p:cNvPicPr/>
          <p:nvPr/>
        </p:nvPicPr>
        <p:blipFill>
          <a:blip r:embed="rId1"/>
          <a:stretch/>
        </p:blipFill>
        <p:spPr>
          <a:xfrm>
            <a:off x="4038480" y="2743200"/>
            <a:ext cx="481032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bf5"/>
            </a:gs>
            <a:gs pos="100000">
              <a:srgbClr val="55261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WordArt 4"/>
          <p:cNvSpPr txBox="1"/>
          <p:nvPr/>
        </p:nvSpPr>
        <p:spPr>
          <a:xfrm>
            <a:off x="2438280" y="380880"/>
            <a:ext cx="37148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Physical Geography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31" name="Picture 5" descr="File:Southeast asia.jpg"/>
          <p:cNvPicPr/>
          <p:nvPr/>
        </p:nvPicPr>
        <p:blipFill>
          <a:blip r:embed="rId1"/>
          <a:stretch/>
        </p:blipFill>
        <p:spPr>
          <a:xfrm>
            <a:off x="4876920" y="1752480"/>
            <a:ext cx="3895560" cy="4453200"/>
          </a:xfrm>
          <a:prstGeom prst="rect">
            <a:avLst/>
          </a:prstGeom>
          <a:ln w="0">
            <a:noFill/>
          </a:ln>
        </p:spPr>
      </p:pic>
      <p:sp>
        <p:nvSpPr>
          <p:cNvPr id="232" name="TextBox 5"/>
          <p:cNvSpPr/>
          <p:nvPr/>
        </p:nvSpPr>
        <p:spPr>
          <a:xfrm>
            <a:off x="1066680" y="5715000"/>
            <a:ext cx="32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untains And Deserts contribute to China's isol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Box 6"/>
          <p:cNvSpPr/>
          <p:nvPr/>
        </p:nvSpPr>
        <p:spPr>
          <a:xfrm>
            <a:off x="1066680" y="4191120"/>
            <a:ext cx="2895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eat Wall of china is significant because it isolates china and keeps foreigners o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Box 7"/>
          <p:cNvSpPr/>
          <p:nvPr/>
        </p:nvSpPr>
        <p:spPr>
          <a:xfrm>
            <a:off x="1066680" y="2362320"/>
            <a:ext cx="27432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pan has adapted to the ring of fire by buildings on giant springs and a huge inner water free zo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WordArt 4"/>
          <p:cNvSpPr txBox="1"/>
          <p:nvPr/>
        </p:nvSpPr>
        <p:spPr>
          <a:xfrm>
            <a:off x="3886200" y="609480"/>
            <a:ext cx="75240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HEI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36" name="TextBox 4"/>
          <p:cNvSpPr/>
          <p:nvPr/>
        </p:nvSpPr>
        <p:spPr>
          <a:xfrm>
            <a:off x="914400" y="1828800"/>
            <a:ext cx="3657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blems Includ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ck of Arable 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ctonic A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6" descr="http://anthro.palomar.edu/subsistence/images/terraced_farm_fields.jpg"/>
          <p:cNvPicPr/>
          <p:nvPr/>
        </p:nvPicPr>
        <p:blipFill>
          <a:blip r:embed="rId3"/>
          <a:stretch/>
        </p:blipFill>
        <p:spPr>
          <a:xfrm>
            <a:off x="5334120" y="4038480"/>
            <a:ext cx="3485880" cy="243864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457200" y="464832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ifications for the lack of arable land would fit more in developing areas because they are more rur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952880" y="1600200"/>
            <a:ext cx="3886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ification for tectonic activity would be better in developed areas because they have more money and resourc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0047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WordArt 4"/>
          <p:cNvSpPr txBox="1"/>
          <p:nvPr/>
        </p:nvSpPr>
        <p:spPr>
          <a:xfrm>
            <a:off x="2971800" y="380880"/>
            <a:ext cx="266688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Populatio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graphicFrame>
        <p:nvGraphicFramePr>
          <p:cNvPr id="241" name="Object 5"/>
          <p:cNvGraphicFramePr/>
          <p:nvPr/>
        </p:nvGraphicFramePr>
        <p:xfrm>
          <a:off x="4038480" y="2133720"/>
          <a:ext cx="4772160" cy="330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2133720"/>
                    <a:ext cx="4772160" cy="330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43" name="Rectangle 5" descr=""/>
          <p:cNvPicPr/>
          <p:nvPr/>
        </p:nvPicPr>
        <p:blipFill>
          <a:blip r:embed="rId3"/>
          <a:stretch/>
        </p:blipFill>
        <p:spPr>
          <a:xfrm>
            <a:off x="-365040" y="2066760"/>
            <a:ext cx="4357440" cy="1146240"/>
          </a:xfrm>
          <a:prstGeom prst="rect">
            <a:avLst/>
          </a:prstGeom>
          <a:ln w="0">
            <a:noFill/>
          </a:ln>
        </p:spPr>
      </p:pic>
      <p:sp>
        <p:nvSpPr>
          <p:cNvPr id="244" name="TextBox 6"/>
          <p:cNvSpPr/>
          <p:nvPr/>
        </p:nvSpPr>
        <p:spPr>
          <a:xfrm>
            <a:off x="380880" y="3429000"/>
            <a:ext cx="3048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ngapore has under population problem. I feel the only one way you can solve this is to bribe people to have ki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WordArt 4"/>
          <p:cNvSpPr txBox="1"/>
          <p:nvPr/>
        </p:nvSpPr>
        <p:spPr>
          <a:xfrm>
            <a:off x="3505320" y="457200"/>
            <a:ext cx="1695240" cy="70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Religions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46" name="TextBox 4"/>
          <p:cNvSpPr/>
          <p:nvPr/>
        </p:nvSpPr>
        <p:spPr>
          <a:xfrm>
            <a:off x="3352680" y="4648320"/>
            <a:ext cx="55627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ddhism Video http://video.google.com/videosearch?imgsz=small%7Cmedium%7Clarge%7Cxlarge&amp;hl=en&amp;um=1&amp;q=buddhism&amp;ie=UTF-8&amp;sa=N&amp;tab=iv#imgsz=small%7Cmedium%7Clarge%7Cxlarge&amp;hl=en&amp;um=1&amp;q=buddhism&amp;ie=UTF-8&amp;sa=N&amp;tab=iv&amp;dur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33520" y="1447920"/>
            <a:ext cx="350496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Shinto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Confucianis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Buddhis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48" name=""/>
          <p:cNvSpPr/>
          <p:nvPr/>
        </p:nvSpPr>
        <p:spPr>
          <a:xfrm>
            <a:off x="4952880" y="144792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panese G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029200" y="266688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al Beli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105520" y="365760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rva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f7f7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WordArt 4"/>
          <p:cNvSpPr txBox="1"/>
          <p:nvPr/>
        </p:nvSpPr>
        <p:spPr>
          <a:xfrm>
            <a:off x="2971800" y="304920"/>
            <a:ext cx="23716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ommunism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2" name=""/>
          <p:cNvSpPr/>
          <p:nvPr/>
        </p:nvSpPr>
        <p:spPr>
          <a:xfrm>
            <a:off x="228600" y="1447920"/>
            <a:ext cx="32004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oviet Union started the pattern of Communism through many countr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895480" y="2590920"/>
            <a:ext cx="27432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idea of Communism spread from the Soviet Union to Chin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172200" y="4495680"/>
            <a:ext cx="2743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334120" y="4419720"/>
            <a:ext cx="35049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, Communism has spread through most of the continent, including South East As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WordArt 4"/>
          <p:cNvSpPr txBox="1"/>
          <p:nvPr/>
        </p:nvSpPr>
        <p:spPr>
          <a:xfrm>
            <a:off x="3200400" y="609480"/>
            <a:ext cx="18511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Economic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graphicFrame>
        <p:nvGraphicFramePr>
          <p:cNvPr id="257" name="Object 5"/>
          <p:cNvGraphicFramePr/>
          <p:nvPr/>
        </p:nvGraphicFramePr>
        <p:xfrm>
          <a:off x="5068800" y="1905120"/>
          <a:ext cx="407520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68800" y="1905120"/>
                    <a:ext cx="40752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9" name=""/>
          <p:cNvSpPr txBox="1"/>
          <p:nvPr/>
        </p:nvSpPr>
        <p:spPr>
          <a:xfrm>
            <a:off x="609480" y="1676520"/>
            <a:ext cx="1447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Good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1828800" y="2743200"/>
            <a:ext cx="2266920" cy="24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Infrastructur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1752480" y="3352680"/>
            <a:ext cx="2638440" cy="24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Industrializatio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85800" y="4038480"/>
            <a:ext cx="11145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Bad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762120" y="5105520"/>
            <a:ext cx="3690720" cy="32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No Trading Route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80880" y="5638680"/>
            <a:ext cx="4410360" cy="3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No Natural Resource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3T12:40:23Z</dcterms:created>
  <dc:creator>cfisd</dc:creator>
  <dc:description/>
  <dc:language>en-US</dc:language>
  <cp:lastModifiedBy>dzarosky</cp:lastModifiedBy>
  <dcterms:modified xsi:type="dcterms:W3CDTF">2009-04-27T03:37:38Z</dcterms:modified>
  <cp:revision>9</cp:revision>
  <dc:subject/>
  <dc:title>Slide 1</dc:title>
</cp:coreProperties>
</file>