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3648-B5D1-4655-8277-3FE65E1A6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F5E-7152-4D6E-A28B-885B6A53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B55-44F2-4DBC-9E5C-AD1A1451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7049-0991-4E1E-9A57-8CB72EB97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D5435-0D88-4AA5-81D0-20B65B80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49FC-62B1-4A67-BDC3-593B90EE7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FB40-F77B-4548-824F-1C562CDE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DC276-19A9-41CF-A718-4B62F385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08C9-895C-4C87-981E-2B159F52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0EF31-9457-4976-9FE4-235B1B866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7376-B7D1-4706-9576-EF9D456F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91A2-59F4-4D23-A754-44EE7B7A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BF5DA-2CFD-4719-BEE3-D2DE48763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B889D-74E9-4D26-993F-351EB11E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2E86A-6783-4276-8D7D-EAE480AFE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A9696-BAFB-4872-ABA1-EDF9DD9F1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9B402-CF3B-4A67-92FA-48BB146B2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84295B-BDAD-442F-82A8-3A67C7133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DE7609-BCE9-4CF1-BA60-22FE868C6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E444F7-1BB2-4E9D-AB50-64C6A066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BF0F5-2B56-4901-9518-83EBA8D90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B46F36-28E4-443F-BBB7-0475E150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4EF7-06F6-412D-9229-48E6C35F9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DD194-23DF-4CEE-A603-CF0F9E99C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F6A112-2282-44B3-91A9-F6DE16D2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C320D-F7EA-4665-88F2-492CE9073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50F997-7410-47BF-A92D-3EA17C2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0A0C34-5698-47FD-9607-F357D5DD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7FCBBD-9D82-4AAA-A0FE-27B1F336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68EB32-535B-4F73-997A-776937EBD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8C6674-6FE7-4DD2-82D4-AD9C16855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A828A-E47E-4EA5-B346-7211DEB91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F3544-B29E-4D61-96AE-57BDC00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6A6C-7D67-47D1-983E-145D24B56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8C767-4BE2-45FC-A160-24199223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B7B6B6-AF8C-4FF5-97D4-4ED0EB0C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03C5F-4CA0-4277-94CA-EE33DB92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B98DB-9C0E-407F-8C7A-A54AFB278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426B44-5AC3-4B42-8503-583B31BF0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05DC5-F5DE-4C34-8F2A-2F2A22634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7DE1F-3712-40D9-AD2C-EBF99502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B8E91-C698-4C27-94F6-166F5E181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902A3D-6CE1-4809-B7E6-322477CB5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DA0C-1C9F-4F18-B21E-85515B7DA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B1BB-9341-44B6-A400-2892E9BD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9A1C-267E-46C8-9EE1-FB366D84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FDA1-91CF-4CD9-9607-A91193B4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1E0E-48D8-408F-8546-8400EA9F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0359-012D-436D-B5EE-1E3F83374EA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72641-9D05-48E4-B9A5-05B8AFB6857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C0C6A-BA20-4CF2-AB55-1BA174BCFA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B688-16E9-4B99-B804-29B32C26B28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39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1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47" name="Object 5"/>
          <p:cNvGraphicFramePr/>
          <p:nvPr/>
        </p:nvGraphicFramePr>
        <p:xfrm>
          <a:off x="4800600" y="160020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60020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WordArt 4"/>
          <p:cNvSpPr txBox="1"/>
          <p:nvPr/>
        </p:nvSpPr>
        <p:spPr>
          <a:xfrm>
            <a:off x="3429000" y="533520"/>
            <a:ext cx="2019240" cy="104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Conclusion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4"/>
          <p:cNvSpPr txBox="1"/>
          <p:nvPr/>
        </p:nvSpPr>
        <p:spPr>
          <a:xfrm>
            <a:off x="3352680" y="380880"/>
            <a:ext cx="21430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Conclus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Benita Peacock</cp:lastModifiedBy>
  <dcterms:modified xsi:type="dcterms:W3CDTF">2009-04-23T23:28:21Z</dcterms:modified>
  <cp:revision>7</cp:revision>
  <dc:subject/>
  <dc:title>Slide 1</dc:title>
</cp:coreProperties>
</file>