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F79-2980-495F-BD33-C5689A1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09A-5FAA-4EBE-A08D-EE9FEAFA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C9B-10CB-49A2-A4D7-8956A3C2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0A0-E5F0-4B3E-B609-112BC176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2CA5-DF4B-4B1D-AA27-0890A900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F025-4EB1-4004-9C48-DAAD10E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A355-C155-4BE5-BEFB-F0FB0745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4BA-AF19-4D1C-A811-8CB6822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79C-FAD3-471E-9F8D-5740242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A4A2-E4BB-42FA-8E33-9204EE7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556E-8DE0-4370-9324-DDC8780C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7C0-3F66-42AD-9B19-AA71F412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329D-9D7C-4FAB-9104-E0759A4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9F45-E05B-49FC-BF3C-794BD67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C83-1599-4568-B76B-A9DF8EA8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B1F5-7519-4184-B1F6-5D004644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EC3-51DA-4EE3-A603-EE9BDBFB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1416A-AF16-4AAC-88AA-9DAC4BFF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7EB01-4218-41E6-A391-D2905CC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4609C-5BEC-4795-9844-ADDA3E3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39176-8C2D-45A9-BBED-3B14B139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F8012-7E48-4EE8-ACA2-2E23541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A8C-93FD-4919-BFC9-E8B4B128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34680-549D-4A7F-BB6E-F97EB74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07378-2E75-4E0D-95FF-C71A166D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C0703-A20F-4D5B-937A-1B1026F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218E5-616F-4F14-BE01-6FA83A3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8B8B9-D6EA-4791-9436-AF7DBF5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3314A-66B7-4A17-9C0C-47032184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A0E43-EAE2-41E1-AA23-E3BFBC6C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2564-59D1-4405-BC79-6CE5A081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F54F6-7C6A-4E1D-9FB8-5683DE4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057A-8629-419E-A3E2-A626726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F73-115A-47D6-B190-1FAA770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FE3F-F69C-4375-AFAC-DB56069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3ABD-71E4-4401-B5AD-68E341E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19D6-CBCC-40E8-97BE-9C7A651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7D09-72FD-4B6C-838D-3251B91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A8C8-4359-45EB-B857-0843840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4FE9-0B1B-444C-B211-EF24981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9DBC-6A77-46C0-8D6D-002D51E6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623F-62C2-404D-B808-B55B8970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E875-2744-4175-BFEE-F966955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419-ADBC-46C1-A9F8-7D3160F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565-6773-44EC-8E51-81D79BA4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1AA-C150-454E-886C-F8C78DCB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D692-1A8D-4311-9D85-A358E482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673-DDDC-4B70-9409-D94F1E8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9B00-987A-488D-883A-F015B0582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719E-0AF3-49A0-8DB0-C4DFA684C7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A960-B909-46B5-8EF7-5B42EFA3CE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953D-73BC-4669-B406-CB1106E92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4800600" y="160020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3352680" y="38088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Benita Peacock</cp:lastModifiedBy>
  <dcterms:modified xsi:type="dcterms:W3CDTF">2009-04-23T23:28:21Z</dcterms:modified>
  <cp:revision>7</cp:revision>
  <dc:subject/>
  <dc:title>Slide 1</dc:title>
</cp:coreProperties>
</file>