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BC3-4707-4CCB-9F44-E7CD4F52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4C7-767E-4CC4-B5AC-886A922F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ABDB-C3FC-40CA-83E6-97BC6486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ECB-3B06-43A0-A00A-DCD309BE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29FB-99F1-4BD7-992C-848008D8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1731-47B9-4BD5-916A-B44604C0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3205-F56F-4D4B-958C-9C6D1D69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E976-8D89-4BF8-B4C8-B289F13F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29E9-EA15-46CD-A543-8B80D98A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0EB2-DD2B-47AB-AE44-FFD5EE64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BFE0-990C-4D72-8E33-C45FED2A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71B-A3AD-40DE-B1F1-0FB3196A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F6F6-B594-4E24-8F8C-CA132B87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CD74-56A6-4639-B85D-EE3D1728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5CF8-6122-4FB9-83C3-3ADB2E1B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9F01-E053-47FE-A94F-99E6EC77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63EC-CDB0-4391-BE0E-8CD5EB3A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D8F39-0E52-4AC4-9D5A-4536CE43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84CE6-4D07-4FD5-BEE5-30723C1E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414DA-3CCC-4AE3-B532-20749180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AB961-4DE0-431B-8F44-F81B0F9A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17C1F-134B-465B-B253-4F524AD5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64E-5BC5-4555-A3BE-F1CA091D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43AA6-7564-4193-8954-C351DC0B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99A4A-3B04-495F-AE80-1E807312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82A87-6256-4E90-A2AB-7B6CA2D3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3EA7B-ED7E-4DBF-9680-895BC0E9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143E2-DD87-4024-97E9-456E627F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85ECE-9075-435B-84E1-4A7F2245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217699-61DA-472C-88B6-E433D7D5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949CE-CC6F-4351-8028-9456441E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38252-275D-4FDD-AC44-089E580D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6C497-97A7-4C77-8567-D809A8DC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735B-2268-47BF-91A9-D7B926A3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44F51-C05D-4A13-BD2F-DCADA693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9EC40-413F-4D60-A381-0995DD12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6D3DF-EC11-467E-9079-D40D219B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AFF96-0E90-4325-9C49-FA5DE29C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36988-6830-4EE6-8278-348E46FC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1BA54-EFA1-4CC8-8DE3-57C36002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659EB-77A5-4817-A8A9-96FAD654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0697F-4F94-4CA5-91B2-CB92E144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C2159-4455-4D3F-9438-191A80AB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01F-F8F6-4D89-A966-A2EBEB83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38A-7751-455F-8D0D-0A59FEB7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43C-E962-447C-A103-BB634987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B58-7C15-474D-844D-BBAA4293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EBD7-20F6-4017-817B-96F14219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5E5D-6035-446A-99EE-7E0313169F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BFCC-D327-4BA7-9DDE-A5EF85E909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E766-1CF5-428E-93D9-8BFE20B1B5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7A00-68F6-4AC0-BA94-1C999C7FB4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1905120" y="380880"/>
            <a:ext cx="5010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ast/Southeast Asi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914400" y="4952880"/>
            <a:ext cx="25336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acock, Zarosky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SO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st Period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pril 23, 2009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9" name="Picture 10" descr="http://www.opendoorsusa.org/UserFiles/Image/Maps/SoutheastAsia_ODUSA_ministry_map.jpg"/>
          <p:cNvPicPr/>
          <p:nvPr/>
        </p:nvPicPr>
        <p:blipFill>
          <a:blip r:embed="rId1"/>
          <a:stretch/>
        </p:blipFill>
        <p:spPr>
          <a:xfrm>
            <a:off x="4038480" y="2743200"/>
            <a:ext cx="4810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2438280" y="380880"/>
            <a:ext cx="3714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hysical Geograph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1" name="Picture 5" descr="File:Southeast asia.jpg"/>
          <p:cNvPicPr/>
          <p:nvPr/>
        </p:nvPicPr>
        <p:blipFill>
          <a:blip r:embed="rId1"/>
          <a:stretch/>
        </p:blipFill>
        <p:spPr>
          <a:xfrm>
            <a:off x="4876920" y="1752480"/>
            <a:ext cx="3895560" cy="44532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5"/>
          <p:cNvSpPr/>
          <p:nvPr/>
        </p:nvSpPr>
        <p:spPr>
          <a:xfrm>
            <a:off x="1066680" y="5715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ains And Deserts contribute to China's iso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066680" y="41911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eat Wall of china is significant because it isolates china and keeps foreigners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06668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 has adapted to the ring of fire by buildings on giant springs and a huge inner water free z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4"/>
          <p:cNvSpPr txBox="1"/>
          <p:nvPr/>
        </p:nvSpPr>
        <p:spPr>
          <a:xfrm>
            <a:off x="3886200" y="609480"/>
            <a:ext cx="752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E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914400" y="18288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Arable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tonic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http://anthro.palomar.edu/subsistence/images/terraced_farm_fields.jpg"/>
          <p:cNvPicPr/>
          <p:nvPr/>
        </p:nvPicPr>
        <p:blipFill>
          <a:blip r:embed="rId3"/>
          <a:stretch/>
        </p:blipFill>
        <p:spPr>
          <a:xfrm>
            <a:off x="5334120" y="4038480"/>
            <a:ext cx="3485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2971800" y="380880"/>
            <a:ext cx="2666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pul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239" name="Object 5"/>
          <p:cNvGraphicFramePr/>
          <p:nvPr/>
        </p:nvGraphicFramePr>
        <p:xfrm>
          <a:off x="4038480" y="2133720"/>
          <a:ext cx="477216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133720"/>
                    <a:ext cx="477216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" name="Rectangle 5" descr=""/>
          <p:cNvPicPr/>
          <p:nvPr/>
        </p:nvPicPr>
        <p:blipFill>
          <a:blip r:embed="rId3"/>
          <a:stretch/>
        </p:blipFill>
        <p:spPr>
          <a:xfrm>
            <a:off x="-365040" y="2066760"/>
            <a:ext cx="4357440" cy="11462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6"/>
          <p:cNvSpPr/>
          <p:nvPr/>
        </p:nvSpPr>
        <p:spPr>
          <a:xfrm>
            <a:off x="380880" y="342900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apore has under population problem. I feel the only one way you can solve this is to bribe people to have k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3505320" y="457200"/>
            <a:ext cx="1695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elig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3352680" y="4648320"/>
            <a:ext cx="556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dhism Video http://video.google.com/videosearch?imgsz=small%7Cmedium%7Clarge%7Cxlarge&amp;hl=en&amp;um=1&amp;q=buddhism&amp;ie=UTF-8&amp;sa=N&amp;tab=iv#imgsz=small%7Cmedium%7Clarge%7Cxlarge&amp;hl=en&amp;um=1&amp;q=buddhism&amp;ie=UTF-8&amp;sa=N&amp;tab=iv&amp;dur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4"/>
          <p:cNvSpPr txBox="1"/>
          <p:nvPr/>
        </p:nvSpPr>
        <p:spPr>
          <a:xfrm>
            <a:off x="2971800" y="304920"/>
            <a:ext cx="237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un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4"/>
          <p:cNvSpPr txBox="1"/>
          <p:nvPr/>
        </p:nvSpPr>
        <p:spPr>
          <a:xfrm>
            <a:off x="3200400" y="609480"/>
            <a:ext cx="1851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conomic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47" name="Object 5"/>
          <p:cNvGraphicFramePr/>
          <p:nvPr/>
        </p:nvGraphicFramePr>
        <p:xfrm>
          <a:off x="4800600" y="1600200"/>
          <a:ext cx="4075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00200"/>
                    <a:ext cx="4075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4"/>
          <p:cNvSpPr txBox="1"/>
          <p:nvPr/>
        </p:nvSpPr>
        <p:spPr>
          <a:xfrm>
            <a:off x="3429000" y="533520"/>
            <a:ext cx="2019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clusi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WordArt 4"/>
          <p:cNvSpPr txBox="1"/>
          <p:nvPr/>
        </p:nvSpPr>
        <p:spPr>
          <a:xfrm>
            <a:off x="3352680" y="380880"/>
            <a:ext cx="214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nclu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40:23Z</dcterms:created>
  <dc:creator>cfisd</dc:creator>
  <dc:description/>
  <dc:language>en-US</dc:language>
  <cp:lastModifiedBy>Benita Peacock</cp:lastModifiedBy>
  <dcterms:modified xsi:type="dcterms:W3CDTF">2009-04-23T23:28:21Z</dcterms:modified>
  <cp:revision>7</cp:revision>
  <dc:subject/>
  <dc:title>Slide 1</dc:title>
</cp:coreProperties>
</file>