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77CA-95FF-43BA-903F-90B476877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B640-0F56-4A89-9EB5-9CBCC727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6D84-99F8-4CAB-9E6D-288B7F21B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BF3-A312-4C4A-8B39-14853259D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4421-3362-4B15-82D1-EFF66719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4B84-A243-436A-8F39-0C0391DD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F2A6-9AE5-4CE5-9263-D4B328D0A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DAA2-29A4-4AA7-A670-50A37206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B3FA1-2FDA-4193-B16C-8FA47C8DF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20576-6252-4105-A04D-ADAA01AB2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A0D8-46C8-40B3-9E26-0B55B640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016F-DBCB-4F08-A3BE-F792A27BA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F1913-FE94-4B11-BCFF-0AC074A6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9DC69-D261-4707-8EF9-01604D76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FB707-B4D5-4E32-BFB5-EF8D9216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3FA0-D4DD-405E-BC14-5CF01D6A8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F867-0DCB-4431-8C57-7DF048B06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832130-B891-4785-B538-3B0B8DE06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736A28-42DC-4AE1-BE94-399E200D1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17DD03-2A24-4C9D-830B-DB46CBA96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C96ED3-E0E3-4F3B-95CD-170D3691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5C670E-A7EA-41B8-95FE-739749F96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5C51-A546-4F4C-B245-0F2F18D1D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F72437-1514-4562-A465-3027E91A5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6B088A-93DB-4AE0-893D-5DD9FB364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454862-90C7-453B-9FBF-76513193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936CE5-EA18-40BD-AA11-044F4243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2E0E2E-19A5-4386-A191-61CA158E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456320-A118-4A8F-90D3-4EBB39E84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4B7B40-DB98-421D-864F-1812CFD8A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A6FD25-E80B-4F3B-9DEB-6DF541884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700F1-FF1F-4162-80D4-C74F8870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69B60-8FB9-490A-88BE-02A2EA23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F040-D1FA-47A0-B5D4-29CDF4EBB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03125-BF5D-4E0F-B170-F435661F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29106-49DF-4731-94E2-8BF8FDF03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52A34-7CBB-4F22-B0B7-96C3F181A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1F816-32A1-4E81-8D05-6623EDE11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71AE16-956A-45EF-9C11-A8FB7EDD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F74DD-7340-4C78-AFB2-ECB5554D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936F83-58B5-44DB-A77A-0A696359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8BA4A-8834-49B3-AD51-6158E7F7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07F04-359B-4932-B2E8-3A7E11F3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A7D5-489E-40E3-A311-5535D60E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F007-268A-4654-841F-CAB5CFA5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9013-B6D6-4B62-8467-B5EF48AD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5277-90A3-46CD-A0FE-070722B7B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5C38-9004-4A75-8441-36F256FC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8E628-62FF-482A-BDDB-396AA40EF98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80D95-5E8E-4976-BC5B-3D7069E3E2C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64F3F-A533-44BD-B55E-4F1B3B90025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9350-60DA-41F9-8D44-51C68664CF3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1905120" y="380880"/>
            <a:ext cx="5010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ast/Southeast Asi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914400" y="4952880"/>
            <a:ext cx="25336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eacock, Zarosky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SO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st Period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pril 23, 2009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29" name="Picture 10" descr="http://www.opendoorsusa.org/UserFiles/Image/Maps/SoutheastAsia_ODUSA_ministry_map.jpg"/>
          <p:cNvPicPr/>
          <p:nvPr/>
        </p:nvPicPr>
        <p:blipFill>
          <a:blip r:embed="rId1"/>
          <a:stretch/>
        </p:blipFill>
        <p:spPr>
          <a:xfrm>
            <a:off x="4038480" y="2743200"/>
            <a:ext cx="4810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2438280" y="380880"/>
            <a:ext cx="3714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hysical Geograph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1" name="Picture 5" descr="File:Southeast asia.jpg"/>
          <p:cNvPicPr/>
          <p:nvPr/>
        </p:nvPicPr>
        <p:blipFill>
          <a:blip r:embed="rId1"/>
          <a:stretch/>
        </p:blipFill>
        <p:spPr>
          <a:xfrm>
            <a:off x="4876920" y="1752480"/>
            <a:ext cx="3895560" cy="44532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5"/>
          <p:cNvSpPr/>
          <p:nvPr/>
        </p:nvSpPr>
        <p:spPr>
          <a:xfrm>
            <a:off x="1066680" y="5715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ains And Deserts contribute to China's iso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066680" y="41911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eat Wall of china is significant because it isolates china and keeps foreigners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106668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 has adapted to the ring of fire by buildings on giant springs and a huge inner water free z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4"/>
          <p:cNvSpPr txBox="1"/>
          <p:nvPr/>
        </p:nvSpPr>
        <p:spPr>
          <a:xfrm>
            <a:off x="3886200" y="609480"/>
            <a:ext cx="752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EI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914400" y="18288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Arable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tonic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http://anthro.palomar.edu/subsistence/images/terraced_farm_fields.jpg"/>
          <p:cNvPicPr/>
          <p:nvPr/>
        </p:nvPicPr>
        <p:blipFill>
          <a:blip r:embed="rId3"/>
          <a:stretch/>
        </p:blipFill>
        <p:spPr>
          <a:xfrm>
            <a:off x="5334120" y="4038480"/>
            <a:ext cx="34858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2971800" y="380880"/>
            <a:ext cx="2666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opul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239" name="Object 5"/>
          <p:cNvGraphicFramePr/>
          <p:nvPr/>
        </p:nvGraphicFramePr>
        <p:xfrm>
          <a:off x="4038480" y="2133720"/>
          <a:ext cx="477216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133720"/>
                    <a:ext cx="477216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1" name="Rectangle 5" descr=""/>
          <p:cNvPicPr/>
          <p:nvPr/>
        </p:nvPicPr>
        <p:blipFill>
          <a:blip r:embed="rId3"/>
          <a:stretch/>
        </p:blipFill>
        <p:spPr>
          <a:xfrm>
            <a:off x="-365040" y="2066760"/>
            <a:ext cx="4357440" cy="11462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6"/>
          <p:cNvSpPr/>
          <p:nvPr/>
        </p:nvSpPr>
        <p:spPr>
          <a:xfrm>
            <a:off x="380880" y="3429000"/>
            <a:ext cx="304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apore has under population problem. I feel the only one way you can solve this is to bribe people to have k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4"/>
          <p:cNvSpPr txBox="1"/>
          <p:nvPr/>
        </p:nvSpPr>
        <p:spPr>
          <a:xfrm>
            <a:off x="3505320" y="457200"/>
            <a:ext cx="16952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eligio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3352680" y="4648320"/>
            <a:ext cx="556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dhism Video http://video.google.com/videosearch?imgsz=small%7Cmedium%7Clarge%7Cxlarge&amp;hl=en&amp;um=1&amp;q=buddhism&amp;ie=UTF-8&amp;sa=N&amp;tab=iv#imgsz=small%7Cmedium%7Clarge%7Cxlarge&amp;hl=en&amp;um=1&amp;q=buddhism&amp;ie=UTF-8&amp;sa=N&amp;tab=iv&amp;dur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4"/>
          <p:cNvSpPr txBox="1"/>
          <p:nvPr/>
        </p:nvSpPr>
        <p:spPr>
          <a:xfrm>
            <a:off x="2971800" y="304920"/>
            <a:ext cx="237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un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4"/>
          <p:cNvSpPr txBox="1"/>
          <p:nvPr/>
        </p:nvSpPr>
        <p:spPr>
          <a:xfrm>
            <a:off x="3200400" y="609480"/>
            <a:ext cx="1851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conomic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47" name="Object 5"/>
          <p:cNvGraphicFramePr/>
          <p:nvPr/>
        </p:nvGraphicFramePr>
        <p:xfrm>
          <a:off x="4800600" y="1600200"/>
          <a:ext cx="4075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00200"/>
                    <a:ext cx="4075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4"/>
          <p:cNvSpPr txBox="1"/>
          <p:nvPr/>
        </p:nvSpPr>
        <p:spPr>
          <a:xfrm>
            <a:off x="3429000" y="533520"/>
            <a:ext cx="2019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clusio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WordArt 4"/>
          <p:cNvSpPr txBox="1"/>
          <p:nvPr/>
        </p:nvSpPr>
        <p:spPr>
          <a:xfrm>
            <a:off x="3352680" y="380880"/>
            <a:ext cx="214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onclu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40:23Z</dcterms:created>
  <dc:creator>cfisd</dc:creator>
  <dc:description/>
  <dc:language>en-US</dc:language>
  <cp:lastModifiedBy>Benita Peacock</cp:lastModifiedBy>
  <dcterms:modified xsi:type="dcterms:W3CDTF">2009-04-23T23:28:21Z</dcterms:modified>
  <cp:revision>7</cp:revision>
  <dc:subject/>
  <dc:title>Slide 1</dc:title>
</cp:coreProperties>
</file>