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C1B-AE27-4149-8FDC-023229F3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381-5ADE-4D99-8AEF-7BCE93A6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506-426C-4410-B43F-5198F51B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C71-782A-438C-88F5-F8583744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2E0-AC2F-46F9-B59F-409DAC51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A62-7CE8-4787-AABB-C2D50BF4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2BC-FEC5-4ADE-89FC-0B45D352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D80-5AC4-497A-A30C-54E9FAD9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C1D-EE00-4CE1-AB11-A781E224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2031-075D-450A-9FE3-00BC668D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0B3-D6A0-481F-94C8-AEC3369A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121A-B406-4B10-A1E7-68C1455F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81DA-5304-4352-869B-9094AB58F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East and East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y Lu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th Ev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al Geography of East/Southea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features: Mountains, O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Significance of Great Wall of China: Wanted to keep barbarians out, kept China even more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of terraced farming: Makes more land arable by farming on a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ese adaptations: Skyscrapers on gyroscopes and earthquake, tsunami dr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Environment Interaction in Southeast/ Ea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: Lack of arable land and tectonic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arable land: Terraced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tonic activity: Strict building codes, disaster drills, skyscrapers on gy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3:11:16Z</dcterms:created>
  <dc:creator>cfisd</dc:creator>
  <dc:description/>
  <dc:language>en-US</dc:language>
  <cp:lastModifiedBy>cfisd</cp:lastModifiedBy>
  <dcterms:modified xsi:type="dcterms:W3CDTF">2009-04-21T13:17:21Z</dcterms:modified>
  <cp:revision>2</cp:revision>
  <dc:subject/>
  <dc:title>South East and East Asia</dc:title>
</cp:coreProperties>
</file>