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C34F-F85F-434F-93C6-5964AAAD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6F28-80A3-49FB-8E56-4098548D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C3F3-BBBB-4599-8F5B-7726792A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C29-C16E-42E2-9A00-FC4024471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5481-852C-4B3B-B785-AE1525EA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B9DC-ECA8-425C-BC68-81E1DB9C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884C-E77C-424D-A6AA-5D9561E9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22B-E8EF-423F-98F7-2BE0564D2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015-047E-473D-ABA0-284225AF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1013-3D70-4B13-89E0-9BCE56CB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AA9-A31B-4BB4-8D84-D541065E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A300-4308-47EB-85BF-05203963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C826-DFD9-48AC-A79C-A59FE0A80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 East and East A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y Lu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eth Ev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ysical Geography of East/Southea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features: Mountains, Oc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ical Significance of Great Wall of China: Wanted to keep barbarians out, kept China even more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 of terraced farming: Makes more land arable by farming on a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adaptations: Skyscrapers on gyroscopes and earthquake, tsunami dr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man Environment Interaction in Southeast/ Ea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: Lack of arable land and tectonic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arable land: Terraced fa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tonic activity: Strict building codes, disaster drills, skyscrapers on gy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3:11:16Z</dcterms:created>
  <dc:creator>cfisd</dc:creator>
  <dc:description/>
  <dc:language>en-US</dc:language>
  <cp:lastModifiedBy>cfisd</cp:lastModifiedBy>
  <dcterms:modified xsi:type="dcterms:W3CDTF">2009-04-21T13:17:21Z</dcterms:modified>
  <cp:revision>2</cp:revision>
  <dc:subject/>
  <dc:title>South East and East Asia</dc:title>
</cp:coreProperties>
</file>