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A241-531B-48D2-9FDC-12A82B24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74D7-2CBC-40ED-91E1-9CC575B9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476-1499-4706-B2B6-4EA3932E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F3C-8BE3-4B84-98C5-454BE687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B09C-7FBC-43E6-8037-B3BDAF1F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78C3-699D-408C-87FB-A04BBCCD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73E-C5FC-41F1-9130-7B449E2C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CB29-FD57-4D1A-A19A-713607AC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DA2-91B4-4294-91E7-FFD4383D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07F-C3D9-473D-8EEE-FFC133375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4B9C-4645-4BBA-BB6E-BA1B5143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3834-E037-4657-AECC-25424FA1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26E5-7681-4060-9A17-8B9A2DFB3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 East and East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y Lu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th Ev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ysical Geography of East/Southeast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features: Mountains, O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Significance of Great Wall of China: Wanted to keep barbarians out, kept China even more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of terraced farming: Makes more land arable by farming on a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ese adaptations: Skyscrapers on gyroscopes and earthquake, tsunami dr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an Environment Interaction in Southeast/ East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: Lack of arable land and tectonic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arable land: Terraced 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tonic activity: Strict building codes, disaster drills, skyscrapers on gy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3:11:16Z</dcterms:created>
  <dc:creator>cfisd</dc:creator>
  <dc:description/>
  <dc:language>en-US</dc:language>
  <cp:lastModifiedBy>cfisd</cp:lastModifiedBy>
  <dcterms:modified xsi:type="dcterms:W3CDTF">2009-04-21T13:17:21Z</dcterms:modified>
  <cp:revision>2</cp:revision>
  <dc:subject/>
  <dc:title>South East and East Asia</dc:title>
</cp:coreProperties>
</file>