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F57-AE96-4C1F-94F2-D4930959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C1D-AC2C-4516-948D-836A84D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C91-1DA9-4EF9-B8AC-052CA5C3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F80-C8EE-44F3-935E-3B39CCE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5E3-CABD-4878-94C0-DBFA779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239-C632-4456-A843-0C3C6A4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274-A9BC-4C32-ADDF-DF67820A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283-051D-46AC-999F-B2077EB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6F0-B1BF-4E73-A50F-C7BC2F9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5B8-E3BA-45FD-9BBB-4C6D5F2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8C4-84CA-44A7-8E1C-833BA9B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93A-CEAB-463D-9C4D-1AF0FD7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08F1-6468-4BE6-87AA-E2FBFF6B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East and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 of East/South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eatures: Mountains,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Great Wall of China: Wanted to keep barbarians out, kept China even more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terraced farming: Makes more land arable by farming on a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adaptations: Skyscrapers on gyroscopes and earthquake, tsunami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Environment Interaction in Southeast/ 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 Lack of arable land and tecton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: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: Strict building codes, disaster drills, skyscrapers on gy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11:16Z</dcterms:created>
  <dc:creator>cfisd</dc:creator>
  <dc:description/>
  <dc:language>en-US</dc:language>
  <cp:lastModifiedBy>cfisd</cp:lastModifiedBy>
  <dcterms:modified xsi:type="dcterms:W3CDTF">2009-04-21T13:17:21Z</dcterms:modified>
  <cp:revision>2</cp:revision>
  <dc:subject/>
  <dc:title>South East and East Asia</dc:title>
</cp:coreProperties>
</file>