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6575-0AB1-45E4-8CD4-EED69584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9AF5-5C73-46B3-98B7-ED84E31C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966-9862-4367-90B1-E994DE80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AA3-BF2F-436D-98E7-03AA93F7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4CD-7F18-473E-BFE3-BE16B91C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CF1A-C37A-481B-82C5-699841C6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913-4981-4750-8296-09E5D138D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209-0519-4AED-82E2-EFD90E18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6104-20A3-4556-B631-AF1D55A0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D819-8E0A-4F56-9B13-5780A87C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62BF-3404-4304-9166-3C9F3EA0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FCD-83B6-4D5D-BA7E-CB559289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CC9E-22BB-4B5A-AAA9-B9D987259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 Earth Cut-Away Bo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outh Asia you have the option of completing a traditional map on paper or the Google Earth assignmen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Credit will be given to students who complete bo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kis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nglad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odies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Indian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anges R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ay of Beng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fo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a placemark that identifies each of the following 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significance of each land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and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t. Ev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Western Ghats (How does these mountains play a role in the monso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astern Ghats (How does these mountains play a role in the monsoons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placemark that includes a cut-away box for each of the follow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-Away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reate a cut-away box explaining the social importance of the Ganges River to the people of South Asia (p. 5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Create a cut-away box explaining the importance of the Himalayan Mountains (p. 5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reate a cut-away box explaining the reason for the conflict in Kashmir (p. 57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39:53Z</dcterms:created>
  <dc:creator>CFISD</dc:creator>
  <dc:description/>
  <dc:language>en-US</dc:language>
  <cp:lastModifiedBy>CFISD</cp:lastModifiedBy>
  <dcterms:modified xsi:type="dcterms:W3CDTF">2009-03-09T12:42:40Z</dcterms:modified>
  <cp:revision>1</cp:revision>
  <dc:subject/>
  <dc:title>Google Earth Cut-Away Boxes</dc:title>
</cp:coreProperties>
</file>