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09B5-75EB-443B-9139-D1073263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150-687F-4476-9193-9BBE38FC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534-5372-4EF5-AA5C-2DC7776E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DC28-5CCE-4CD0-9D1D-15B447B9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2FB-D082-4D19-A4B1-42494DFC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AAF-1CCA-492D-8B99-8B1F4A85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77F-0A8F-4D5F-9794-7F1BDCF4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411E-D6D6-4C49-ADDA-98AD2A07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D7D-3503-495D-9E3E-50DF028D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88A-96B5-4CBC-8322-37B37B1C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758-2A9E-42DD-B018-B02E679D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6E1-8515-412B-ABFB-E6279E0A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0ABA-0843-4F8A-98C6-C63EFBE9B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gle Earth Cut-Away B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uth Asia you have the option of completing a traditional map on paper or the Google Earth assignm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Credit will be given to students who complete bo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lacemark that identifies each of the follow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ri La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lacemark that identifies each of the following bod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d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dian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ange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y of Ben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lacemark that identifies each of the following land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significance of each land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t. Ev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estern Ghats (How does these mountains play a role in the monsoon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astern Ghats (How does these mountains play a role in the monsoon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placemark that includes a cut-away box for each of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-Away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reate a cut-away box explaining the social importance of the Ganges River to the people of South Asia (p. 5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reate a cut-away box explaining the importance of the Himalayan Mountains (p. 5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reate a cut-away box explaining the reason for the conflict in Kashmir (p. 5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39:53Z</dcterms:created>
  <dc:creator>CFISD</dc:creator>
  <dc:description/>
  <dc:language>en-US</dc:language>
  <cp:lastModifiedBy>CFISD</cp:lastModifiedBy>
  <dcterms:modified xsi:type="dcterms:W3CDTF">2009-03-09T12:42:40Z</dcterms:modified>
  <cp:revision>1</cp:revision>
  <dc:subject/>
  <dc:title>Google Earth Cut-Away Boxes</dc:title>
</cp:coreProperties>
</file>