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B98F-A14A-44FF-9767-C2E37254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C793-FA53-4C74-A150-B25A2481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357C-13E6-4C96-95F5-276E776DD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BF69-64B6-4B0C-AFD0-338D54E4A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09B4-B76E-439D-9140-B3D56163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2126-20D5-4731-A5E0-433215DB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0EAF-0D52-4420-BD1F-D3367E7B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4BBC-0B0E-430D-994A-EFD19D56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4F4B-AEBA-4B0B-ACF6-F6E5F915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B218-2F91-4B73-9CEA-ECFFFA0C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3EF5-4EF8-4A73-BF9B-123D0B2E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1959-9BB4-4F13-983C-F3C2AFA1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528A-9DD4-4319-9D17-2DB015904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gle Earth Cut-Away Bo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outh Asia you have the option of completing a traditional map on paper or the Google Earth assignmen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 Credit will be given to students who complete bo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placemark that identifies each of the following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ak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anglade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ri Lan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dies of 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placemark that identifies each of the following bodie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die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ndian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anges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ay of Ben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dfo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placemark that identifies each of the following land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significance of each land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t. Ev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estern Ghats (How does these mountains play a role in the monsoon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astern Ghats (How does these mountains play a role in the monsoon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t-away bo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placemark that includes a cut-away box for each of the foll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-Away 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reate a cut-away box explaining the social importance of the Ganges River to the people of South Asia (p. 5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reate a cut-away box explaining the importance of the Himalayan Mountains (p. 55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reate a cut-away box explaining the reason for the conflict in Kashmir (p. 57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39:53Z</dcterms:created>
  <dc:creator>CFISD</dc:creator>
  <dc:description/>
  <dc:language>en-US</dc:language>
  <cp:lastModifiedBy>CFISD</cp:lastModifiedBy>
  <dcterms:modified xsi:type="dcterms:W3CDTF">2009-03-09T12:42:40Z</dcterms:modified>
  <cp:revision>1</cp:revision>
  <dc:subject/>
  <dc:title>Google Earth Cut-Away Boxes</dc:title>
</cp:coreProperties>
</file>