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43A8-CB12-49F6-B073-048BB4C36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0A3F-4E1A-43B4-B2C0-AB62FB79A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B8F2-C850-4BF2-B0B3-3FBC45989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585F-A789-4E49-86C9-4250C0F2B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F253-3F62-4392-A1F2-06B6D139E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D1E5-FCFD-4D77-A9B4-CB91066C5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6A7A-1062-42F4-BB55-587ACFBF1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14E0-0BB8-423C-B98C-3DCA35A25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3B56-DBF2-4AF3-B432-FBD7CFACB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62BE-A45F-481A-97ED-2C57374C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E746-9BDE-40FE-B9C6-55EF1AE8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B9A7-CF77-4EE0-B11E-ED776AC3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1E75E-7426-42C6-BFD0-7BBCECF6F7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ogle Earth Cut-Away Box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South Asia you have the option of completing a traditional map on paper or the Google Earth assignmen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ra Credit will be given to students who complete bot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unt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a placemark that identifies each of the following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Pakist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In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Banglade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Sri Lan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dies of Wa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a placemark that identifies each of the following bodies of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odies of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Indian Oc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Ganges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Bay of Beng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ndfor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a placemark that identifies each of the following land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the significance of each land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and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Mt. Eve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Western Ghats (How does these mountains play a role in the monsoons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Eastern Ghats (How does these mountains play a role in the monsoons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t-away box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placemark that includes a cut-away box for each of the follow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t-Away Bo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Create a cut-away box explaining the social importance of the Ganges River to the people of South Asia (p. 56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Create a cut-away box explaining the importance of the Himalayan Mountains (p. 55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Create a cut-away box explaining the reason for the conflict in Kashmir (p. 57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2:39:53Z</dcterms:created>
  <dc:creator>CFISD</dc:creator>
  <dc:description/>
  <dc:language>en-US</dc:language>
  <cp:lastModifiedBy>CFISD</cp:lastModifiedBy>
  <dcterms:modified xsi:type="dcterms:W3CDTF">2009-03-09T12:42:40Z</dcterms:modified>
  <cp:revision>1</cp:revision>
  <dc:subject/>
  <dc:title>Google Earth Cut-Away Boxes</dc:title>
</cp:coreProperties>
</file>