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A12-DDF5-4030-B777-702EC9FE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67B-91AA-49DD-A87E-767E04F8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ED4-8CB5-4CE5-AB34-E87D780B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5C9-FE4C-419B-987F-2A403419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333-4C1B-4095-A585-79166DFC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1BB-BAEE-4AEB-AAE7-4FBEF6E4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32E-E78C-4FDF-A0D6-FFD23ECB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B70-6EF9-42EB-B5E5-E54D20E9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765-CE1A-4E0F-B4F8-AE124B9C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5C9-0C9D-4733-AD32-DDA87161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57B-9C67-4A87-9A39-F7D23807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E17-FD5D-4B17-B7DD-0C99C225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D550-1757-4580-A61A-3766645D7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uth Asia you have the option of completing a traditional map on paper or the Google Earth assign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Credit will be given to students who complete bo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y of Ben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significance of each land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t. 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e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lacemark that includes a cut-away box for each of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ate a cut-away box explaining the social importance of the Ganges River to the people of South Asia (p. 5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reate a cut-away box explaining the importance of the Himalayan Mountains (p. 5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reate a cut-away box explaining the reason for the conflict in Kashmir (p. 5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39:53Z</dcterms:created>
  <dc:creator>CFISD</dc:creator>
  <dc:description/>
  <dc:language>en-US</dc:language>
  <cp:lastModifiedBy>CFISD</cp:lastModifiedBy>
  <dcterms:modified xsi:type="dcterms:W3CDTF">2009-03-09T12:42:40Z</dcterms:modified>
  <cp:revision>1</cp:revision>
  <dc:subject/>
  <dc:title>Google Earth Cut-Away Boxes</dc:title>
</cp:coreProperties>
</file>