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6C9-614E-4299-A77E-25CF1675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18B-0B32-40A7-B9DF-612BD51A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52F-E34C-4C86-9316-8589FD0D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CA1-0EE3-4F3D-8541-510DC1B6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8F5-2624-4270-9345-8D449AC5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D3F-86BA-4725-BF69-85116695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83E-43E6-4F8C-AC73-376E44A2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9C0-5976-458B-991F-90D14AC7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4B6-998F-4568-9069-E7C116D5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24A-D266-49A8-9498-F16C16B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3EA-D442-47EE-99EA-AB979112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050-96D8-49CD-B115-DD33A57E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C1A1-7937-4A69-86E9-FCC4E4448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uth Asia you have the option of completing a traditional map on paper or the Google Earth assign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 will be given to students who complete bo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y of Ben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significance of each land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t. 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lacemark that includes a cut-away box for each of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 a cut-away box explaining the social importance of the Ganges River to the people of South Asia (p. 5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reate a cut-away box explaining the importance of the Himalayan Mountains (p. 5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ate a cut-away box explaining the reason for the conflict in Kashmir (p. 5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39:53Z</dcterms:created>
  <dc:creator>CFISD</dc:creator>
  <dc:description/>
  <dc:language>en-US</dc:language>
  <cp:lastModifiedBy>CFISD</cp:lastModifiedBy>
  <dcterms:modified xsi:type="dcterms:W3CDTF">2009-03-09T12:42:40Z</dcterms:modified>
  <cp:revision>1</cp:revision>
  <dc:subject/>
  <dc:title>Google Earth Cut-Away Boxes</dc:title>
</cp:coreProperties>
</file>