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0DDAC-B9F5-43DC-AA6D-AE2734264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B2BD2-D1AA-4AEA-A5F1-D4BFD314A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AB82E-BF3D-496D-8D81-8FCB1139B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71B2C-BDE7-4B00-B8B9-7E4BF2AD1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88B8C-2549-4323-A7B3-B5DDA42F1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C8A39-79F0-47EB-BFA9-0182D32A1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49E51-165A-4E51-957F-31F1888EC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D1A55-2EC8-4C77-8529-8338A60E0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CD099-37D0-4A7E-B075-43BF6AEB0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6A75-D696-4974-BA14-70761A8D2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30387-9B01-4782-BEB9-34B3BA045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2E40B-3737-4DF9-B4DD-7E2C2C1A1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01DE-F763-4006-A097-4157E18D8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ertnet.org/thenews/photoalbum/?download=/images/1237308953/RTXCW09_MAIN_PICTURE2.jpg" TargetMode="External"/><Relationship Id="rId2" Type="http://schemas.openxmlformats.org/officeDocument/2006/relationships/image" Target="../media/image1.jpeg"/><Relationship Id="rId3" Type="http://schemas.openxmlformats.org/officeDocument/2006/relationships/hyperlink" Target="http://www.nytimes.com/2009/03/08/opinion/08kristof.html?_r=2"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A displaced Sudanese girl looks at a &#10;peacekeeping soldier from the United &#10;Nations African Union Mission in Darfur (&#10;UNAMID) at Abu Shouk IDP camp in Al &#10;Fasher, northern Darfur, March 16, 2009. &#10;REUTERS/Zohra Bensemra (SUDAN POLITICS &#10;CONFLICT)&#10;">
            <a:hlinkClick r:id="rId1"/>
          </p:cNvPr>
          <p:cNvPicPr/>
          <p:nvPr/>
        </p:nvPicPr>
        <p:blipFill>
          <a:blip r:embed="rId2"/>
          <a:stretch/>
        </p:blipFill>
        <p:spPr>
          <a:xfrm>
            <a:off x="0" y="0"/>
            <a:ext cx="9144000" cy="6858000"/>
          </a:xfrm>
          <a:prstGeom prst="rect">
            <a:avLst/>
          </a:prstGeom>
          <a:ln w="0">
            <a:noFill/>
          </a:ln>
        </p:spPr>
      </p:pic>
      <p:sp>
        <p:nvSpPr>
          <p:cNvPr id="42" name=""/>
          <p:cNvSpPr/>
          <p:nvPr/>
        </p:nvSpPr>
        <p:spPr>
          <a:xfrm>
            <a:off x="1600200" y="2362320"/>
            <a:ext cx="640080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cide is happening in Darfur. You can help end it. “The first gauntlet thrown at President Obama didn’t come from Iran, Russia or China. Rather, it came from Sudan, in its decision to expel aid groups that are a lifeline keeping more than a million people alive in Darfur.” –Nicholas D. Kristof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nytimes.com/2009/03/08/opinion/08kristof.html?_r=2</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out 6 years ago Arab Muslims and Black Africans started fighting over something as simple as a little bit of water and land. Now thousands of people have died because of this fighting. Approximately 400,00 people have died since 2003. Also they are not dying by getting shot or etc. They are dying by being taken away the aid that they need to survive. Join us.</a:t>
            </a:r>
            <a:endParaRPr b="0" lang="en-US" sz="1800" spc="-1" strike="noStrike">
              <a:solidFill>
                <a:srgbClr val="000000"/>
              </a:solidFill>
              <a:latin typeface="Arial"/>
            </a:endParaRPr>
          </a:p>
        </p:txBody>
      </p:sp>
      <p:sp>
        <p:nvSpPr>
          <p:cNvPr id="43" name=""/>
          <p:cNvSpPr txBox="1"/>
          <p:nvPr/>
        </p:nvSpPr>
        <p:spPr>
          <a:xfrm>
            <a:off x="1752480" y="457200"/>
            <a:ext cx="55627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ave Darfur</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e Web Address : http://www.nytimes.com/2009/03/08/opinion/08kristof.html?_r=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Website : http://www.alertnet.org/thenews/photoalbum/1237308953.htm </a:t>
            </a:r>
            <a:endParaRPr b="0" lang="en-US" sz="2400" spc="-1" strike="noStrike">
              <a:solidFill>
                <a:srgbClr val="000000"/>
              </a:solidFill>
              <a:latin typeface="Arial"/>
            </a:endParaRPr>
          </a:p>
        </p:txBody>
      </p:sp>
      <p:sp>
        <p:nvSpPr>
          <p:cNvPr id="46" name=""/>
          <p:cNvSpPr/>
          <p:nvPr/>
        </p:nvSpPr>
        <p:spPr>
          <a:xfrm>
            <a:off x="2286000" y="1219320"/>
            <a:ext cx="648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first gauntlet thrown at President Obama didn’t come from Iran, Russia or China. Rather, it came from Sudan, in its decision to expel aid groups that are a lifeline keeping more than a million people alive in Darfur.” –Nicholas D. Kristof</a:t>
            </a:r>
            <a:endParaRPr b="0" lang="en-US" sz="1800" spc="-1" strike="noStrike">
              <a:solidFill>
                <a:srgbClr val="000000"/>
              </a:solidFill>
              <a:latin typeface="Arial"/>
            </a:endParaRPr>
          </a:p>
        </p:txBody>
      </p:sp>
      <p:pic>
        <p:nvPicPr>
          <p:cNvPr id="47" name="" descr="A displaced Sudanese girl looks at a &#10;peacekeeping soldier from the United &#10;Nations African Union Mission in Darfur (&#10;UNAMID) at Abu Shouk IDP camp in Al &#10;Fasher, northern Darfur, March 16, 2009. &#10;REUTERS/Zohra Bensemra (SUDAN POLITICS &#10;CONFLICT)&#10;"/>
          <p:cNvPicPr/>
          <p:nvPr/>
        </p:nvPicPr>
        <p:blipFill>
          <a:blip r:embed="rId1"/>
          <a:stretch/>
        </p:blipFill>
        <p:spPr>
          <a:xfrm>
            <a:off x="2895480" y="3581280"/>
            <a:ext cx="1714680" cy="108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20:03:18Z</dcterms:created>
  <dc:creator>cfisd</dc:creator>
  <dc:description/>
  <dc:language>en-US</dc:language>
  <cp:lastModifiedBy>cfisd</cp:lastModifiedBy>
  <dcterms:modified xsi:type="dcterms:W3CDTF">2009-05-28T21:04:24Z</dcterms:modified>
  <cp:revision>3</cp:revision>
  <dc:subject/>
  <dc:title>Slide 1</dc:title>
</cp:coreProperties>
</file>