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EA7-0F6B-4554-877F-07B7820C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B74-FA03-4BE7-BB0F-90E6933B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C46-5F60-4122-8D79-DF5E6604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C0A-B272-41AB-BA91-A419602F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E11-7668-420C-9C4F-85BABE8D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279-A884-4A5E-AB9D-B7921D6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3D5-AA15-4B22-AF46-5F4E060B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2C8-DD5D-4CD5-8B96-7757D1F2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524-61D4-490B-90A6-6659AA88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359-4D3D-4204-BC99-C59D6AA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E52-8129-45A7-9ED4-95B63AE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3B9-799C-439E-AB48-9DB3A6E5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0289-BE63-4E1A-AAEB-DA52AF1BF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oliticalhumor.about.com/library/images/bliraqlooting.htm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hyperlink" Target="http://en.wikipedia.org/wiki/Image:Astraeus.commons.b737-300.g-stra.arp.2.jp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A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438280"/>
            <a:ext cx="777240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2873" t="5458" r="8910" b="12732"/>
          <a:stretch/>
        </p:blipFill>
        <p:spPr>
          <a:xfrm>
            <a:off x="1981080" y="1752480"/>
            <a:ext cx="7162920" cy="4343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__________ – Orso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1981440" cy="6629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o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tal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x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anish styl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ltimore and New York Ac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st Coast 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outhern R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2743200" y="2895480"/>
            <a:ext cx="334800" cy="38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0400" y="297180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59092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257800"/>
            <a:ext cx="487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my cultu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aryland to Hous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Oval 12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457200" y="4876920"/>
            <a:ext cx="1219320" cy="163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hristia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Isl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Juda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Hindu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Buddh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onfuci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Tribal Relig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152280" y="48769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0" y="51055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380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04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place where major religion orig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038480" y="2819520"/>
            <a:ext cx="2057400" cy="990360"/>
            <a:chOff x="4038480" y="2819520"/>
            <a:chExt cx="2057400" cy="990360"/>
          </a:xfrm>
        </p:grpSpPr>
        <p:sp>
          <p:nvSpPr>
            <p:cNvPr id="104" name=""/>
            <p:cNvSpPr/>
            <p:nvPr/>
          </p:nvSpPr>
          <p:spPr>
            <a:xfrm flipH="1">
              <a:off x="4038480" y="3429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34290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334120" y="2819520"/>
              <a:ext cx="761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15000" y="4724280"/>
            <a:ext cx="259092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has spread from the Middle East to Africa and Asia.  This is called…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9907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ATIAL DIFFUS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rea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or ideas from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earth’s surface and the connections between physical features and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 the use of space on Earth b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590920"/>
            <a:ext cx="3505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must recogniz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get crunc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380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patial 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pread of good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from one plac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pati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ying pattern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used by people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izza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ices in your note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ck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 to the bottom, click the file called “Spatial Diffusion Pizz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Create the following tasks on each slice of piz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ru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 the crust each of the five causes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opp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n example of each caus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hee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ef caption explaining how the example cause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809880"/>
            <a:ext cx="3429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1066680"/>
            <a:ext cx="7010640" cy="5639040"/>
            <a:chOff x="1066680" y="1066680"/>
            <a:chExt cx="7010640" cy="5639040"/>
          </a:xfrm>
        </p:grpSpPr>
        <p:grpSp>
          <p:nvGrpSpPr>
            <p:cNvPr id="127" name=""/>
            <p:cNvGrpSpPr/>
            <p:nvPr/>
          </p:nvGrpSpPr>
          <p:grpSpPr>
            <a:xfrm>
              <a:off x="1066680" y="1066680"/>
              <a:ext cx="7010640" cy="5639040"/>
              <a:chOff x="1066680" y="1066680"/>
              <a:chExt cx="7010640" cy="5639040"/>
            </a:xfrm>
          </p:grpSpPr>
          <p:sp>
            <p:nvSpPr>
              <p:cNvPr id="128" name=""/>
              <p:cNvSpPr/>
              <p:nvPr/>
            </p:nvSpPr>
            <p:spPr>
              <a:xfrm>
                <a:off x="1066680" y="1066680"/>
                <a:ext cx="7010640" cy="5639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1523880"/>
                <a:ext cx="5790960" cy="4800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1080" y="1981080"/>
                <a:ext cx="266724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648320" y="1219320"/>
                <a:ext cx="91440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48320" y="3809880"/>
                <a:ext cx="91440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599840" y="3809880"/>
                <a:ext cx="304812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" name="" descr=""/>
            <p:cNvPicPr/>
            <p:nvPr/>
          </p:nvPicPr>
          <p:blipFill>
            <a:blip r:embed="rId2"/>
            <a:srcRect l="19999" t="63247" r="18503" b="0"/>
            <a:stretch/>
          </p:blipFill>
          <p:spPr>
            <a:xfrm rot="21433800">
              <a:off x="2971440" y="3540240"/>
              <a:ext cx="12193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16473600">
              <a:off x="230040" y="3274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2666880"/>
              <a:ext cx="1143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vers cause diffusion by creating trade rou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s – serve as transportation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Chechny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all of Communism ethnic groups started seeking independence from Russ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Inven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ell phones have spread to all regions of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624120" cy="3962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34120" y="2819520"/>
            <a:ext cx="3028680" cy="4038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8280" y="2209680"/>
            <a:ext cx="2590920" cy="1295640"/>
          </a:xfrm>
          <a:prstGeom prst="wedgeRoundRectCallout">
            <a:avLst>
              <a:gd name="adj1" fmla="val -44180"/>
              <a:gd name="adj2" fmla="val 69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but isn’t it great that cell phones have diffused to my countr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828800"/>
            <a:ext cx="2438640" cy="990720"/>
          </a:xfrm>
          <a:prstGeom prst="wedgeRoundRectCallout">
            <a:avLst>
              <a:gd name="adj1" fmla="val -36393"/>
              <a:gd name="adj2" fmla="val 786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, it’s Britney. Have you seen my golden bucke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usion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untries spread their culture on conquer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Iraq McDonalds">
            <a:hlinkClick r:id="rId2"/>
          </p:cNvPr>
          <p:cNvPicPr/>
          <p:nvPr/>
        </p:nvPicPr>
        <p:blipFill>
          <a:blip r:embed="rId3"/>
          <a:srcRect l="0" t="7474" r="0" b="11987"/>
          <a:stretch/>
        </p:blipFill>
        <p:spPr>
          <a:xfrm>
            <a:off x="0" y="2133720"/>
            <a:ext cx="9144000" cy="410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54000" y="5707080"/>
            <a:ext cx="9198000" cy="92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ly opened McDonalds in Iraq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effect will this have on the people of Iraq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bring their culture with them when they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conomic goods and culture are exchanged by the world’s market econo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ony PS3 (made in Japan) played by kids in the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2860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30492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l of Communism causes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5638680"/>
            <a:ext cx="175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hn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086600" y="5105160"/>
            <a:ext cx="1676520" cy="5331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hnya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owerful Russian government has weakened, many groups want independ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 the Chechen’s f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Russia’s respon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view the slides write the name of the vocabulary word that matches the slides on the blan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your notebook but be qui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191120"/>
            <a:ext cx="2133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ocabulary word that goes in the head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2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Nike Promotion Truck"/>
          <p:cNvPicPr/>
          <p:nvPr/>
        </p:nvPicPr>
        <p:blipFill>
          <a:blip r:embed="rId4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7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8"/>
          </p:cNvPr>
          <p:cNvPicPr/>
          <p:nvPr/>
        </p:nvPicPr>
        <p:blipFill>
          <a:blip r:embed="rId9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10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733920" y="152280"/>
            <a:ext cx="5105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reak of Bul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4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5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52:17Z</dcterms:created>
  <dc:creator>CFISD</dc:creator>
  <dc:description/>
  <dc:language>en-US</dc:language>
  <cp:lastModifiedBy>CFISD</cp:lastModifiedBy>
  <dcterms:modified xsi:type="dcterms:W3CDTF">2009-01-14T13:49:17Z</dcterms:modified>
  <cp:revision>16</cp:revision>
  <dc:subject/>
  <dc:title>SFA Review</dc:title>
</cp:coreProperties>
</file>