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3DF-592D-4002-A7C6-0E87B6AC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ED6-9E8D-4FC6-B2DC-2A1E83A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DE3-D680-401A-B7BC-92976871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A0B-89C0-4FFE-8F26-F50E49D6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2BF-6C78-4BBD-8EDC-67D78D2A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921-9C8F-43E8-9D76-A2B01AD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C89-B368-43D0-A959-DAEC8F14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AB7-BB55-4933-B0DC-F6383D1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7F4-4F7F-4D9A-AC2E-25D47082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663-A655-461B-8860-974BBDA1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582-6BDF-4B36-95BA-ABF1F98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186-FF64-425F-869C-043EE99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8752-4EA9-4022-8FDB-95D3FF45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lhumor.about.com/library/images/bliraqlooting.htm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hyperlink" Target="http://en.wikipedia.org/wiki/Image:Astraeus.commons.b737-300.g-stra.arp.2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438280"/>
            <a:ext cx="777240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2873" t="5458" r="8910" b="12732"/>
          <a:stretch/>
        </p:blipFill>
        <p:spPr>
          <a:xfrm>
            <a:off x="1981080" y="1752480"/>
            <a:ext cx="716292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__________ – Orso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1981440" cy="6629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nish styl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ltimore and New York Ac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st Coast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uthern 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2743200" y="2895480"/>
            <a:ext cx="3348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29718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257800"/>
            <a:ext cx="487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my cul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ryland to Hou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Oval 12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" y="4876920"/>
            <a:ext cx="12193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hristia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Isl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Juda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Hindu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Budd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onfuci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Tribal Relig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52280" y="48769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0" y="51055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80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04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lace where major religion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38480" y="2819520"/>
            <a:ext cx="2057400" cy="990360"/>
            <a:chOff x="4038480" y="2819520"/>
            <a:chExt cx="2057400" cy="990360"/>
          </a:xfrm>
        </p:grpSpPr>
        <p:sp>
          <p:nvSpPr>
            <p:cNvPr id="104" name=""/>
            <p:cNvSpPr/>
            <p:nvPr/>
          </p:nvSpPr>
          <p:spPr>
            <a:xfrm flipH="1">
              <a:off x="4038480" y="3429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4290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34120" y="2819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15000" y="4724280"/>
            <a:ext cx="259092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s spread from the Middle East to Africa and Asia.  This is called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7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ATIAL DIFFUS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ideas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earth’s surface and the connections between physical features and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the use of space on Earth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590920"/>
            <a:ext cx="3505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must recogn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get crun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atial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read of goo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rom one pla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pati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ing patte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used by peopl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izza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ces in your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ck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to the bottom, click the file called “Spatial Diffusion Pi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Create the following tasks on each slice of piz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u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 the crust each of the five causes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opp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n example of each caus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hee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ef caption explaining how the example cause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3429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1066680"/>
            <a:ext cx="7010640" cy="5639040"/>
            <a:chOff x="1066680" y="1066680"/>
            <a:chExt cx="7010640" cy="563904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1066680"/>
              <a:ext cx="7010640" cy="5639040"/>
              <a:chOff x="1066680" y="1066680"/>
              <a:chExt cx="7010640" cy="5639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1066680"/>
                <a:ext cx="7010640" cy="5639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1523880"/>
                <a:ext cx="5790960" cy="480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1981080"/>
                <a:ext cx="26672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648320" y="1219320"/>
                <a:ext cx="91440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8320" y="3809880"/>
                <a:ext cx="91440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599840" y="3809880"/>
                <a:ext cx="30481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2"/>
            <a:srcRect l="19999" t="63247" r="18503" b="0"/>
            <a:stretch/>
          </p:blipFill>
          <p:spPr>
            <a:xfrm rot="21433800">
              <a:off x="2971440" y="3540240"/>
              <a:ext cx="12193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6473600">
              <a:off x="230040" y="3274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2666880"/>
              <a:ext cx="1143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s cause diffusion by creating trade rou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– serve as transportation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Chechn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 ethnic groups started seeking independence from Russ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n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ll phones have spread to all regions of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6241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2209680"/>
            <a:ext cx="2590920" cy="1295640"/>
          </a:xfrm>
          <a:prstGeom prst="wedgeRoundRectCallout">
            <a:avLst>
              <a:gd name="adj1" fmla="val -44180"/>
              <a:gd name="adj2" fmla="val 6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but isn’t it great that cell phones have diffused to my count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828800"/>
            <a:ext cx="2438640" cy="990720"/>
          </a:xfrm>
          <a:prstGeom prst="wedgeRoundRectCallout">
            <a:avLst>
              <a:gd name="adj1" fmla="val -36393"/>
              <a:gd name="adj2" fmla="val 78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, it’s Britney. Have you seen my golden buck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ion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untries spread their culture on conquer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Iraq McDonalds">
            <a:hlinkClick r:id="rId2"/>
          </p:cNvPr>
          <p:cNvPicPr/>
          <p:nvPr/>
        </p:nvPicPr>
        <p:blipFill>
          <a:blip r:embed="rId3"/>
          <a:srcRect l="0" t="7474" r="0" b="11987"/>
          <a:stretch/>
        </p:blipFill>
        <p:spPr>
          <a:xfrm>
            <a:off x="0" y="2133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54000" y="5707080"/>
            <a:ext cx="9198000" cy="9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y opened McDonalds in Iraq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effect will this have on the people of Iraq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bring their culture with them when they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conomic goods and culture are exchanged by the world’s market econo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ny PS3 (made in Japan) played by kids in the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30492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l of Communism causes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638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hn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5105160"/>
            <a:ext cx="1676520" cy="5331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hnya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owerful Russian government has weakened, many groups want independ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 the Chechen’s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Russia’s respo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e slides write the name of the vocabulary word that matches the slides on the blan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your notebook but be qu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191120"/>
            <a:ext cx="2133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ocabulary word that goes in the head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ike Promotion Truck"/>
          <p:cNvPicPr/>
          <p:nvPr/>
        </p:nvPicPr>
        <p:blipFill>
          <a:blip r:embed="rId4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8"/>
          </p:cNvPr>
          <p:cNvPicPr/>
          <p:nvPr/>
        </p:nvPicPr>
        <p:blipFill>
          <a:blip r:embed="rId9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10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733920" y="15228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 of Bu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52:17Z</dcterms:created>
  <dc:creator>CFISD</dc:creator>
  <dc:description/>
  <dc:language>en-US</dc:language>
  <cp:lastModifiedBy>CFISD</cp:lastModifiedBy>
  <dcterms:modified xsi:type="dcterms:W3CDTF">2009-01-14T13:49:17Z</dcterms:modified>
  <cp:revision>16</cp:revision>
  <dc:subject/>
  <dc:title>SFA Review</dc:title>
</cp:coreProperties>
</file>