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D2B-BB1A-43ED-9BE2-BE353517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1FA-2B14-48FB-993C-EC09E4C8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CCD-624E-45D1-8513-750C5D40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2B44-8644-46D7-A5DF-0A6BA9A0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7F6-A6A4-4A9F-A029-300A53A2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62B-D6E3-4B9B-9F65-3903088C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27B-E25C-46D1-BE2B-983C1A24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3EC-AE38-48C5-A788-7B66C1B3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EC5-607F-42C0-9B68-503952D6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C90-5476-42A8-94BE-080195BE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35B-E175-4B3D-A8B7-C22E6CDB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88D-589C-44AC-9457-1FAC6E0F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FB6B-2CAE-436B-81AB-378F96DF8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rso2ndperiod.wikispaces.com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oliticalhumor.about.com/library/images/bliraqlooting.htm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hyperlink" Target="http://en.wikipedia.org/wiki/Image:Astraeus.commons.b737-300.g-stra.arp.2.jpg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FA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438280"/>
            <a:ext cx="777240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12873" t="5458" r="8910" b="12732"/>
          <a:stretch/>
        </p:blipFill>
        <p:spPr>
          <a:xfrm>
            <a:off x="1981080" y="1752480"/>
            <a:ext cx="7162920" cy="43434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__________ – Orso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1981440" cy="6629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o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tal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ex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anish styl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ltimore and New York Acc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East Coast 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outhern R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2860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895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6668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rcRect l="15127" t="6527" r="12947" b="4351"/>
          <a:stretch/>
        </p:blipFill>
        <p:spPr>
          <a:xfrm>
            <a:off x="2743200" y="2895480"/>
            <a:ext cx="334800" cy="381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00400" y="297180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259092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257800"/>
            <a:ext cx="487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my cultu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aryland to Houst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410440"/>
          </a:xfrm>
          <a:prstGeom prst="rect">
            <a:avLst/>
          </a:prstGeom>
          <a:ln w="0">
            <a:noFill/>
          </a:ln>
        </p:spPr>
      </p:pic>
      <p:sp>
        <p:nvSpPr>
          <p:cNvPr id="96" name="Oval 12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9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457200" y="4876920"/>
            <a:ext cx="1219320" cy="163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Christia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Isl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Juda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Hindu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Buddh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Confucian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Tribal Relig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152280" y="4876920"/>
            <a:ext cx="13716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0" y="5105520"/>
            <a:ext cx="13716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380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04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place where major religion orig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038480" y="2819520"/>
            <a:ext cx="2057400" cy="990360"/>
            <a:chOff x="4038480" y="2819520"/>
            <a:chExt cx="2057400" cy="990360"/>
          </a:xfrm>
        </p:grpSpPr>
        <p:sp>
          <p:nvSpPr>
            <p:cNvPr id="104" name=""/>
            <p:cNvSpPr/>
            <p:nvPr/>
          </p:nvSpPr>
          <p:spPr>
            <a:xfrm flipH="1">
              <a:off x="4038480" y="3429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342900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334120" y="2819520"/>
              <a:ext cx="761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15000" y="4724280"/>
            <a:ext cx="259092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has spread from the Middle East to Africa and Asia.  This is called…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219320"/>
            <a:ext cx="3352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9907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ATIAL DIFFUSIO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Spatial Diff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prea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or ideas from one plac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43430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the earth’s surface and the connections between physical features and hum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ing the use of space on Earth by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oordinator for Counterterrorism Cofer Black briefed the press on the release of the 2002 Patterns of Global Terrorism report on April 30, 2003. Photo by Michael Gross. US State Department.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ittsburgh Steelers' quarterback Tommy Maddox (8) is sacked by Baltimore Ravens' linebacker Terrel Suggs (55) during the first quarter of their game in Baltimore, September 19, 2004.     REUTERS/Joe Giza"/>
          <p:cNvPicPr/>
          <p:nvPr/>
        </p:nvPicPr>
        <p:blipFill>
          <a:blip r:embed="rId2"/>
          <a:stretch/>
        </p:blipFill>
        <p:spPr>
          <a:xfrm>
            <a:off x="3616200" y="0"/>
            <a:ext cx="56088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80880" y="990720"/>
            <a:ext cx="281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2590920"/>
            <a:ext cx="35053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quarterback must recogniz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ces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get crunc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3808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600" y="3808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patial Analy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patial Dif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pread of goods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from one plac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Spati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dying patterns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used by people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Spatial Diffusion 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Create a pizza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lices in your notebo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ick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ing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 to the bottom, click the file called “Spatial Diffusion Pizz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Create the following tasks on each slice of piz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ru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el the crust each of the five causes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opping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etch an example of each caus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hee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ief caption explaining how the example cause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tial Diffusion 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809880"/>
            <a:ext cx="3429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66680" y="1066680"/>
            <a:ext cx="7010640" cy="5639040"/>
            <a:chOff x="1066680" y="1066680"/>
            <a:chExt cx="7010640" cy="5639040"/>
          </a:xfrm>
        </p:grpSpPr>
        <p:grpSp>
          <p:nvGrpSpPr>
            <p:cNvPr id="127" name=""/>
            <p:cNvGrpSpPr/>
            <p:nvPr/>
          </p:nvGrpSpPr>
          <p:grpSpPr>
            <a:xfrm>
              <a:off x="1066680" y="1066680"/>
              <a:ext cx="7010640" cy="5639040"/>
              <a:chOff x="1066680" y="1066680"/>
              <a:chExt cx="7010640" cy="5639040"/>
            </a:xfrm>
          </p:grpSpPr>
          <p:sp>
            <p:nvSpPr>
              <p:cNvPr id="128" name=""/>
              <p:cNvSpPr/>
              <p:nvPr/>
            </p:nvSpPr>
            <p:spPr>
              <a:xfrm>
                <a:off x="1066680" y="1066680"/>
                <a:ext cx="7010640" cy="5639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1523880"/>
                <a:ext cx="5790960" cy="4800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81080" y="1981080"/>
                <a:ext cx="266724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4648320" y="1219320"/>
                <a:ext cx="91440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48320" y="3809880"/>
                <a:ext cx="91440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1599840" y="3809880"/>
                <a:ext cx="304812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4" name="" descr=""/>
            <p:cNvPicPr/>
            <p:nvPr/>
          </p:nvPicPr>
          <p:blipFill>
            <a:blip r:embed="rId2"/>
            <a:srcRect l="19999" t="63247" r="18503" b="0"/>
            <a:stretch/>
          </p:blipFill>
          <p:spPr>
            <a:xfrm rot="21433800">
              <a:off x="2971440" y="3540240"/>
              <a:ext cx="12193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 rot="16473600">
              <a:off x="230040" y="3274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2666880"/>
              <a:ext cx="1143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vers cause diffusion by creating trade rou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s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vers – serve as transportation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Chechny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Fall of Communism ethnic groups started seeking independence from Russi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Exam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Inven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ell phones have spread to all regions of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3624120" cy="3962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34120" y="2819520"/>
            <a:ext cx="3028680" cy="4038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38280" y="2209680"/>
            <a:ext cx="2590920" cy="1295640"/>
          </a:xfrm>
          <a:prstGeom prst="wedgeRoundRectCallout">
            <a:avLst>
              <a:gd name="adj1" fmla="val -44180"/>
              <a:gd name="adj2" fmla="val 697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, but isn’t it great that cell phones have diffused to my countr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1828800"/>
            <a:ext cx="2438640" cy="990720"/>
          </a:xfrm>
          <a:prstGeom prst="wedgeRoundRectCallout">
            <a:avLst>
              <a:gd name="adj1" fmla="val -36393"/>
              <a:gd name="adj2" fmla="val 786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, it’s Britney. Have you seen my golden bucke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usion Exam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untries spread their culture on conquered 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Iraq McDonalds">
            <a:hlinkClick r:id="rId2"/>
          </p:cNvPr>
          <p:cNvPicPr/>
          <p:nvPr/>
        </p:nvPicPr>
        <p:blipFill>
          <a:blip r:embed="rId3"/>
          <a:srcRect l="0" t="7474" r="0" b="11987"/>
          <a:stretch/>
        </p:blipFill>
        <p:spPr>
          <a:xfrm>
            <a:off x="0" y="2133720"/>
            <a:ext cx="9144000" cy="4105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54000" y="5707080"/>
            <a:ext cx="9198000" cy="92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ly opened McDonalds in Iraq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effect will this have on the people of Iraq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bring their culture with them when they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conomic goods and culture are exchanged by the world’s market econo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Sony PS3 (made in Japan) played by kids in the 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228600"/>
            <a:ext cx="1600200" cy="24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all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5562720"/>
            <a:ext cx="15242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30492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ll of Communism causes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924680" y="68580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5638680"/>
            <a:ext cx="1752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hn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086600" y="5105160"/>
            <a:ext cx="1676520" cy="53316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hnya C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powerful Russian government has weakened, many groups want independ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 the Chechen’s f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Russia’s respon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view the slides write the name of the vocabulary word that matches the slides on the blan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use your notebook but be qui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2"/>
          <a:srcRect l="18867" t="20599" r="5663" b="139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3880" y="2286000"/>
            <a:ext cx="26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880" y="2590920"/>
            <a:ext cx="99072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4191120"/>
            <a:ext cx="2133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vocabulary word that goes in the head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2"/>
          <a:srcRect l="20758" t="20599" r="39625" b="13993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42139" t="43136" r="26417" b="49599"/>
          <a:stretch/>
        </p:blipFill>
        <p:spPr>
          <a:xfrm>
            <a:off x="-2362320" y="4572000"/>
            <a:ext cx="2590920" cy="631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5880" y="1676520"/>
            <a:ext cx="26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23920" y="2209680"/>
            <a:ext cx="1219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2.5029E-006 C 0.06285 0.00232 0.12431 -0.00255 0.18698 -0.0044 C 0.19428 -0.01112 0.20139 -0.01367 0.2099 -0.01761 C 0.22379 -0.03638 0.2382 -0.04195 0.25747 -0.04589 C 0.26563 -0.04959 0.27605 -0.05238 0.28369 -0.0591 C 0.29219 -0.06674 0.29688 -0.07462 0.30643 -0.0788 C 0.31129 -0.08853 0.31754 -0.09154 0.32466 -0.09641 C 0.32639 -0.09757 0.32778 -0.09965 0.32952 -0.10081 C 0.33264 -0.10267 0.33924 -0.10498 0.33924 -0.10498 C 0.35018 -0.11981 0.33855 -0.10614 0.34896 -0.11379 C 0.36598 -0.1263 0.35278 -0.12005 0.36389 -0.12468 C 0.37553 -0.13488 0.39011 -0.13766 0.40313 -0.14229 C 0.42032 -0.15782 0.39428 -0.13534 0.41476 -0.14878 C 0.41823 -0.1511 0.42136 -0.15458 0.42466 -0.15759 C 0.42622 -0.15898 0.42778 -0.1606 0.42935 -0.16199 C 0.43091 -0.16338 0.43421 -0.1664 0.43421 -0.1664 C 0.43803 -0.17984 0.44705 -0.18494 0.45573 -0.19258 C 0.46129 -0.19768 0.46303 -0.2051 0.46876 -0.2102 C 0.47171 -0.22155 0.4757 -0.21831 0.48195 -0.22549 C 0.48924 -0.23407 0.49063 -0.23917 0.49653 -0.24728 E">
                                      <p:cBhvr>
                                        <p:cTn id="2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rcRect l="20758" t="20599" r="39625" b="13993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rcRect l="42139" t="43136" r="26417" b="49599"/>
          <a:stretch/>
        </p:blipFill>
        <p:spPr>
          <a:xfrm>
            <a:off x="228600" y="2514600"/>
            <a:ext cx="1447920" cy="50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Nike Promotion Truck"/>
          <p:cNvPicPr/>
          <p:nvPr/>
        </p:nvPicPr>
        <p:blipFill>
          <a:blip r:embed="rId4"/>
          <a:stretch/>
        </p:blipFill>
        <p:spPr>
          <a:xfrm>
            <a:off x="1371600" y="2133720"/>
            <a:ext cx="1600200" cy="47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5"/>
          <a:srcRect l="15054" t="25811" r="45162" b="34050"/>
          <a:stretch/>
        </p:blipFill>
        <p:spPr>
          <a:xfrm>
            <a:off x="228600" y="2438280"/>
            <a:ext cx="762120" cy="577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34640" t="28275" r="13369" b="16419"/>
          <a:stretch/>
        </p:blipFill>
        <p:spPr>
          <a:xfrm>
            <a:off x="1219320" y="274320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7"/>
          <a:srcRect l="15054" t="25811" r="45162" b="34050"/>
          <a:stretch/>
        </p:blipFill>
        <p:spPr>
          <a:xfrm>
            <a:off x="228600" y="2666880"/>
            <a:ext cx="685800" cy="519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43400" y="228600"/>
            <a:ext cx="4191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8"/>
          </p:cNvPr>
          <p:cNvPicPr/>
          <p:nvPr/>
        </p:nvPicPr>
        <p:blipFill>
          <a:blip r:embed="rId9"/>
          <a:srcRect l="0" t="18611" r="6661" b="25577"/>
          <a:stretch/>
        </p:blipFill>
        <p:spPr>
          <a:xfrm>
            <a:off x="1143000" y="2438280"/>
            <a:ext cx="160020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10"/>
          <a:srcRect l="15054" t="25811" r="45162" b="34050"/>
          <a:stretch/>
        </p:blipFill>
        <p:spPr>
          <a:xfrm>
            <a:off x="228600" y="2895480"/>
            <a:ext cx="609480" cy="462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733920" y="152280"/>
            <a:ext cx="5105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reak of Bul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0811E-006 C 0.00191 -0.00533 0.01111 -0.03222 0.01476 -0.03708 C 0.01788 -0.04125 0.02048 -0.04195 0.02448 -0.0438 C 0.0283 -0.05817 0.02969 -0.07231 0.03767 -0.0832 C 0.04062 -0.09572 0.0368 -0.08436 0.04427 -0.09409 C 0.04566 -0.09595 0.04618 -0.09896 0.04757 -0.10058 C 0.05989 -0.11495 0.06371 -0.11402 0.08021 -0.11588 C 0.09774 -0.11518 0.11528 -0.11495 0.13281 -0.11379 C 0.15278 -0.11263 0.14774 -0.11356 0.16232 -0.10707 C 0.16562 -0.10568 0.17205 -0.1029 0.17205 -0.1029 C 0.17743 -0.08227 0.17378 -0.0985 0.17378 -0.05238 E">
                                      <p:cBhvr>
                                        <p:cTn id="4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5087E-006 C 0.00608 0.0007 0.01216 0.0007 0.01806 0.00209 C 0.02413 0.00348 0.03143 0.01043 0.03768 0.01089 C 0.05729 0.01228 0.07709 0.01252 0.0967 0.01321 C 0.09827 0.01391 0.09983 0.01483 0.10157 0.0153 C 0.10747 0.01692 0.11372 0.01761 0.11962 0.0197 C 0.12483 0.02155 0.13021 0.02804 0.13594 0.02851 C 0.15174 0.0299 0.16771 0.0299 0.18351 0.03059 C 0.20382 0.03963 0.18993 0.03476 0.22622 0.03708 C 0.2316 0.03963 0.23716 0.04125 0.24254 0.0438 C 0.27309 0.04172 0.30018 0.03662 0.33108 0.03499 C 0.36233 0.02851 0.39584 0.02897 0.42622 0.04148 C 0.42674 0.0438 0.42639 0.04681 0.42778 0.0482 C 0.42952 0.05006 0.43212 0.04936 0.43438 0.05029 C 0.44063 0.05261 0.44601 0.05516 0.45243 0.05678 C 0.45348 0.08204 0.45712 0.09154 0.45243 0.1117 C 0.45782 0.11402 0.45556 0.11379 0.45903 0.11379 E">
                                      <p:cBhvr>
                                        <p:cTn id="4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48899E-006 C 0.00417 -0.0153 0.00955 -0.01507 0.01979 -0.02411 C 0.02604 -0.02967 0.03281 -0.0306 0.03941 -0.035 C 0.05226 -0.04381 0.06771 -0.04867 0.08212 -0.05238 C 0.09167 -0.0503 0.10035 -0.04682 0.1099 -0.04381 C 0.11893 -0.0408 0.12847 -0.04219 0.13785 -0.04149 C 0.14931 -0.03662 0.14913 -0.01577 0.15261 -0.00209 C 0.15365 0.00231 0.15486 0.00671 0.1559 0.01112 C 0.15643 0.0132 0.15747 0.01761 0.15747 0.01761 C 0.1559 0.03568 0.15729 0.03638 0.14601 0.04171 C 0.14774 0.04889 0.14584 0.0482 0.14931 0.0482 E">
                                      <p:cBhvr>
                                        <p:cTn id="5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4925E-007 C 0.00052 -0.00208 0.00139 -0.00417 0.00174 -0.00648 C 0.0026 -0.01228 0.00208 -0.0183 0.0033 -0.0241 C 0.00781 -0.04635 0.04028 -0.04495 0.05087 -0.04588 C 0.05833 -0.0526 0.05972 -0.05909 0.06892 -0.06349 C 0.08993 -0.06187 0.09913 -0.06187 0.11649 -0.05469 C 0.11684 -0.05191 0.11771 -0.03916 0.11979 -0.03499 C 0.12431 -0.02618 0.1342 -0.01761 0.14097 -0.01297 C 0.14618 0.00626 0.14271 0.02573 0.14271 0.04589 E">
                                      <p:cBhvr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0811E-006 C 0.00452 0.00208 0.01997 0.01274 0.02448 0.01761 C 0.02987 0.0234 0.03247 0.02781 0.03924 0.03059 C 0.04896 0.03916 0.05105 0.04078 0.06216 0.0438 C 0.07032 0.04611 0.08681 0.05029 0.08681 0.05029 C 0.10174 0.06025 0.08386 0.04936 0.10313 0.05701 C 0.11007 0.05979 0.11632 0.06605 0.12292 0.06998 C 0.12605 0.07184 0.12952 0.0723 0.13264 0.07439 C 0.14254 0.08111 0.15174 0.09594 0.16216 0.10058 C 0.17882 0.10799 0.18994 0.11193 0.20816 0.11379 C 0.21615 0.11657 0.22257 0.11865 0.23108 0.12027 C 0.25035 0.11888 0.26476 0.1161 0.28351 0.11379 C 0.28507 0.11309 0.28681 0.11263 0.28837 0.1117 C 0.29011 0.11054 0.29132 0.1073 0.29341 0.1073 C 0.31962 0.1066 0.34584 0.10869 0.37205 0.10938 C 0.37796 0.11216 0.38403 0.11402 0.39011 0.1161 C 0.39514 0.12584 0.40296 0.12607 0.40973 0.13348 C 0.42744 0.15272 0.41441 0.14577 0.42622 0.1511 C 0.43455 0.16222 0.45487 0.18354 0.46546 0.19049 C 0.47414 0.19629 0.48542 0.19861 0.49497 0.20139 C 0.51615 0.20764 0.53525 0.21251 0.5573 0.21436 C 0.56372 0.21738 0.57084 0.22132 0.57691 0.22549 C 0.58108 0.22827 0.58195 0.23151 0.58681 0.23198 C 0.59879 0.23314 0.61094 0.23337 0.62292 0.23406 C 0.63959 0.23708 0.65521 0.24287 0.67205 0.24287 E">
                                      <p:cBhvr>
                                        <p:cTn id="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74855E-006 C 0.00191 -0.01043 0.00243 -0.01437 0.00816 -0.02202 C 0.00868 -0.03291 0.00885 -0.04404 0.00972 -0.05493 C 0.01042 -0.06235 0.01806 -0.07463 0.01806 -0.07463 C 0.02187 -0.09016 0.03385 -0.10174 0.04427 -0.10962 C 0.04601 -0.11101 0.04757 -0.1124 0.04913 -0.11403 C 0.05087 -0.11588 0.05208 -0.11889 0.05399 -0.12052 C 0.05746 -0.12353 0.06198 -0.12399 0.06562 -0.127 C 0.07899 -0.1379 0.07483 -0.13488 0.0901 -0.14021 C 0.11233 -0.13952 0.1349 -0.13929 0.15729 -0.1379 C 0.1625 -0.13767 0.17205 -0.13141 0.17205 -0.13141 C 0.17448 -0.12191 0.17639 -0.1124 0.17865 -0.1029 C 0.17917 -0.08761 0.17934 -0.07231 0.18038 -0.05702 C 0.18056 -0.0547 0.18073 -0.05215 0.18194 -0.05053 C 0.18316 -0.04891 0.18681 -0.04821 0.18681 -0.04821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47972E-006 C 0.07275 0.00417 0.14514 0.00741 0.21806 0.0088 C 0.23733 0.00788 0.25504 0.00788 0.27379 0.0044 C 0.28733 0.00185 0.3 -0.00441 0.3132 -0.00858 C 0.31927 -0.01275 0.32466 -0.01901 0.33108 -0.02179 C 0.33681 -0.02434 0.34323 -0.02457 0.34914 -0.02619 C 0.35712 -0.03268 0.36546 -0.03639 0.37379 -0.04149 C 0.38004 -0.04519 0.38542 -0.05122 0.39167 -0.05469 C 0.39549 -0.05678 0.39948 -0.05771 0.4033 -0.0591 C 0.40764 -0.06072 0.41632 -0.06327 0.41632 -0.06327 C 0.43455 -0.07926 0.45365 -0.0832 0.47379 -0.09177 C 0.48351 -0.10475 0.49827 -0.10267 0.51146 -0.10498 C 0.51684 -0.1073 0.5224 -0.10916 0.52778 -0.11147 C 0.53264 -0.12121 0.54011 -0.12399 0.54757 -0.12909 C 0.54931 -0.13025 0.5507 -0.13233 0.55243 -0.13349 C 0.55556 -0.13534 0.56233 -0.13766 0.56233 -0.13766 C 0.58733 -0.13558 0.59375 -0.13372 0.61962 -0.13558 C 0.63125 -0.14044 0.64202 -0.14461 0.65417 -0.14647 C 0.65973 -0.14902 0.66546 -0.15342 0.67049 -0.15736 C 0.67396 -0.16014 0.68039 -0.16617 0.68039 -0.16617 C 0.68091 -0.16848 0.68056 -0.1715 0.68195 -0.17289 C 0.68473 -0.17567 0.69184 -0.17706 0.69184 -0.17706 C 0.69896 -0.19166 0.69028 -0.17729 0.70157 -0.18587 C 0.71823 -0.19861 0.69688 -0.18841 0.71146 -0.19467 C 0.7125 -0.19676 0.7132 -0.19954 0.71476 -0.20116 C 0.71615 -0.20255 0.71841 -0.20186 0.71962 -0.20348 C 0.72136 -0.2058 0.72136 -0.20974 0.72292 -0.21228 E">
                                      <p:cBhvr>
                                        <p:cTn id="89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52:17Z</dcterms:created>
  <dc:creator>CFISD</dc:creator>
  <dc:description/>
  <dc:language>en-US</dc:language>
  <cp:lastModifiedBy>CFISD</cp:lastModifiedBy>
  <dcterms:modified xsi:type="dcterms:W3CDTF">2009-01-14T13:49:17Z</dcterms:modified>
  <cp:revision>16</cp:revision>
  <dc:subject/>
  <dc:title>SFA Review</dc:title>
</cp:coreProperties>
</file>