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7D3-9DAD-414A-8E93-8237347C0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5D6-E74D-4BEB-982B-427549CA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90D-3B21-4046-BBDE-513053C0F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6439-5056-468C-86D4-F1B592313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18E0-7DDA-4D24-A41C-08FCA452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75F-D2DE-4419-B5B5-A9652E39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1BFC-8004-45B2-8EB6-49F4B93B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E58A-F986-4BA4-8D79-B4EBD245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536C-88D7-4278-856C-A2ADC1EBC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3020-8B85-4695-81E7-D7DD4E80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8ABF-53AC-43BA-8DC7-5022BFC7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2A65-6489-4049-B054-9F94511A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C03C-0F59-4418-92D2-BDF7B49E5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nytimes.com/video/2007/09/24/science/space/1194817120962/sputniks-legacy.html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n Histor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toast Proced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usern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are finished publish your timeli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you publish your timeline your timeline will receive its own link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 me the link or turn it in on pap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wiki link tool to copy and paste the link on the wiki file pag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edit page and choose the insert hyperlink button (see next slide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you select external li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where it says link text and title it with your first and last na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57600" y="91440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5120" y="3733920"/>
            <a:ext cx="1523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81080" y="2133720"/>
            <a:ext cx="3200400" cy="761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5562720"/>
            <a:ext cx="18288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insert links on the wik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rcRect l="0" t="0" r="5000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28600" y="1143000"/>
            <a:ext cx="4495680" cy="2120760"/>
            <a:chOff x="228600" y="1143000"/>
            <a:chExt cx="4495680" cy="2120760"/>
          </a:xfrm>
        </p:grpSpPr>
        <p:sp>
          <p:nvSpPr>
            <p:cNvPr id="68" name=""/>
            <p:cNvSpPr/>
            <p:nvPr/>
          </p:nvSpPr>
          <p:spPr>
            <a:xfrm>
              <a:off x="1905120" y="1143000"/>
              <a:ext cx="281916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8600" y="1523880"/>
              <a:ext cx="1447920" cy="173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e this to cycle through the different time period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362320" y="3352680"/>
            <a:ext cx="3200400" cy="1828800"/>
            <a:chOff x="2362320" y="3352680"/>
            <a:chExt cx="3200400" cy="1828800"/>
          </a:xfrm>
        </p:grpSpPr>
        <p:sp>
          <p:nvSpPr>
            <p:cNvPr id="71" name=""/>
            <p:cNvSpPr/>
            <p:nvPr/>
          </p:nvSpPr>
          <p:spPr>
            <a:xfrm>
              <a:off x="4267080" y="4343400"/>
              <a:ext cx="1295640" cy="83808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62320" y="3352680"/>
              <a:ext cx="1752480" cy="1465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ck on the yellow links here to change the info on the right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781680" y="1447920"/>
            <a:ext cx="2210040" cy="4833360"/>
            <a:chOff x="6781680" y="1447920"/>
            <a:chExt cx="2210040" cy="4833360"/>
          </a:xfrm>
        </p:grpSpPr>
        <p:sp>
          <p:nvSpPr>
            <p:cNvPr id="74" name=""/>
            <p:cNvSpPr/>
            <p:nvPr/>
          </p:nvSpPr>
          <p:spPr>
            <a:xfrm>
              <a:off x="6781680" y="1447920"/>
              <a:ext cx="2210040" cy="2666880"/>
            </a:xfrm>
            <a:prstGeom prst="rect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010280" y="4267080"/>
              <a:ext cx="1905120" cy="2014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re is where the additional information will be.  Sometimes you can scroll down for more inf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ZAR (TSAR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mperor of Russia prior to the Russian R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at form of political system is a cza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ssian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Cz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Confli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ommunist Revolu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orld War I, World War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old W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emocracy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Market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putnik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p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hat year was Sputnik launch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effect did the Sputnik launch have on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Explain the Space R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t have at least two sentences. Answer the questions be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Explain how the individual/event contributed to the rise or fall of Communi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eopl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did he/she do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v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at were the effects of the ev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timeline using timetoas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event you must have a date, title, description, and picture/im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the day and month, use January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vents without sources, paste the sources website or create a citation.  See the citation resource on the wiki for assist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meline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st Cz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see 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. Russi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363,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. Soviet Union crea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. 363 Timeline, P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. Stal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PBS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. World War I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. Cold War begi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- p. 36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7. Sputni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lip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. Cold War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– CN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5791320"/>
            <a:ext cx="6781680" cy="8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ll sources are provided on the wiki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cyridgewgh08.wikispace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d War Ev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CNN source on the wik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use any other sources you must cite them on your time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any three events from the list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Airli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Vietnam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-2 Affa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rean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lin W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ban Missile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 W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3:07:00Z</dcterms:created>
  <dc:creator>CFISD</dc:creator>
  <dc:description/>
  <dc:language>en-US</dc:language>
  <cp:lastModifiedBy>CFISD</cp:lastModifiedBy>
  <dcterms:modified xsi:type="dcterms:W3CDTF">2008-12-17T13:31:50Z</dcterms:modified>
  <cp:revision>10</cp:revision>
  <dc:subject/>
  <dc:title>Russian History </dc:title>
</cp:coreProperties>
</file>