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D0E-18B3-40A8-B2CF-D4CDC69E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122-ACC1-4628-8353-36C92F5E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FE6-787E-4509-8F9A-01ACCE39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2DC-60BB-4E75-AD55-6299B3AC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373-668F-4392-80AB-ADE5FC41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195-E9B6-4F07-B8BC-72D12140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C45-6F47-4A9F-B31D-623A86D4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33F-1EF4-4BD0-B1AA-8CF77559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0B61-A5D8-4936-8336-E8A30F82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4056-FA41-4970-89C6-6A5ECA82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9E15-F6D9-410E-9962-E5D0F982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EA1-1002-4300-9BFD-3E8EB110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6F03-03F4-4C41-96EC-4DAE51872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deo.nytimes.com/video/2007/09/24/science/space/1194817120962/sputniks-legacy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toast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usern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are finished publish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you publish your timeline your timeline will receive its own link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me the link or turn it in on pap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iki link tool to copy and paste the link on the wiki file pag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edit page and choose the insert hyperlink button (see next slide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select external lin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where it says link text and title it with your first and last n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57600" y="914400"/>
            <a:ext cx="380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733920"/>
            <a:ext cx="1523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2133720"/>
            <a:ext cx="320040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562720"/>
            <a:ext cx="1828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insert links on the w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228600" y="1143000"/>
            <a:ext cx="4495680" cy="2120760"/>
            <a:chOff x="228600" y="1143000"/>
            <a:chExt cx="4495680" cy="2120760"/>
          </a:xfrm>
        </p:grpSpPr>
        <p:sp>
          <p:nvSpPr>
            <p:cNvPr id="68" name=""/>
            <p:cNvSpPr/>
            <p:nvPr/>
          </p:nvSpPr>
          <p:spPr>
            <a:xfrm>
              <a:off x="1905120" y="1143000"/>
              <a:ext cx="281916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523880"/>
              <a:ext cx="1447920" cy="173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this to cycle through the different time period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362320" y="3352680"/>
            <a:ext cx="3200400" cy="1828800"/>
            <a:chOff x="2362320" y="3352680"/>
            <a:chExt cx="3200400" cy="1828800"/>
          </a:xfrm>
        </p:grpSpPr>
        <p:sp>
          <p:nvSpPr>
            <p:cNvPr id="71" name=""/>
            <p:cNvSpPr/>
            <p:nvPr/>
          </p:nvSpPr>
          <p:spPr>
            <a:xfrm>
              <a:off x="4267080" y="4343400"/>
              <a:ext cx="129564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62320" y="3352680"/>
              <a:ext cx="1752480" cy="146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the yellow links here to change the info on the righ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781680" y="1447920"/>
            <a:ext cx="2210040" cy="4833360"/>
            <a:chOff x="6781680" y="1447920"/>
            <a:chExt cx="2210040" cy="4833360"/>
          </a:xfrm>
        </p:grpSpPr>
        <p:sp>
          <p:nvSpPr>
            <p:cNvPr id="74" name=""/>
            <p:cNvSpPr/>
            <p:nvPr/>
          </p:nvSpPr>
          <p:spPr>
            <a:xfrm>
              <a:off x="6781680" y="1447920"/>
              <a:ext cx="2210040" cy="2666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10280" y="4267080"/>
              <a:ext cx="1905120" cy="2014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where the additional information will be.  Sometimes you can scroll down for more inf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AR (TSAR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mperor of Russia prior to the Russian Rev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form of political system is a czar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n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Cz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onfli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ommunist Revo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World War I, World War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old W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Democracy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rket Econo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utnik C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year was Sputnik launch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effect did the Sputnik launch have on the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ain the Space R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line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event you must ha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t have at least two sentences. Answer the questions be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xplain how the individual/event contributed to the rise or fall of Communi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eop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did he/she d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v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were the effects of the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imeline using timetoas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event you must have a date, title, description, and picture/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the day and month, use Januar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sources, paste the sources website or create a citation.  See the citation resource on the wiki for assis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lin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st Cz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see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 Russi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p.363, PBS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 Soviet Union cre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p. 363 Timeline, P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. Stal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PBS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 World War 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p. 3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. Cold War beg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p. 3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. Sputni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clip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. Cold War 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CN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5791320"/>
            <a:ext cx="6781680" cy="8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 sources are provided on the wiki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cyridgewgh08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d War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NN source on the w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use any other sources you must cite them on your time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ny three events from the list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lin Airli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ietnam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-2 Affa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orean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lin W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n Missil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3:07:00Z</dcterms:created>
  <dc:creator>CFISD</dc:creator>
  <dc:description/>
  <dc:language>en-US</dc:language>
  <cp:lastModifiedBy>CFISD</cp:lastModifiedBy>
  <dcterms:modified xsi:type="dcterms:W3CDTF">2008-12-17T13:31:50Z</dcterms:modified>
  <cp:revision>10</cp:revision>
  <dc:subject/>
  <dc:title>Russian History </dc:title>
</cp:coreProperties>
</file>