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EA89-C6ED-4018-8691-F816392A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AC22-55E9-4552-936F-ED2BD0C5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ADF0-C248-4BA7-A69D-1CC03EFF5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E39-2F84-48B2-A6C8-FB7C2E00E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3CC-12F0-411F-9DB1-38FFCB5E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CD43-3AAD-4A4C-8674-69425542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A76-49F9-4098-871C-36985AA9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307-FC0A-41E1-A26B-9EA272FB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3127-2AFF-40D5-B821-7F89E007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65FA-A027-4230-A95B-D333D628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4E36-2CD4-4153-BEAE-79714DD7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4DA1-9908-4E56-8C46-1C5310F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2E67-989F-41C3-92E6-86351F0A2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nytimes.com/video/2007/09/24/science/space/1194817120962/sputniks-legacy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 or turn it in on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72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insert links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68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71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74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Cz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mmunist Revo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orld War I,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emocrac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rket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utnik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year was Sputnik launch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e Sputnik launch have o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the Space R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have at least two sentences. Answer the questions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how the individual/event contributed to the rise or fall of Commu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eop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id he/sh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v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were the effects of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st C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see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Russi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363,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Soviet Union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. 363 Timeline, P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Sta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World War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Cold War beg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li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Cold War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N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791320"/>
            <a:ext cx="678168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sources are provided on the wiki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yridgewgh08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 Wa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NN source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 any other sources you must cite them on your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y three events from the list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Air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-2 Af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r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7T13:31:50Z</dcterms:modified>
  <cp:revision>10</cp:revision>
  <dc:subject/>
  <dc:title>Russian History </dc:title>
</cp:coreProperties>
</file>