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BA9-AE66-4F78-8049-5D9301AA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A07-60FC-4285-9B81-6DD55914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4DB-87A9-4F1A-AC73-4A17F59B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9A3-8B6F-4A31-98B2-286D10BF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49B-9172-499C-AEE8-0DE1EF31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8F1-3456-4B00-8838-3054478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106-B431-4B8C-A2C5-7432603B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34D-7AC3-4B3D-905B-520722C5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B7B-E0FD-4142-BF80-986999A9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D3B-E5A1-43EC-81F3-5BEE4C63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BB0-63EA-4DF3-81A2-18D16677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9DA-64C0-4B54-8FF1-63266ED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9A86-8082-4B73-B789-E50DE41B2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nytimes.com/video/2007/09/24/science/space/1194817120962/sputniks-legacy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oas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usern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finished publish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publish your timeline your timeline will receive its own lin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me the link or turn it in on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iki link tool to copy and paste the link on the wiki fil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dit page and choose the insert hyperlink button (see next slid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external li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where it says link text and title it with your first and last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7600" y="91440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733920"/>
            <a:ext cx="1523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2133720"/>
            <a:ext cx="3200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56272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insert links on the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228600" y="1143000"/>
            <a:ext cx="4495680" cy="2120760"/>
            <a:chOff x="228600" y="1143000"/>
            <a:chExt cx="4495680" cy="2120760"/>
          </a:xfrm>
        </p:grpSpPr>
        <p:sp>
          <p:nvSpPr>
            <p:cNvPr id="68" name=""/>
            <p:cNvSpPr/>
            <p:nvPr/>
          </p:nvSpPr>
          <p:spPr>
            <a:xfrm>
              <a:off x="1905120" y="1143000"/>
              <a:ext cx="281916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523880"/>
              <a:ext cx="1447920" cy="17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this to cycle through the different time perio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362320" y="3352680"/>
            <a:ext cx="3200400" cy="1828800"/>
            <a:chOff x="2362320" y="3352680"/>
            <a:chExt cx="3200400" cy="1828800"/>
          </a:xfrm>
        </p:grpSpPr>
        <p:sp>
          <p:nvSpPr>
            <p:cNvPr id="71" name=""/>
            <p:cNvSpPr/>
            <p:nvPr/>
          </p:nvSpPr>
          <p:spPr>
            <a:xfrm>
              <a:off x="4267080" y="4343400"/>
              <a:ext cx="129564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2320" y="3352680"/>
              <a:ext cx="175248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e yellow links here to change the info on the righ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781680" y="1447920"/>
            <a:ext cx="2210040" cy="4833360"/>
            <a:chOff x="6781680" y="1447920"/>
            <a:chExt cx="2210040" cy="4833360"/>
          </a:xfrm>
        </p:grpSpPr>
        <p:sp>
          <p:nvSpPr>
            <p:cNvPr id="74" name=""/>
            <p:cNvSpPr/>
            <p:nvPr/>
          </p:nvSpPr>
          <p:spPr>
            <a:xfrm>
              <a:off x="6781680" y="1447920"/>
              <a:ext cx="2210040" cy="2666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10280" y="4267080"/>
              <a:ext cx="1905120" cy="2014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where the additional information will be.  Sometimes you can scroll down for more inf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R (TSAR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eror of Russia prior to the Russian R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form of political system is a cza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Cz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nfli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ommunist Revo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orld War I, 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old W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emocrac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rket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utnik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year was Sputnik launch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effect did the Sputnik launch have on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the Space R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have at least two sentences. Answer the questions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lain how the individual/event contributed to the rise or fall of Commun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eop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did he/sh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v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were the effects of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imeline using timetoa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 a date, title, description, and picture/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the day and month, use Januar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sources, paste the sources website or create a citation.  See the citation resource on the wiki for ass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st Cz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see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Russi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363, PBS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 Soviet Union cre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p. 363 Timeline, P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 Stal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PBS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 World War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 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. Cold War beg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 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. 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clip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. Cold War 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CN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5791320"/>
            <a:ext cx="6781680" cy="8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 sources are provided on the wiki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yridgewgh08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 War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NN source on the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use any other sources you must cite them on your time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ny three events from the list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lin Airl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ietnam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-2 Aff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ore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lin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n Missil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07:00Z</dcterms:created>
  <dc:creator>CFISD</dc:creator>
  <dc:description/>
  <dc:language>en-US</dc:language>
  <cp:lastModifiedBy>CFISD</cp:lastModifiedBy>
  <dcterms:modified xsi:type="dcterms:W3CDTF">2008-12-17T13:31:50Z</dcterms:modified>
  <cp:revision>10</cp:revision>
  <dc:subject/>
  <dc:title>Russian History </dc:title>
</cp:coreProperties>
</file>