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A55F-2C6A-43FC-B42A-68C3EFE1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829F-075B-49D8-9B90-A1F0E2A0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E2BC-1FF8-476D-AA7A-71E8FDFE7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28A4-95A3-4A0F-924B-D063481EA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D5EF-5EA5-4177-896A-5EB96C79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1BC5-77BA-4CFB-A7DF-BE98BBB8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9768-9911-4A37-9CBB-2451A956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BE48-4C3C-4E4C-B4F1-319FBCE2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708D-B6C2-4AA0-9E16-C8D848F7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F67C-9912-4E68-B2D1-4164B049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989F-DBDB-4D4E-AD66-6965E167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8C25-4BCC-44CA-A716-5E3F5562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730B-5BE9-4968-A89D-CAE42FF37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n Histo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In your notebook, complete the Frayer Model below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280" y="1600200"/>
          <a:ext cx="8839080" cy="4724280"/>
        </p:xfrm>
        <a:graphic>
          <a:graphicData uri="http://schemas.openxmlformats.org/drawingml/2006/table">
            <a:tbl>
              <a:tblPr/>
              <a:tblGrid>
                <a:gridCol w="4620600"/>
                <a:gridCol w="4218480"/>
              </a:tblGrid>
              <a:tr h="18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AR (TSAR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mperor of Russia prior to the Russian Rev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What form of political system is a czar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timeline using timetoas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event you must have a date, title, description, and picture/im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nts without the day and month, use January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nts without sources, paste the sources website or create a citation.  See the citation resource on the wiki for assist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line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1st C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zhnev (need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hruschev (need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sheviks seiz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the 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n Revolution be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utnik (need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SR created (need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 USSR disso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209680"/>
            <a:ext cx="2210040" cy="40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ne source is provided on the wi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Where it says need source you need to find a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f you use wikipedia go to the bottom and access the real sour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o not cite wikipedi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have at least two senten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the individual/event contributed to the rise or fall of Communis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he/sh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the effects of the ev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toast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userna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your timel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are finished publish your timel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you publish your timeline your timeline will receive its own link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 me the lin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wiki link tool to copy and paste the link on the wiki file pag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edit page and choose the insert hyperlink button (see next slide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you select external link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where it says link text and title it with your first and last na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657600" y="914400"/>
            <a:ext cx="3808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3733920"/>
            <a:ext cx="15238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133720"/>
            <a:ext cx="3200400" cy="761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rcRect l="0" t="0" r="5000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228600" y="1143000"/>
            <a:ext cx="4495680" cy="2120760"/>
            <a:chOff x="228600" y="1143000"/>
            <a:chExt cx="4495680" cy="2120760"/>
          </a:xfrm>
        </p:grpSpPr>
        <p:sp>
          <p:nvSpPr>
            <p:cNvPr id="59" name=""/>
            <p:cNvSpPr/>
            <p:nvPr/>
          </p:nvSpPr>
          <p:spPr>
            <a:xfrm>
              <a:off x="1905120" y="1143000"/>
              <a:ext cx="2819160" cy="8380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28600" y="1523880"/>
              <a:ext cx="1447920" cy="173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e this to cycle through the different time period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362320" y="3352680"/>
            <a:ext cx="3200400" cy="1828800"/>
            <a:chOff x="2362320" y="3352680"/>
            <a:chExt cx="3200400" cy="1828800"/>
          </a:xfrm>
        </p:grpSpPr>
        <p:sp>
          <p:nvSpPr>
            <p:cNvPr id="62" name=""/>
            <p:cNvSpPr/>
            <p:nvPr/>
          </p:nvSpPr>
          <p:spPr>
            <a:xfrm>
              <a:off x="4267080" y="4343400"/>
              <a:ext cx="1295640" cy="8380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62320" y="3352680"/>
              <a:ext cx="1752480" cy="1465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on the yellow links here to change the info on the righ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781680" y="1447920"/>
            <a:ext cx="2210040" cy="4833360"/>
            <a:chOff x="6781680" y="1447920"/>
            <a:chExt cx="2210040" cy="4833360"/>
          </a:xfrm>
        </p:grpSpPr>
        <p:sp>
          <p:nvSpPr>
            <p:cNvPr id="65" name=""/>
            <p:cNvSpPr/>
            <p:nvPr/>
          </p:nvSpPr>
          <p:spPr>
            <a:xfrm>
              <a:off x="6781680" y="1447920"/>
              <a:ext cx="2210040" cy="26668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010280" y="4267080"/>
              <a:ext cx="1905120" cy="2014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re is where the additional information will be.  Sometimes you can scroll down for more inf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3:07:00Z</dcterms:created>
  <dc:creator>CFISD</dc:creator>
  <dc:description/>
  <dc:language>en-US</dc:language>
  <cp:lastModifiedBy>CFISD</cp:lastModifiedBy>
  <dcterms:modified xsi:type="dcterms:W3CDTF">2008-12-16T14:11:16Z</dcterms:modified>
  <cp:revision>7</cp:revision>
  <dc:subject/>
  <dc:title>Russian History </dc:title>
</cp:coreProperties>
</file>