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837-F64A-4CB2-A323-1C254B06B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8C3-8E58-485E-A907-24CBF12B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716D-0CBB-46BB-A2B0-E50E9A41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3F57-8CB2-414C-9B6C-752C3F5E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B6B1-1476-4464-BCFB-175BB08B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702-D68A-4DDF-A5D4-0486D62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05D-C2B5-4C9D-B545-27CF81DA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F25-7F5C-499F-BE15-31881790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24FF-C5DE-401D-A4E1-E0933F2E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3969-DB1C-4364-809E-270D6BF0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397-7340-42C7-A1CD-2C09ECD9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8632-2939-42C5-BA49-CA6B4467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43F2-3FC4-42D6-8C22-C6D93F59C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1st C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zhn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hruschev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sheviks seiz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the Gr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ssian Revolution be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nik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SR created (need sour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. USSR disso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2209680"/>
            <a:ext cx="2210040" cy="40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ne source is provided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Where it says need source you need to find a 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f you use wikipedia go to the bottom and access the real sour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 not cite wikiped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have at least two senten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how the individual/event contributed to the rise or fall of Communis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he/sh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re the effects of the ev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59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62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65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6T14:11:16Z</dcterms:modified>
  <cp:revision>7</cp:revision>
  <dc:subject/>
  <dc:title>Russian History </dc:title>
</cp:coreProperties>
</file>