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F38-8B35-4BD1-8CC9-443BEE0B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EC6-40F5-47C3-A602-790A5ECB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0FE-2555-4EE0-8160-BCE7ADF4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90E-83F7-41E4-A809-87F86F22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9B3-35B6-4A2D-A7E4-7A36A287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1CF-CEAE-465A-BC01-EF8602CE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81B-CEF2-461C-8F80-53016CCB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CF8-28F0-49E3-B3A1-E7A543D2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1E4-A1F8-49E7-8C27-3F12552F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3CF-D450-4574-9C97-2531CF6E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728-1810-4B20-9C15-5E71D79F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FBB-E6A7-4DD7-B66B-38195E0A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7739-A877-4E11-B776-0DA2764F8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Hi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AR (TSAR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mperor of Russia prior to the Russian Rev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form of political system is a czar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imeline using timetoas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event you must have a date, title, description, and picture/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the day and month, use Januar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sources, paste the sources website or create a citation.  See the citation resource on the wiki for assist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line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1st C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zhnev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ruschev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sheviks seiz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the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Revolution be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nik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SR created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USSR disso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209680"/>
            <a:ext cx="2210040" cy="40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ne source is provided on the w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here it says need source you need to find a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f you use wikipedia go to the bottom and access the real sour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o not cite wikipedi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at least two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he individual/event contributed to the rise or fall of Commun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he/s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effects of the ev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toast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usern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are finished publish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you publish your timeline your timeline will receive its own link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me the li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iki link tool to copy and paste the link on the wiki file pag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edit page and choose the insert hyperlink button (see next slide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select external lin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where it says link text and title it with your first and last n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57600" y="914400"/>
            <a:ext cx="380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3733920"/>
            <a:ext cx="1523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133720"/>
            <a:ext cx="320040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28600" y="1143000"/>
            <a:ext cx="4495680" cy="2120760"/>
            <a:chOff x="228600" y="1143000"/>
            <a:chExt cx="4495680" cy="2120760"/>
          </a:xfrm>
        </p:grpSpPr>
        <p:sp>
          <p:nvSpPr>
            <p:cNvPr id="59" name=""/>
            <p:cNvSpPr/>
            <p:nvPr/>
          </p:nvSpPr>
          <p:spPr>
            <a:xfrm>
              <a:off x="1905120" y="1143000"/>
              <a:ext cx="281916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8600" y="1523880"/>
              <a:ext cx="1447920" cy="173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 this to cycle through the different time period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362320" y="3352680"/>
            <a:ext cx="3200400" cy="1828800"/>
            <a:chOff x="2362320" y="3352680"/>
            <a:chExt cx="3200400" cy="1828800"/>
          </a:xfrm>
        </p:grpSpPr>
        <p:sp>
          <p:nvSpPr>
            <p:cNvPr id="62" name=""/>
            <p:cNvSpPr/>
            <p:nvPr/>
          </p:nvSpPr>
          <p:spPr>
            <a:xfrm>
              <a:off x="4267080" y="4343400"/>
              <a:ext cx="129564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62320" y="3352680"/>
              <a:ext cx="1752480" cy="146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the yellow links here to change the info on the righ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781680" y="1447920"/>
            <a:ext cx="2210040" cy="4833360"/>
            <a:chOff x="6781680" y="1447920"/>
            <a:chExt cx="2210040" cy="4833360"/>
          </a:xfrm>
        </p:grpSpPr>
        <p:sp>
          <p:nvSpPr>
            <p:cNvPr id="65" name=""/>
            <p:cNvSpPr/>
            <p:nvPr/>
          </p:nvSpPr>
          <p:spPr>
            <a:xfrm>
              <a:off x="6781680" y="1447920"/>
              <a:ext cx="2210040" cy="2666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10280" y="4267080"/>
              <a:ext cx="1905120" cy="2014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where the additional information will be.  Sometimes you can scroll down for more inf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3:07:00Z</dcterms:created>
  <dc:creator>CFISD</dc:creator>
  <dc:description/>
  <dc:language>en-US</dc:language>
  <cp:lastModifiedBy>CFISD</cp:lastModifiedBy>
  <dcterms:modified xsi:type="dcterms:W3CDTF">2008-12-16T14:11:16Z</dcterms:modified>
  <cp:revision>7</cp:revision>
  <dc:subject/>
  <dc:title>Russian History </dc:title>
</cp:coreProperties>
</file>