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E6E-8D46-47E2-9BE8-810093DE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5BD4-3393-4B54-A817-2BFC745B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3C1-C60F-4D45-8E21-14B03D800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F444-C896-4230-86E1-C9DB5107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4D6A-49EA-42B7-829D-15F90199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8E3E-2B25-403C-9B63-F9D202F4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8B55-3B13-4503-9CD6-BBCCEB2C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CDD-1B26-4747-8474-3D43BD98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0C1-EF74-499E-8790-E30FCACF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E3F-DC3A-453F-8B16-79B4699A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980-8EE3-434B-9028-2D910E8B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969-66AA-4A6E-91F6-944EE580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9B0E-5147-4D4C-8E65-4FAF395A6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His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AR (TSAR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mperor of Russia prior to the Russian Rev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form of political system is a czar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imeline using timetoas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event you must have a date, title, description, and picture/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the day and month, use January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sources, paste the sources website or create a citation.  See the citation resource on the wiki for assist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line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1st C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zhnev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ruschev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sheviks seiz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the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Revolution be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tnik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SR created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USSR disso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209680"/>
            <a:ext cx="2210040" cy="40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ne source is provided on the w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here it says need source you need to find a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f you use wikipedia go to the bottom and access the real sour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o not cite wikipedi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at least two sent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he individual/event contributed to the rise or fall of Communi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he/sh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effects of the ev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toast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usern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are finished publish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you publish your timeline your timeline will receive its own link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me the li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iki link tool to copy and paste the link on the wiki file pag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edit page and choose the insert hyperlink button (see next slide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select external lin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where it says link text and title it with your first and last na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57600" y="914400"/>
            <a:ext cx="380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3733920"/>
            <a:ext cx="1523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133720"/>
            <a:ext cx="320040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28600" y="1143000"/>
            <a:ext cx="4495680" cy="2120760"/>
            <a:chOff x="228600" y="1143000"/>
            <a:chExt cx="4495680" cy="2120760"/>
          </a:xfrm>
        </p:grpSpPr>
        <p:sp>
          <p:nvSpPr>
            <p:cNvPr id="59" name=""/>
            <p:cNvSpPr/>
            <p:nvPr/>
          </p:nvSpPr>
          <p:spPr>
            <a:xfrm>
              <a:off x="1905120" y="1143000"/>
              <a:ext cx="281916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8600" y="1523880"/>
              <a:ext cx="1447920" cy="173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 this to cycle through the different time period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362320" y="3352680"/>
            <a:ext cx="3200400" cy="1828800"/>
            <a:chOff x="2362320" y="3352680"/>
            <a:chExt cx="3200400" cy="1828800"/>
          </a:xfrm>
        </p:grpSpPr>
        <p:sp>
          <p:nvSpPr>
            <p:cNvPr id="62" name=""/>
            <p:cNvSpPr/>
            <p:nvPr/>
          </p:nvSpPr>
          <p:spPr>
            <a:xfrm>
              <a:off x="4267080" y="4343400"/>
              <a:ext cx="129564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62320" y="3352680"/>
              <a:ext cx="1752480" cy="146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on the yellow links here to change the info on the righ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781680" y="1447920"/>
            <a:ext cx="2210040" cy="4833360"/>
            <a:chOff x="6781680" y="1447920"/>
            <a:chExt cx="2210040" cy="4833360"/>
          </a:xfrm>
        </p:grpSpPr>
        <p:sp>
          <p:nvSpPr>
            <p:cNvPr id="65" name=""/>
            <p:cNvSpPr/>
            <p:nvPr/>
          </p:nvSpPr>
          <p:spPr>
            <a:xfrm>
              <a:off x="6781680" y="1447920"/>
              <a:ext cx="2210040" cy="2666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10280" y="4267080"/>
              <a:ext cx="1905120" cy="2014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where the additional information will be.  Sometimes you can scroll down for more inf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3:07:00Z</dcterms:created>
  <dc:creator>CFISD</dc:creator>
  <dc:description/>
  <dc:language>en-US</dc:language>
  <cp:lastModifiedBy>CFISD</cp:lastModifiedBy>
  <dcterms:modified xsi:type="dcterms:W3CDTF">2008-12-16T14:11:16Z</dcterms:modified>
  <cp:revision>7</cp:revision>
  <dc:subject/>
  <dc:title>Russian History </dc:title>
</cp:coreProperties>
</file>