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1AFC-862B-45CD-8C95-2B79C1711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0AD-516D-416F-832F-BAE6EFB6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CF4-5C75-4B41-9A6D-1B5D8ECC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41B9-50A5-49F7-8206-127C9E68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2743-2A96-4D87-A9D0-3D464889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2C9-A39D-426B-BD29-FD319255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935-F30B-4D22-8C3C-F5293E81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F21-C4AB-46D4-925A-75E8EA83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E8B-E08D-48EE-BC80-09D7FCFB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EC09-463C-4641-946F-C719B717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81A-16A2-47D7-8CF5-75C803F0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F75-10A8-4069-9CDF-4D66972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67AF-6B6A-492E-8414-37BC16CD4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hyperlink" Target="http://www.google.com/imgres?imgurl=http://www.smh.com.au/ffximage/2007/11/06/Putin_071106021505120_wideweb__300x375.jpg&amp;imgrefurl=http://www.smh.com.au/news/tv-reviews/the-putin-system/2007/11/06/1194118016186.html&amp;h=375&amp;w=300&amp;sz=28&amp;tbnid=ILtFBaOMoEIJ::&amp;tbnh=122&amp;tbnw=98&amp;prev=/images%3Fq%3Dputin%2Bpicture&amp;usg=__PLqW640RSvaaDabEON5fTmDxzOw=&amp;sa=X&amp;oi=image_result&amp;resnum=1&amp;ct=image&amp;cd=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rcRect l="20833" t="8334" r="0" b="55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4260960"/>
            <a:ext cx="2666880" cy="266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beria in the summer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ermafrost melts and creates small ponds and lak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IB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beria has tundra and subarctic climate regions. (VERY COL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p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it difficult to extract natural resources from Siberia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transpor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ermafrost melts the ground is wet and mudd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winter it is cold, icy, and snow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449568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URAL 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the continents Europe and As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e as the bord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Ural Mountains"/>
          <p:cNvPicPr/>
          <p:nvPr/>
        </p:nvPicPr>
        <p:blipFill>
          <a:blip r:embed="rId2"/>
          <a:stretch/>
        </p:blipFill>
        <p:spPr>
          <a:xfrm>
            <a:off x="5486400" y="762120"/>
            <a:ext cx="342576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2285640" y="304920"/>
            <a:ext cx="2438280" cy="4267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5228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380880"/>
            <a:ext cx="15238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5334120"/>
            <a:ext cx="83822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Before modern technology the Urals served as a barrier to diffus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rcRect l="0" t="17978" r="0" b="34088"/>
          <a:stretch/>
        </p:blipFill>
        <p:spPr>
          <a:xfrm>
            <a:off x="5257800" y="2819520"/>
            <a:ext cx="3657600" cy="3504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http://www.smh.com.au/news/tv-reviews/the-putin-system/2007/11/06/1194118016186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2666880"/>
            <a:ext cx="2938680" cy="3657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62520" y="2743200"/>
            <a:ext cx="6094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5228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st of the Urals the culture and people are more Europ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9920" y="228600"/>
            <a:ext cx="236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t of the Urals the culture and people are more As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5334120"/>
            <a:ext cx="83818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 As a result different cultures developed on each side of the mountai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Cut-Away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continentality using p. 350 in the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it impacts the climate of Rus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523880" y="5105520"/>
            <a:ext cx="6096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hysical Sid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ure (Do on the Exit Ticket slip.  Turn it in on the chair before you le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your name and the d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swer the Question of the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f you were the President of Russia, how would you fix the problems created by distance decay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velop a solution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main in your assigne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you are dismissed. Do not stand ANYWH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Eur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914400"/>
          <a:ext cx="8763120" cy="550224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say H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28600" y="50292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page titled “Cut-away boxes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your maps from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nswer must be in a complete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y cannot cover another physical feature that is gra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They must have an arrow that points directly to the physical feature in the ques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153280" y="304920"/>
            <a:ext cx="8384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0666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14400" y="228600"/>
            <a:ext cx="4343400" cy="15562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Your answer to the Distance Decay Cut-Away Ques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362320" y="1828800"/>
            <a:ext cx="83808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7893" r="1372" b="21931"/>
          <a:stretch/>
        </p:blipFill>
        <p:spPr>
          <a:xfrm>
            <a:off x="0" y="152388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2209680" y="3428640"/>
            <a:ext cx="63248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0"/>
            <a:ext cx="5029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 time 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191120" y="304920"/>
            <a:ext cx="47242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. Distance Decay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600200"/>
          <a:ext cx="8001000" cy="506412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DEC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ong distances between places make communication and transportation diffic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Political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Economic Effec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762120" y="6172200"/>
            <a:ext cx="243828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. 3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distance decay cut-away box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irections for the question and where to place the cut-away box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rcRect l="1388" t="18519" r="62503" b="45373"/>
          <a:stretch/>
        </p:blipFill>
        <p:spPr>
          <a:xfrm>
            <a:off x="0" y="0"/>
            <a:ext cx="9144000" cy="441972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457200" y="2437920"/>
            <a:ext cx="6248520" cy="3048480"/>
            <a:chOff x="457200" y="2437920"/>
            <a:chExt cx="6248520" cy="3048480"/>
          </a:xfrm>
        </p:grpSpPr>
        <p:sp>
          <p:nvSpPr>
            <p:cNvPr id="64" name=""/>
            <p:cNvSpPr txBox="1"/>
            <p:nvPr/>
          </p:nvSpPr>
          <p:spPr>
            <a:xfrm>
              <a:off x="457200" y="4648320"/>
              <a:ext cx="624852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Location of Siberia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5486400" y="2437920"/>
              <a:ext cx="0" cy="2133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500200" y="291960"/>
            <a:ext cx="6193080" cy="2451240"/>
          </a:xfrm>
          <a:custGeom>
            <a:avLst/>
            <a:gdLst/>
            <a:ahLst/>
            <a:rect l="l" t="t" r="r" b="b"/>
            <a:pathLst>
              <a:path w="3901" h="1683">
                <a:moveTo>
                  <a:pt x="265" y="1372"/>
                </a:moveTo>
                <a:cubicBezTo>
                  <a:pt x="314" y="1355"/>
                  <a:pt x="334" y="1348"/>
                  <a:pt x="392" y="1342"/>
                </a:cubicBezTo>
                <a:cubicBezTo>
                  <a:pt x="479" y="1345"/>
                  <a:pt x="567" y="1344"/>
                  <a:pt x="654" y="1350"/>
                </a:cubicBezTo>
                <a:cubicBezTo>
                  <a:pt x="695" y="1353"/>
                  <a:pt x="722" y="1383"/>
                  <a:pt x="759" y="1394"/>
                </a:cubicBezTo>
                <a:cubicBezTo>
                  <a:pt x="847" y="1454"/>
                  <a:pt x="932" y="1442"/>
                  <a:pt x="1043" y="1447"/>
                </a:cubicBezTo>
                <a:cubicBezTo>
                  <a:pt x="1103" y="1465"/>
                  <a:pt x="1162" y="1485"/>
                  <a:pt x="1223" y="1499"/>
                </a:cubicBezTo>
                <a:cubicBezTo>
                  <a:pt x="1273" y="1533"/>
                  <a:pt x="1328" y="1531"/>
                  <a:pt x="1387" y="1537"/>
                </a:cubicBezTo>
                <a:cubicBezTo>
                  <a:pt x="1469" y="1562"/>
                  <a:pt x="1571" y="1608"/>
                  <a:pt x="1657" y="1611"/>
                </a:cubicBezTo>
                <a:cubicBezTo>
                  <a:pt x="1792" y="1616"/>
                  <a:pt x="1926" y="1616"/>
                  <a:pt x="2061" y="1619"/>
                </a:cubicBezTo>
                <a:cubicBezTo>
                  <a:pt x="2133" y="1642"/>
                  <a:pt x="2119" y="1633"/>
                  <a:pt x="2233" y="1626"/>
                </a:cubicBezTo>
                <a:cubicBezTo>
                  <a:pt x="2288" y="1608"/>
                  <a:pt x="2348" y="1598"/>
                  <a:pt x="2405" y="1589"/>
                </a:cubicBezTo>
                <a:cubicBezTo>
                  <a:pt x="2450" y="1573"/>
                  <a:pt x="2505" y="1574"/>
                  <a:pt x="2547" y="1551"/>
                </a:cubicBezTo>
                <a:cubicBezTo>
                  <a:pt x="2627" y="1507"/>
                  <a:pt x="2563" y="1533"/>
                  <a:pt x="2614" y="1514"/>
                </a:cubicBezTo>
                <a:cubicBezTo>
                  <a:pt x="2685" y="1529"/>
                  <a:pt x="2741" y="1539"/>
                  <a:pt x="2816" y="1544"/>
                </a:cubicBezTo>
                <a:cubicBezTo>
                  <a:pt x="2869" y="1595"/>
                  <a:pt x="2811" y="1545"/>
                  <a:pt x="2861" y="1574"/>
                </a:cubicBezTo>
                <a:cubicBezTo>
                  <a:pt x="2872" y="1580"/>
                  <a:pt x="2882" y="1588"/>
                  <a:pt x="2891" y="1596"/>
                </a:cubicBezTo>
                <a:cubicBezTo>
                  <a:pt x="2899" y="1603"/>
                  <a:pt x="2904" y="1613"/>
                  <a:pt x="2913" y="1619"/>
                </a:cubicBezTo>
                <a:cubicBezTo>
                  <a:pt x="2939" y="1636"/>
                  <a:pt x="2981" y="1644"/>
                  <a:pt x="3011" y="1649"/>
                </a:cubicBezTo>
                <a:cubicBezTo>
                  <a:pt x="3111" y="1646"/>
                  <a:pt x="3220" y="1683"/>
                  <a:pt x="3310" y="1641"/>
                </a:cubicBezTo>
                <a:cubicBezTo>
                  <a:pt x="3348" y="1623"/>
                  <a:pt x="3312" y="1555"/>
                  <a:pt x="3302" y="1514"/>
                </a:cubicBezTo>
                <a:cubicBezTo>
                  <a:pt x="3295" y="1486"/>
                  <a:pt x="3206" y="1469"/>
                  <a:pt x="3183" y="1462"/>
                </a:cubicBezTo>
                <a:cubicBezTo>
                  <a:pt x="3160" y="1447"/>
                  <a:pt x="3138" y="1432"/>
                  <a:pt x="3115" y="1417"/>
                </a:cubicBezTo>
                <a:cubicBezTo>
                  <a:pt x="3108" y="1412"/>
                  <a:pt x="3093" y="1402"/>
                  <a:pt x="3093" y="1402"/>
                </a:cubicBezTo>
                <a:cubicBezTo>
                  <a:pt x="3052" y="1339"/>
                  <a:pt x="3106" y="1411"/>
                  <a:pt x="3055" y="1372"/>
                </a:cubicBezTo>
                <a:cubicBezTo>
                  <a:pt x="3051" y="1369"/>
                  <a:pt x="3028" y="1331"/>
                  <a:pt x="3026" y="1327"/>
                </a:cubicBezTo>
                <a:cubicBezTo>
                  <a:pt x="3031" y="1257"/>
                  <a:pt x="3037" y="1235"/>
                  <a:pt x="3048" y="1177"/>
                </a:cubicBezTo>
                <a:cubicBezTo>
                  <a:pt x="3054" y="1142"/>
                  <a:pt x="3046" y="1126"/>
                  <a:pt x="3070" y="1103"/>
                </a:cubicBezTo>
                <a:cubicBezTo>
                  <a:pt x="3104" y="1069"/>
                  <a:pt x="3189" y="1067"/>
                  <a:pt x="3235" y="1058"/>
                </a:cubicBezTo>
                <a:cubicBezTo>
                  <a:pt x="3304" y="1063"/>
                  <a:pt x="3328" y="1067"/>
                  <a:pt x="3385" y="1080"/>
                </a:cubicBezTo>
                <a:cubicBezTo>
                  <a:pt x="3428" y="1101"/>
                  <a:pt x="3474" y="1117"/>
                  <a:pt x="3519" y="1133"/>
                </a:cubicBezTo>
                <a:cubicBezTo>
                  <a:pt x="3527" y="1132"/>
                  <a:pt x="3578" y="1127"/>
                  <a:pt x="3594" y="1118"/>
                </a:cubicBezTo>
                <a:cubicBezTo>
                  <a:pt x="3610" y="1109"/>
                  <a:pt x="3639" y="1088"/>
                  <a:pt x="3639" y="1088"/>
                </a:cubicBezTo>
                <a:cubicBezTo>
                  <a:pt x="3687" y="1017"/>
                  <a:pt x="3660" y="1072"/>
                  <a:pt x="3676" y="983"/>
                </a:cubicBezTo>
                <a:cubicBezTo>
                  <a:pt x="3677" y="977"/>
                  <a:pt x="3691" y="939"/>
                  <a:pt x="3699" y="938"/>
                </a:cubicBezTo>
                <a:cubicBezTo>
                  <a:pt x="3756" y="929"/>
                  <a:pt x="3814" y="933"/>
                  <a:pt x="3871" y="931"/>
                </a:cubicBezTo>
                <a:cubicBezTo>
                  <a:pt x="3892" y="899"/>
                  <a:pt x="3894" y="880"/>
                  <a:pt x="3901" y="841"/>
                </a:cubicBezTo>
                <a:cubicBezTo>
                  <a:pt x="3894" y="681"/>
                  <a:pt x="3897" y="502"/>
                  <a:pt x="3691" y="497"/>
                </a:cubicBezTo>
                <a:cubicBezTo>
                  <a:pt x="3522" y="493"/>
                  <a:pt x="3352" y="492"/>
                  <a:pt x="3183" y="489"/>
                </a:cubicBezTo>
                <a:cubicBezTo>
                  <a:pt x="3133" y="482"/>
                  <a:pt x="3089" y="469"/>
                  <a:pt x="3040" y="459"/>
                </a:cubicBezTo>
                <a:cubicBezTo>
                  <a:pt x="2993" y="434"/>
                  <a:pt x="2942" y="436"/>
                  <a:pt x="2891" y="422"/>
                </a:cubicBezTo>
                <a:cubicBezTo>
                  <a:pt x="2818" y="401"/>
                  <a:pt x="2742" y="365"/>
                  <a:pt x="2666" y="362"/>
                </a:cubicBezTo>
                <a:cubicBezTo>
                  <a:pt x="2572" y="358"/>
                  <a:pt x="1923" y="347"/>
                  <a:pt x="1911" y="347"/>
                </a:cubicBezTo>
                <a:cubicBezTo>
                  <a:pt x="1823" y="335"/>
                  <a:pt x="1737" y="311"/>
                  <a:pt x="1649" y="295"/>
                </a:cubicBezTo>
                <a:cubicBezTo>
                  <a:pt x="1604" y="273"/>
                  <a:pt x="1555" y="265"/>
                  <a:pt x="1507" y="250"/>
                </a:cubicBezTo>
                <a:cubicBezTo>
                  <a:pt x="1483" y="234"/>
                  <a:pt x="1457" y="226"/>
                  <a:pt x="1432" y="212"/>
                </a:cubicBezTo>
                <a:cubicBezTo>
                  <a:pt x="1384" y="186"/>
                  <a:pt x="1337" y="143"/>
                  <a:pt x="1283" y="130"/>
                </a:cubicBezTo>
                <a:cubicBezTo>
                  <a:pt x="1245" y="121"/>
                  <a:pt x="1208" y="110"/>
                  <a:pt x="1170" y="100"/>
                </a:cubicBezTo>
                <a:cubicBezTo>
                  <a:pt x="656" y="106"/>
                  <a:pt x="609" y="0"/>
                  <a:pt x="340" y="183"/>
                </a:cubicBezTo>
                <a:cubicBezTo>
                  <a:pt x="326" y="204"/>
                  <a:pt x="300" y="257"/>
                  <a:pt x="273" y="272"/>
                </a:cubicBezTo>
                <a:cubicBezTo>
                  <a:pt x="259" y="280"/>
                  <a:pt x="228" y="287"/>
                  <a:pt x="228" y="287"/>
                </a:cubicBezTo>
                <a:cubicBezTo>
                  <a:pt x="220" y="292"/>
                  <a:pt x="213" y="298"/>
                  <a:pt x="205" y="302"/>
                </a:cubicBezTo>
                <a:cubicBezTo>
                  <a:pt x="196" y="306"/>
                  <a:pt x="184" y="305"/>
                  <a:pt x="175" y="310"/>
                </a:cubicBezTo>
                <a:cubicBezTo>
                  <a:pt x="84" y="357"/>
                  <a:pt x="166" y="329"/>
                  <a:pt x="108" y="347"/>
                </a:cubicBezTo>
                <a:cubicBezTo>
                  <a:pt x="49" y="387"/>
                  <a:pt x="41" y="457"/>
                  <a:pt x="18" y="519"/>
                </a:cubicBezTo>
                <a:cubicBezTo>
                  <a:pt x="26" y="1035"/>
                  <a:pt x="0" y="901"/>
                  <a:pt x="63" y="1162"/>
                </a:cubicBezTo>
                <a:cubicBezTo>
                  <a:pt x="68" y="1241"/>
                  <a:pt x="49" y="1340"/>
                  <a:pt x="138" y="1372"/>
                </a:cubicBezTo>
                <a:cubicBezTo>
                  <a:pt x="168" y="1416"/>
                  <a:pt x="186" y="1401"/>
                  <a:pt x="243" y="1394"/>
                </a:cubicBezTo>
                <a:cubicBezTo>
                  <a:pt x="267" y="1378"/>
                  <a:pt x="265" y="1388"/>
                  <a:pt x="265" y="1372"/>
                </a:cubicBezTo>
                <a:close/>
              </a:path>
            </a:pathLst>
          </a:custGeom>
          <a:noFill/>
          <a:ln w="66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57150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AST OF THE URAL MOUNTAINS, ALL THE WAY TO THE EASTERN COA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9:23Z</dcterms:created>
  <dc:creator>CFISD</dc:creator>
  <dc:description/>
  <dc:language>en-US</dc:language>
  <cp:lastModifiedBy>CFISD</cp:lastModifiedBy>
  <dcterms:modified xsi:type="dcterms:W3CDTF">2008-12-09T20:44:25Z</dcterms:modified>
  <cp:revision>20</cp:revision>
  <dc:subject/>
  <dc:title>US and Canada</dc:title>
</cp:coreProperties>
</file>