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F01-6EB7-4495-8173-A60A84D6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6F1-64D8-4A49-B9C4-97F5E886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36E-6BD5-46DD-A667-8BB4F4E6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3E0-1212-4058-8F19-98FC1410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3DE-F5B5-44AD-88CF-8943AA1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FCD-DD28-42A6-B438-0C6A5AA5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6E1-198E-4C61-A446-08C56CC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EAE-2687-4801-8E7F-7B8D9AC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AA2-23A4-4221-B76C-035797E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669-5664-484B-89A9-44E0BB3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92F-582F-4E30-A85D-574D2DA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739-E7F4-4D7F-87A6-52F4E8F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BC36-09C9-4722-83D2-30D3D5E7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www.smh.com.au/ffximage/2007/11/06/Putin_071106021505120_wideweb__300x375.jpg&amp;imgrefurl=http://www.smh.com.au/news/tv-reviews/the-putin-system/2007/11/06/1194118016186.html&amp;h=375&amp;w=300&amp;sz=28&amp;tbnid=ILtFBaOMoEIJ::&amp;tbnh=122&amp;tbnw=98&amp;prev=/images%3Fq%3Dputin%2Bpicture&amp;usg=__PLqW640RSvaaDabEON5fTmDxzOw=&amp;sa=X&amp;oi=image_result&amp;resnum=1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20833" t="8334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260960"/>
            <a:ext cx="2666880" cy="26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beria in the summ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afrost melts and creates small ponds and la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rmafrost melts the ground is wet and mudd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inter it is cold, icy, and snow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URAL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he continents Europe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the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ral Mountains"/>
          <p:cNvPicPr/>
          <p:nvPr/>
        </p:nvPicPr>
        <p:blipFill>
          <a:blip r:embed="rId2"/>
          <a:stretch/>
        </p:blipFill>
        <p:spPr>
          <a:xfrm>
            <a:off x="5486400" y="762120"/>
            <a:ext cx="3425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285640" y="304920"/>
            <a:ext cx="2438280" cy="426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2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80880"/>
            <a:ext cx="1523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382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efore modern technology the Urals served as a barrier to diffus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17978" r="0" b="34088"/>
          <a:stretch/>
        </p:blipFill>
        <p:spPr>
          <a:xfrm>
            <a:off x="5257800" y="281952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ttp://www.smh.com.au/news/tv-reviews/the-putin-system/2007/11/06/1194118016186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666880"/>
            <a:ext cx="29386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2520" y="2743200"/>
            <a:ext cx="609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2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of the Urals the culture and people are more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286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of the Urals the culture and people are more A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334120"/>
            <a:ext cx="8381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a result different cultures developed on each side of the mount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ut-Away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ntinentality using p. 350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impacts the climate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5105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S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 (Do on the Exit Ticket slip.  Turn it in on the chair before you le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your name and the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the Question of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ere the President of Russia, how would you fix the problems created by distance dec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velop a solution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ain in your assign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you are dismissed. Do not stand ANY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5022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titled “Cut-away boxe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our maps fro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must be in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y cannot cover another physical feature that is gra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y must have an arrow that points directly to the physical feature in the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92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"/>
            <a:ext cx="4343400" cy="15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answer to the Distance Decay Cut-Away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2320" y="18288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209680" y="3428640"/>
            <a:ext cx="6324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. Distance Dec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00200"/>
          <a:ext cx="8001000" cy="5064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DEC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ng distances between places make communication and transportation diffic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litica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conomic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6172200"/>
            <a:ext cx="2438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distance decay cut-away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for the question and where to place the cut-away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388" t="18519" r="62503" b="45373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" y="2437920"/>
            <a:ext cx="6248520" cy="3048480"/>
            <a:chOff x="457200" y="2437920"/>
            <a:chExt cx="6248520" cy="3048480"/>
          </a:xfrm>
        </p:grpSpPr>
        <p:sp>
          <p:nvSpPr>
            <p:cNvPr id="64" name=""/>
            <p:cNvSpPr txBox="1"/>
            <p:nvPr/>
          </p:nvSpPr>
          <p:spPr>
            <a:xfrm>
              <a:off x="457200" y="4648320"/>
              <a:ext cx="6248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ocation of Siberia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437920"/>
              <a:ext cx="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00200" y="291960"/>
            <a:ext cx="6193080" cy="2451240"/>
          </a:xfrm>
          <a:custGeom>
            <a:avLst/>
            <a:gdLst/>
            <a:ahLst/>
            <a:rect l="l" t="t" r="r" b="b"/>
            <a:pathLst>
              <a:path w="3901" h="1683">
                <a:moveTo>
                  <a:pt x="265" y="1372"/>
                </a:moveTo>
                <a:cubicBezTo>
                  <a:pt x="314" y="1355"/>
                  <a:pt x="334" y="1348"/>
                  <a:pt x="392" y="1342"/>
                </a:cubicBezTo>
                <a:cubicBezTo>
                  <a:pt x="479" y="1345"/>
                  <a:pt x="567" y="1344"/>
                  <a:pt x="654" y="1350"/>
                </a:cubicBezTo>
                <a:cubicBezTo>
                  <a:pt x="695" y="1353"/>
                  <a:pt x="722" y="1383"/>
                  <a:pt x="759" y="1394"/>
                </a:cubicBezTo>
                <a:cubicBezTo>
                  <a:pt x="847" y="1454"/>
                  <a:pt x="932" y="1442"/>
                  <a:pt x="1043" y="1447"/>
                </a:cubicBezTo>
                <a:cubicBezTo>
                  <a:pt x="1103" y="1465"/>
                  <a:pt x="1162" y="1485"/>
                  <a:pt x="1223" y="1499"/>
                </a:cubicBezTo>
                <a:cubicBezTo>
                  <a:pt x="1273" y="1533"/>
                  <a:pt x="1328" y="1531"/>
                  <a:pt x="1387" y="1537"/>
                </a:cubicBezTo>
                <a:cubicBezTo>
                  <a:pt x="1469" y="1562"/>
                  <a:pt x="1571" y="1608"/>
                  <a:pt x="1657" y="1611"/>
                </a:cubicBezTo>
                <a:cubicBezTo>
                  <a:pt x="1792" y="1616"/>
                  <a:pt x="1926" y="1616"/>
                  <a:pt x="2061" y="1619"/>
                </a:cubicBezTo>
                <a:cubicBezTo>
                  <a:pt x="2133" y="1642"/>
                  <a:pt x="2119" y="1633"/>
                  <a:pt x="2233" y="1626"/>
                </a:cubicBezTo>
                <a:cubicBezTo>
                  <a:pt x="2288" y="1608"/>
                  <a:pt x="2348" y="1598"/>
                  <a:pt x="2405" y="1589"/>
                </a:cubicBezTo>
                <a:cubicBezTo>
                  <a:pt x="2450" y="1573"/>
                  <a:pt x="2505" y="1574"/>
                  <a:pt x="2547" y="1551"/>
                </a:cubicBezTo>
                <a:cubicBezTo>
                  <a:pt x="2627" y="1507"/>
                  <a:pt x="2563" y="1533"/>
                  <a:pt x="2614" y="1514"/>
                </a:cubicBezTo>
                <a:cubicBezTo>
                  <a:pt x="2685" y="1529"/>
                  <a:pt x="2741" y="1539"/>
                  <a:pt x="2816" y="1544"/>
                </a:cubicBezTo>
                <a:cubicBezTo>
                  <a:pt x="2869" y="1595"/>
                  <a:pt x="2811" y="1545"/>
                  <a:pt x="2861" y="1574"/>
                </a:cubicBezTo>
                <a:cubicBezTo>
                  <a:pt x="2872" y="1580"/>
                  <a:pt x="2882" y="1588"/>
                  <a:pt x="2891" y="1596"/>
                </a:cubicBezTo>
                <a:cubicBezTo>
                  <a:pt x="2899" y="1603"/>
                  <a:pt x="2904" y="1613"/>
                  <a:pt x="2913" y="1619"/>
                </a:cubicBezTo>
                <a:cubicBezTo>
                  <a:pt x="2939" y="1636"/>
                  <a:pt x="2981" y="1644"/>
                  <a:pt x="3011" y="1649"/>
                </a:cubicBezTo>
                <a:cubicBezTo>
                  <a:pt x="3111" y="1646"/>
                  <a:pt x="3220" y="1683"/>
                  <a:pt x="3310" y="1641"/>
                </a:cubicBezTo>
                <a:cubicBezTo>
                  <a:pt x="3348" y="1623"/>
                  <a:pt x="3312" y="1555"/>
                  <a:pt x="3302" y="1514"/>
                </a:cubicBezTo>
                <a:cubicBezTo>
                  <a:pt x="3295" y="1486"/>
                  <a:pt x="3206" y="1469"/>
                  <a:pt x="3183" y="1462"/>
                </a:cubicBezTo>
                <a:cubicBezTo>
                  <a:pt x="3160" y="1447"/>
                  <a:pt x="3138" y="1432"/>
                  <a:pt x="3115" y="1417"/>
                </a:cubicBezTo>
                <a:cubicBezTo>
                  <a:pt x="3108" y="1412"/>
                  <a:pt x="3093" y="1402"/>
                  <a:pt x="3093" y="1402"/>
                </a:cubicBezTo>
                <a:cubicBezTo>
                  <a:pt x="3052" y="1339"/>
                  <a:pt x="3106" y="1411"/>
                  <a:pt x="3055" y="1372"/>
                </a:cubicBezTo>
                <a:cubicBezTo>
                  <a:pt x="3051" y="1369"/>
                  <a:pt x="3028" y="1331"/>
                  <a:pt x="3026" y="1327"/>
                </a:cubicBezTo>
                <a:cubicBezTo>
                  <a:pt x="3031" y="1257"/>
                  <a:pt x="3037" y="1235"/>
                  <a:pt x="3048" y="1177"/>
                </a:cubicBezTo>
                <a:cubicBezTo>
                  <a:pt x="3054" y="1142"/>
                  <a:pt x="3046" y="1126"/>
                  <a:pt x="3070" y="1103"/>
                </a:cubicBezTo>
                <a:cubicBezTo>
                  <a:pt x="3104" y="1069"/>
                  <a:pt x="3189" y="1067"/>
                  <a:pt x="3235" y="1058"/>
                </a:cubicBezTo>
                <a:cubicBezTo>
                  <a:pt x="3304" y="1063"/>
                  <a:pt x="3328" y="1067"/>
                  <a:pt x="3385" y="1080"/>
                </a:cubicBezTo>
                <a:cubicBezTo>
                  <a:pt x="3428" y="1101"/>
                  <a:pt x="3474" y="1117"/>
                  <a:pt x="3519" y="1133"/>
                </a:cubicBezTo>
                <a:cubicBezTo>
                  <a:pt x="3527" y="1132"/>
                  <a:pt x="3578" y="1127"/>
                  <a:pt x="3594" y="1118"/>
                </a:cubicBezTo>
                <a:cubicBezTo>
                  <a:pt x="3610" y="1109"/>
                  <a:pt x="3639" y="1088"/>
                  <a:pt x="3639" y="1088"/>
                </a:cubicBezTo>
                <a:cubicBezTo>
                  <a:pt x="3687" y="1017"/>
                  <a:pt x="3660" y="1072"/>
                  <a:pt x="3676" y="983"/>
                </a:cubicBezTo>
                <a:cubicBezTo>
                  <a:pt x="3677" y="977"/>
                  <a:pt x="3691" y="939"/>
                  <a:pt x="3699" y="938"/>
                </a:cubicBezTo>
                <a:cubicBezTo>
                  <a:pt x="3756" y="929"/>
                  <a:pt x="3814" y="933"/>
                  <a:pt x="3871" y="931"/>
                </a:cubicBezTo>
                <a:cubicBezTo>
                  <a:pt x="3892" y="899"/>
                  <a:pt x="3894" y="880"/>
                  <a:pt x="3901" y="841"/>
                </a:cubicBezTo>
                <a:cubicBezTo>
                  <a:pt x="3894" y="681"/>
                  <a:pt x="3897" y="502"/>
                  <a:pt x="3691" y="497"/>
                </a:cubicBezTo>
                <a:cubicBezTo>
                  <a:pt x="3522" y="493"/>
                  <a:pt x="3352" y="492"/>
                  <a:pt x="3183" y="489"/>
                </a:cubicBezTo>
                <a:cubicBezTo>
                  <a:pt x="3133" y="482"/>
                  <a:pt x="3089" y="469"/>
                  <a:pt x="3040" y="459"/>
                </a:cubicBezTo>
                <a:cubicBezTo>
                  <a:pt x="2993" y="434"/>
                  <a:pt x="2942" y="436"/>
                  <a:pt x="2891" y="422"/>
                </a:cubicBezTo>
                <a:cubicBezTo>
                  <a:pt x="2818" y="401"/>
                  <a:pt x="2742" y="365"/>
                  <a:pt x="2666" y="362"/>
                </a:cubicBezTo>
                <a:cubicBezTo>
                  <a:pt x="2572" y="358"/>
                  <a:pt x="1923" y="347"/>
                  <a:pt x="1911" y="347"/>
                </a:cubicBezTo>
                <a:cubicBezTo>
                  <a:pt x="1823" y="335"/>
                  <a:pt x="1737" y="311"/>
                  <a:pt x="1649" y="295"/>
                </a:cubicBezTo>
                <a:cubicBezTo>
                  <a:pt x="1604" y="273"/>
                  <a:pt x="1555" y="265"/>
                  <a:pt x="1507" y="250"/>
                </a:cubicBezTo>
                <a:cubicBezTo>
                  <a:pt x="1483" y="234"/>
                  <a:pt x="1457" y="226"/>
                  <a:pt x="1432" y="212"/>
                </a:cubicBezTo>
                <a:cubicBezTo>
                  <a:pt x="1384" y="186"/>
                  <a:pt x="1337" y="143"/>
                  <a:pt x="1283" y="130"/>
                </a:cubicBezTo>
                <a:cubicBezTo>
                  <a:pt x="1245" y="121"/>
                  <a:pt x="1208" y="110"/>
                  <a:pt x="1170" y="100"/>
                </a:cubicBezTo>
                <a:cubicBezTo>
                  <a:pt x="656" y="106"/>
                  <a:pt x="609" y="0"/>
                  <a:pt x="340" y="183"/>
                </a:cubicBezTo>
                <a:cubicBezTo>
                  <a:pt x="326" y="204"/>
                  <a:pt x="300" y="257"/>
                  <a:pt x="273" y="272"/>
                </a:cubicBezTo>
                <a:cubicBezTo>
                  <a:pt x="259" y="280"/>
                  <a:pt x="228" y="287"/>
                  <a:pt x="228" y="287"/>
                </a:cubicBezTo>
                <a:cubicBezTo>
                  <a:pt x="220" y="292"/>
                  <a:pt x="213" y="298"/>
                  <a:pt x="205" y="302"/>
                </a:cubicBezTo>
                <a:cubicBezTo>
                  <a:pt x="196" y="306"/>
                  <a:pt x="184" y="305"/>
                  <a:pt x="175" y="310"/>
                </a:cubicBezTo>
                <a:cubicBezTo>
                  <a:pt x="84" y="357"/>
                  <a:pt x="166" y="329"/>
                  <a:pt x="108" y="347"/>
                </a:cubicBezTo>
                <a:cubicBezTo>
                  <a:pt x="49" y="387"/>
                  <a:pt x="41" y="457"/>
                  <a:pt x="18" y="519"/>
                </a:cubicBezTo>
                <a:cubicBezTo>
                  <a:pt x="26" y="1035"/>
                  <a:pt x="0" y="901"/>
                  <a:pt x="63" y="1162"/>
                </a:cubicBezTo>
                <a:cubicBezTo>
                  <a:pt x="68" y="1241"/>
                  <a:pt x="49" y="1340"/>
                  <a:pt x="138" y="1372"/>
                </a:cubicBezTo>
                <a:cubicBezTo>
                  <a:pt x="168" y="1416"/>
                  <a:pt x="186" y="1401"/>
                  <a:pt x="243" y="1394"/>
                </a:cubicBezTo>
                <a:cubicBezTo>
                  <a:pt x="267" y="1378"/>
                  <a:pt x="265" y="1388"/>
                  <a:pt x="265" y="1372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T OF THE URAL MOUNTAINS, ALL THE WAY TO THE EASTERN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44:25Z</dcterms:modified>
  <cp:revision>20</cp:revision>
  <dc:subject/>
  <dc:title>US and Canada</dc:title>
</cp:coreProperties>
</file>