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81E7F-3242-4162-A95A-7E61249F0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A9A52-B837-4063-93F3-B954B3C1B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2CF71-080B-40D7-87C0-8A40C0834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106E2-D134-4DAB-9654-5B7A1B797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1BC29-DB4F-45D5-A3D8-7DFABF716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E888B-3137-49A2-B9EB-BF480A670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7C240-3403-4986-A958-2B1F41872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2DE1B-3E9D-40A1-97D0-D262190CE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03FBF-C27C-4CA7-9930-87C7EA2BF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9D03E-8E1C-41F0-A0F4-A9F46391A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ACC2C-DB6A-4ED3-9F4E-96760BFDF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B1A6A-7D71-48AA-A731-8ED87F8E2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B129A-7AE6-4166-9597-E94F1CE5E2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hyperlink" Target="http://www.google.com/imgres?imgurl=http://www.smh.com.au/ffximage/2007/11/06/Putin_071106021505120_wideweb__300x375.jpg&amp;imgrefurl=http://www.smh.com.au/news/tv-reviews/the-putin-system/2007/11/06/1194118016186.html&amp;h=375&amp;w=300&amp;sz=28&amp;tbnid=ILtFBaOMoEIJ::&amp;tbnh=122&amp;tbnw=98&amp;prev=/images%3Fq%3Dputin%2Bpicture&amp;usg=__PLqW640RSvaaDabEON5fTmDxzOw=&amp;sa=X&amp;oi=image_result&amp;resnum=1&amp;ct=image&amp;cd=1" TargetMode="External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ussia Cut-Away Box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. SIBER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beria has tundra and subarctic climate regions. (VERY COLD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p Ques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is it difficult to extract natural resources from Siberia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" dur="500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2"/>
          <a:srcRect l="20833" t="8334" r="0" b="555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0" y="4260960"/>
            <a:ext cx="2666880" cy="2664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beria in the summer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ermafrost melts and creates small ponds and lakes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 SIBE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beria has tundra and subarctic climate regions. (VERY COL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p Ques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is it difficult to extract natural resources from Siberia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d transport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the permafrost melts the ground is wet and muddy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ring the winter it is cold, icy, and snow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" dur="500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" dur="500"/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449568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. URAL MOUNTAI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parate the continents Europe and As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rve as the borde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Ural Mountains"/>
          <p:cNvPicPr/>
          <p:nvPr/>
        </p:nvPicPr>
        <p:blipFill>
          <a:blip r:embed="rId2"/>
          <a:stretch/>
        </p:blipFill>
        <p:spPr>
          <a:xfrm>
            <a:off x="5486400" y="762120"/>
            <a:ext cx="342576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2"/>
          <a:srcRect l="0" t="7893" r="1372" b="21931"/>
          <a:stretch/>
        </p:blipFill>
        <p:spPr>
          <a:xfrm>
            <a:off x="0" y="0"/>
            <a:ext cx="9144000" cy="50292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 flipH="1">
            <a:off x="2285640" y="304920"/>
            <a:ext cx="2438280" cy="42670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914400" y="152280"/>
            <a:ext cx="243828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UROP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380880"/>
            <a:ext cx="152388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S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0880" y="5334120"/>
            <a:ext cx="838224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- Before modern technology the Urals served as a barrier to diffusion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2"/>
          <a:srcRect l="0" t="17978" r="0" b="34088"/>
          <a:stretch/>
        </p:blipFill>
        <p:spPr>
          <a:xfrm>
            <a:off x="5257800" y="2819520"/>
            <a:ext cx="3657600" cy="350496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http://www.smh.com.au/news/tv-reviews/the-putin-system/2007/11/06/1194118016186.html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80880" y="2666880"/>
            <a:ext cx="2938680" cy="36576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3962520" y="2743200"/>
            <a:ext cx="60948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33520" y="152280"/>
            <a:ext cx="23619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st of the Urals the culture and people are more Europ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019920" y="228600"/>
            <a:ext cx="23619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t of the Urals the culture and people are more Asi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04920" y="5334120"/>
            <a:ext cx="838188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- As a result different cultures developed on each side of the mountain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 Cut-Away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rection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continentality using p. 350 in the tex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lain how it impacts the climate of Russ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523880" y="5105520"/>
            <a:ext cx="6096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Physical Side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914400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osure (Do on the Exit Ticket slip.  Turn it in on the chair before you le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Write your name and the dat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Answer the Question of the Da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If you were the President of Russia, how would you fix the problems created by distance decay?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Develop a solution for eac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Remain in your assigned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EA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until you are dismissed. Do not stand ANYWHER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able of Contents – Euras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228600" y="914400"/>
          <a:ext cx="8763120" cy="5502240"/>
        </p:xfrm>
        <a:graphic>
          <a:graphicData uri="http://schemas.openxmlformats.org/drawingml/2006/table">
            <a:tbl>
              <a:tblPr/>
              <a:tblGrid>
                <a:gridCol w="1219320"/>
                <a:gridCol w="5715000"/>
                <a:gridCol w="1828800"/>
              </a:tblGrid>
              <a:tr h="65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sson #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3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/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say Hel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/1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flic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/2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uropean Un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/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urope Revie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*RUSSIA (EURASIA) UNIT*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/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ver Page and Ma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/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t-Away Box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" name=""/>
          <p:cNvSpPr/>
          <p:nvPr/>
        </p:nvSpPr>
        <p:spPr>
          <a:xfrm>
            <a:off x="228600" y="5029200"/>
            <a:ext cx="87631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re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a new page titled “Cut-away boxes.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ke out your maps from yester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ut-Away Box Procedu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Answer must be in a complete sent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They cannot cover another physical feature that is grade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 They must have an arrow that points directly to the physical feature in the questi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153280" y="304920"/>
            <a:ext cx="83844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 ON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2"/>
          <a:srcRect l="0" t="7893" r="1372" b="21931"/>
          <a:stretch/>
        </p:blipFill>
        <p:spPr>
          <a:xfrm>
            <a:off x="0" y="1066680"/>
            <a:ext cx="9144000" cy="50292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914400" y="228600"/>
            <a:ext cx="4343400" cy="1556280"/>
          </a:xfrm>
          <a:prstGeom prst="rect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Your answer to the Distance Decay Cut-Away Ques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2362320" y="1828800"/>
            <a:ext cx="838080" cy="1828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2"/>
          <a:srcRect l="0" t="7893" r="1372" b="21931"/>
          <a:stretch/>
        </p:blipFill>
        <p:spPr>
          <a:xfrm>
            <a:off x="0" y="1523880"/>
            <a:ext cx="9144000" cy="50292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 flipV="1">
            <a:off x="2209680" y="3428640"/>
            <a:ext cx="6324840" cy="10666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0"/>
            <a:ext cx="5029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1 time z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erent cul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191120" y="304920"/>
            <a:ext cx="47242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1. Distance Decay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irections: In your notebook, complete the Frayer Model below.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685800" y="1600200"/>
          <a:ext cx="8001000" cy="5064120"/>
        </p:xfrm>
        <a:graphic>
          <a:graphicData uri="http://schemas.openxmlformats.org/drawingml/2006/table">
            <a:tbl>
              <a:tblPr/>
              <a:tblGrid>
                <a:gridCol w="4000680"/>
                <a:gridCol w="4000320"/>
              </a:tblGrid>
              <a:tr h="222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 DECAY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Definition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long distances between places make communication and transportation difficul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3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Political Effect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Economic Effect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 Sket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" name=""/>
          <p:cNvSpPr/>
          <p:nvPr/>
        </p:nvSpPr>
        <p:spPr>
          <a:xfrm>
            <a:off x="762120" y="6172200"/>
            <a:ext cx="243828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p. 3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rection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the distance decay cut-away box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the directions for the question and where to place the cut-away box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2"/>
          <a:srcRect l="1388" t="18519" r="62503" b="45373"/>
          <a:stretch/>
        </p:blipFill>
        <p:spPr>
          <a:xfrm>
            <a:off x="0" y="0"/>
            <a:ext cx="9144000" cy="4419720"/>
          </a:xfrm>
          <a:prstGeom prst="rect">
            <a:avLst/>
          </a:prstGeom>
          <a:ln w="0">
            <a:noFill/>
          </a:ln>
        </p:spPr>
      </p:pic>
      <p:grpSp>
        <p:nvGrpSpPr>
          <p:cNvPr id="63" name=""/>
          <p:cNvGrpSpPr/>
          <p:nvPr/>
        </p:nvGrpSpPr>
        <p:grpSpPr>
          <a:xfrm>
            <a:off x="457200" y="2437920"/>
            <a:ext cx="6248520" cy="3048480"/>
            <a:chOff x="457200" y="2437920"/>
            <a:chExt cx="6248520" cy="3048480"/>
          </a:xfrm>
        </p:grpSpPr>
        <p:sp>
          <p:nvSpPr>
            <p:cNvPr id="64" name=""/>
            <p:cNvSpPr txBox="1"/>
            <p:nvPr/>
          </p:nvSpPr>
          <p:spPr>
            <a:xfrm>
              <a:off x="457200" y="4648320"/>
              <a:ext cx="624852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3333cc"/>
                    </a:solidFill>
                    <a:miter/>
                  </a:ln>
                  <a:solidFill>
                    <a:srgbClr val="b2b2b2">
                      <a:alpha val="50000"/>
                    </a:srgbClr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Arial Black"/>
                </a:rPr>
                <a:t>Location of Siberia</a:t>
              </a:r>
              <a:endPara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  <a:ea typeface="Arial Black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>
              <a:off x="5486400" y="2437920"/>
              <a:ext cx="0" cy="2133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2500200" y="291960"/>
            <a:ext cx="6193080" cy="2451240"/>
          </a:xfrm>
          <a:custGeom>
            <a:avLst/>
            <a:gdLst/>
            <a:ahLst/>
            <a:rect l="l" t="t" r="r" b="b"/>
            <a:pathLst>
              <a:path w="3901" h="1683">
                <a:moveTo>
                  <a:pt x="265" y="1372"/>
                </a:moveTo>
                <a:cubicBezTo>
                  <a:pt x="314" y="1355"/>
                  <a:pt x="334" y="1348"/>
                  <a:pt x="392" y="1342"/>
                </a:cubicBezTo>
                <a:cubicBezTo>
                  <a:pt x="479" y="1345"/>
                  <a:pt x="567" y="1344"/>
                  <a:pt x="654" y="1350"/>
                </a:cubicBezTo>
                <a:cubicBezTo>
                  <a:pt x="695" y="1353"/>
                  <a:pt x="722" y="1383"/>
                  <a:pt x="759" y="1394"/>
                </a:cubicBezTo>
                <a:cubicBezTo>
                  <a:pt x="847" y="1454"/>
                  <a:pt x="932" y="1442"/>
                  <a:pt x="1043" y="1447"/>
                </a:cubicBezTo>
                <a:cubicBezTo>
                  <a:pt x="1103" y="1465"/>
                  <a:pt x="1162" y="1485"/>
                  <a:pt x="1223" y="1499"/>
                </a:cubicBezTo>
                <a:cubicBezTo>
                  <a:pt x="1273" y="1533"/>
                  <a:pt x="1328" y="1531"/>
                  <a:pt x="1387" y="1537"/>
                </a:cubicBezTo>
                <a:cubicBezTo>
                  <a:pt x="1469" y="1562"/>
                  <a:pt x="1571" y="1608"/>
                  <a:pt x="1657" y="1611"/>
                </a:cubicBezTo>
                <a:cubicBezTo>
                  <a:pt x="1792" y="1616"/>
                  <a:pt x="1926" y="1616"/>
                  <a:pt x="2061" y="1619"/>
                </a:cubicBezTo>
                <a:cubicBezTo>
                  <a:pt x="2133" y="1642"/>
                  <a:pt x="2119" y="1633"/>
                  <a:pt x="2233" y="1626"/>
                </a:cubicBezTo>
                <a:cubicBezTo>
                  <a:pt x="2288" y="1608"/>
                  <a:pt x="2348" y="1598"/>
                  <a:pt x="2405" y="1589"/>
                </a:cubicBezTo>
                <a:cubicBezTo>
                  <a:pt x="2450" y="1573"/>
                  <a:pt x="2505" y="1574"/>
                  <a:pt x="2547" y="1551"/>
                </a:cubicBezTo>
                <a:cubicBezTo>
                  <a:pt x="2627" y="1507"/>
                  <a:pt x="2563" y="1533"/>
                  <a:pt x="2614" y="1514"/>
                </a:cubicBezTo>
                <a:cubicBezTo>
                  <a:pt x="2685" y="1529"/>
                  <a:pt x="2741" y="1539"/>
                  <a:pt x="2816" y="1544"/>
                </a:cubicBezTo>
                <a:cubicBezTo>
                  <a:pt x="2869" y="1595"/>
                  <a:pt x="2811" y="1545"/>
                  <a:pt x="2861" y="1574"/>
                </a:cubicBezTo>
                <a:cubicBezTo>
                  <a:pt x="2872" y="1580"/>
                  <a:pt x="2882" y="1588"/>
                  <a:pt x="2891" y="1596"/>
                </a:cubicBezTo>
                <a:cubicBezTo>
                  <a:pt x="2899" y="1603"/>
                  <a:pt x="2904" y="1613"/>
                  <a:pt x="2913" y="1619"/>
                </a:cubicBezTo>
                <a:cubicBezTo>
                  <a:pt x="2939" y="1636"/>
                  <a:pt x="2981" y="1644"/>
                  <a:pt x="3011" y="1649"/>
                </a:cubicBezTo>
                <a:cubicBezTo>
                  <a:pt x="3111" y="1646"/>
                  <a:pt x="3220" y="1683"/>
                  <a:pt x="3310" y="1641"/>
                </a:cubicBezTo>
                <a:cubicBezTo>
                  <a:pt x="3348" y="1623"/>
                  <a:pt x="3312" y="1555"/>
                  <a:pt x="3302" y="1514"/>
                </a:cubicBezTo>
                <a:cubicBezTo>
                  <a:pt x="3295" y="1486"/>
                  <a:pt x="3206" y="1469"/>
                  <a:pt x="3183" y="1462"/>
                </a:cubicBezTo>
                <a:cubicBezTo>
                  <a:pt x="3160" y="1447"/>
                  <a:pt x="3138" y="1432"/>
                  <a:pt x="3115" y="1417"/>
                </a:cubicBezTo>
                <a:cubicBezTo>
                  <a:pt x="3108" y="1412"/>
                  <a:pt x="3093" y="1402"/>
                  <a:pt x="3093" y="1402"/>
                </a:cubicBezTo>
                <a:cubicBezTo>
                  <a:pt x="3052" y="1339"/>
                  <a:pt x="3106" y="1411"/>
                  <a:pt x="3055" y="1372"/>
                </a:cubicBezTo>
                <a:cubicBezTo>
                  <a:pt x="3051" y="1369"/>
                  <a:pt x="3028" y="1331"/>
                  <a:pt x="3026" y="1327"/>
                </a:cubicBezTo>
                <a:cubicBezTo>
                  <a:pt x="3031" y="1257"/>
                  <a:pt x="3037" y="1235"/>
                  <a:pt x="3048" y="1177"/>
                </a:cubicBezTo>
                <a:cubicBezTo>
                  <a:pt x="3054" y="1142"/>
                  <a:pt x="3046" y="1126"/>
                  <a:pt x="3070" y="1103"/>
                </a:cubicBezTo>
                <a:cubicBezTo>
                  <a:pt x="3104" y="1069"/>
                  <a:pt x="3189" y="1067"/>
                  <a:pt x="3235" y="1058"/>
                </a:cubicBezTo>
                <a:cubicBezTo>
                  <a:pt x="3304" y="1063"/>
                  <a:pt x="3328" y="1067"/>
                  <a:pt x="3385" y="1080"/>
                </a:cubicBezTo>
                <a:cubicBezTo>
                  <a:pt x="3428" y="1101"/>
                  <a:pt x="3474" y="1117"/>
                  <a:pt x="3519" y="1133"/>
                </a:cubicBezTo>
                <a:cubicBezTo>
                  <a:pt x="3527" y="1132"/>
                  <a:pt x="3578" y="1127"/>
                  <a:pt x="3594" y="1118"/>
                </a:cubicBezTo>
                <a:cubicBezTo>
                  <a:pt x="3610" y="1109"/>
                  <a:pt x="3639" y="1088"/>
                  <a:pt x="3639" y="1088"/>
                </a:cubicBezTo>
                <a:cubicBezTo>
                  <a:pt x="3687" y="1017"/>
                  <a:pt x="3660" y="1072"/>
                  <a:pt x="3676" y="983"/>
                </a:cubicBezTo>
                <a:cubicBezTo>
                  <a:pt x="3677" y="977"/>
                  <a:pt x="3691" y="939"/>
                  <a:pt x="3699" y="938"/>
                </a:cubicBezTo>
                <a:cubicBezTo>
                  <a:pt x="3756" y="929"/>
                  <a:pt x="3814" y="933"/>
                  <a:pt x="3871" y="931"/>
                </a:cubicBezTo>
                <a:cubicBezTo>
                  <a:pt x="3892" y="899"/>
                  <a:pt x="3894" y="880"/>
                  <a:pt x="3901" y="841"/>
                </a:cubicBezTo>
                <a:cubicBezTo>
                  <a:pt x="3894" y="681"/>
                  <a:pt x="3897" y="502"/>
                  <a:pt x="3691" y="497"/>
                </a:cubicBezTo>
                <a:cubicBezTo>
                  <a:pt x="3522" y="493"/>
                  <a:pt x="3352" y="492"/>
                  <a:pt x="3183" y="489"/>
                </a:cubicBezTo>
                <a:cubicBezTo>
                  <a:pt x="3133" y="482"/>
                  <a:pt x="3089" y="469"/>
                  <a:pt x="3040" y="459"/>
                </a:cubicBezTo>
                <a:cubicBezTo>
                  <a:pt x="2993" y="434"/>
                  <a:pt x="2942" y="436"/>
                  <a:pt x="2891" y="422"/>
                </a:cubicBezTo>
                <a:cubicBezTo>
                  <a:pt x="2818" y="401"/>
                  <a:pt x="2742" y="365"/>
                  <a:pt x="2666" y="362"/>
                </a:cubicBezTo>
                <a:cubicBezTo>
                  <a:pt x="2572" y="358"/>
                  <a:pt x="1923" y="347"/>
                  <a:pt x="1911" y="347"/>
                </a:cubicBezTo>
                <a:cubicBezTo>
                  <a:pt x="1823" y="335"/>
                  <a:pt x="1737" y="311"/>
                  <a:pt x="1649" y="295"/>
                </a:cubicBezTo>
                <a:cubicBezTo>
                  <a:pt x="1604" y="273"/>
                  <a:pt x="1555" y="265"/>
                  <a:pt x="1507" y="250"/>
                </a:cubicBezTo>
                <a:cubicBezTo>
                  <a:pt x="1483" y="234"/>
                  <a:pt x="1457" y="226"/>
                  <a:pt x="1432" y="212"/>
                </a:cubicBezTo>
                <a:cubicBezTo>
                  <a:pt x="1384" y="186"/>
                  <a:pt x="1337" y="143"/>
                  <a:pt x="1283" y="130"/>
                </a:cubicBezTo>
                <a:cubicBezTo>
                  <a:pt x="1245" y="121"/>
                  <a:pt x="1208" y="110"/>
                  <a:pt x="1170" y="100"/>
                </a:cubicBezTo>
                <a:cubicBezTo>
                  <a:pt x="656" y="106"/>
                  <a:pt x="609" y="0"/>
                  <a:pt x="340" y="183"/>
                </a:cubicBezTo>
                <a:cubicBezTo>
                  <a:pt x="326" y="204"/>
                  <a:pt x="300" y="257"/>
                  <a:pt x="273" y="272"/>
                </a:cubicBezTo>
                <a:cubicBezTo>
                  <a:pt x="259" y="280"/>
                  <a:pt x="228" y="287"/>
                  <a:pt x="228" y="287"/>
                </a:cubicBezTo>
                <a:cubicBezTo>
                  <a:pt x="220" y="292"/>
                  <a:pt x="213" y="298"/>
                  <a:pt x="205" y="302"/>
                </a:cubicBezTo>
                <a:cubicBezTo>
                  <a:pt x="196" y="306"/>
                  <a:pt x="184" y="305"/>
                  <a:pt x="175" y="310"/>
                </a:cubicBezTo>
                <a:cubicBezTo>
                  <a:pt x="84" y="357"/>
                  <a:pt x="166" y="329"/>
                  <a:pt x="108" y="347"/>
                </a:cubicBezTo>
                <a:cubicBezTo>
                  <a:pt x="49" y="387"/>
                  <a:pt x="41" y="457"/>
                  <a:pt x="18" y="519"/>
                </a:cubicBezTo>
                <a:cubicBezTo>
                  <a:pt x="26" y="1035"/>
                  <a:pt x="0" y="901"/>
                  <a:pt x="63" y="1162"/>
                </a:cubicBezTo>
                <a:cubicBezTo>
                  <a:pt x="68" y="1241"/>
                  <a:pt x="49" y="1340"/>
                  <a:pt x="138" y="1372"/>
                </a:cubicBezTo>
                <a:cubicBezTo>
                  <a:pt x="168" y="1416"/>
                  <a:pt x="186" y="1401"/>
                  <a:pt x="243" y="1394"/>
                </a:cubicBezTo>
                <a:cubicBezTo>
                  <a:pt x="267" y="1378"/>
                  <a:pt x="265" y="1388"/>
                  <a:pt x="265" y="1372"/>
                </a:cubicBezTo>
                <a:close/>
              </a:path>
            </a:pathLst>
          </a:custGeom>
          <a:noFill/>
          <a:ln w="66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600200" y="5715000"/>
            <a:ext cx="4114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EAST OF THE URAL MOUNTAINS, ALL THE WAY TO THE EASTERN COAS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4T11:39:23Z</dcterms:created>
  <dc:creator>CFISD</dc:creator>
  <dc:description/>
  <dc:language>en-US</dc:language>
  <cp:lastModifiedBy>CFISD</cp:lastModifiedBy>
  <dcterms:modified xsi:type="dcterms:W3CDTF">2008-12-09T20:44:25Z</dcterms:modified>
  <cp:revision>20</cp:revision>
  <dc:subject/>
  <dc:title>US and Canada</dc:title>
</cp:coreProperties>
</file>