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459-7890-4D91-9BE3-C32DAB86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3B1-7541-4B56-A208-0D5C050F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CB7-339A-4C65-954A-B774C80F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C17-C0FB-4400-9D24-4E91D5ED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C6C-875A-40D8-85D8-F243B537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6EB-F845-4DBC-AED2-AA8A71D3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3D6-751C-4A4C-AC55-73EE73E3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830-9268-4C22-9237-EB769F93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4B0-C820-4287-B4FE-88B162C0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C787-CA97-4D7A-AD86-6375FBEF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023-E3C8-405F-BDBC-B97A03AF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1C7-6CA3-4043-9279-12CFBD9B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C009-9966-4376-81C7-E1654D764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5687" t="5556" r="10785" b="88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Physiographic Reg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57800" y="10663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roup of places with similar physical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057640"/>
            <a:ext cx="28954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map, found on p. 118 will help with #1 and #4 to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#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Gulf coastal plain p. 1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ntic Coastal Plains p. 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Plains p. 1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ssippi River p. 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alachian Mountains 1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Mountain Rang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ian Shield p. 119 or p. 12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. Lawrence Seaway p. 1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7:09:23Z</dcterms:created>
  <dc:creator>cfisd</dc:creator>
  <dc:description/>
  <dc:language>en-US</dc:language>
  <cp:lastModifiedBy>cfisd</cp:lastModifiedBy>
  <dcterms:modified xsi:type="dcterms:W3CDTF">2008-11-03T22:04:30Z</dcterms:modified>
  <cp:revision>4</cp:revision>
  <dc:subject/>
  <dc:title>Review Help</dc:title>
</cp:coreProperties>
</file>