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6D64-378F-48CC-9A78-76F1BAF6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8E9-E1E2-4ED2-9A01-A880C051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42D8-7C13-4B3B-8F64-CAC4A683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EE4F-0351-43E1-844F-A2A9C5E3E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EDF-14C7-4489-A19B-5FA885FF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348-7EBC-4CC8-B67B-0C84622D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06C-C4B4-4F6F-BC54-6075293B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91B-2603-410E-81A6-4DB096139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7664-0D7E-480B-89DA-1398E039F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33F0-0BCF-4661-92A9-638F640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D17C-9E6E-4145-ADD8-A22FF70C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8DE7-766A-4CF1-B07E-6A99A31F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54D2-3797-4EBE-813C-2910B6ECC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5687" t="5556" r="10785" b="888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04960" y="0"/>
            <a:ext cx="5638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Physiographic Reg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257800" y="106632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group of places with similar physical characterist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057640"/>
            <a:ext cx="28954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is map, found on p. 118 will help with #1 and #4 to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e #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Gulf coastal plain p. 1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ic Coastal Plains p. 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ior Plains p. 1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ssippi River p. 1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alachian Mountains 11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stern Mountain Rang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adian Shield p. 119 or p. 12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. Lawrence Seaway p. 1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17:09:23Z</dcterms:created>
  <dc:creator>cfisd</dc:creator>
  <dc:description/>
  <dc:language>en-US</dc:language>
  <cp:lastModifiedBy>cfisd</cp:lastModifiedBy>
  <dcterms:modified xsi:type="dcterms:W3CDTF">2008-11-03T22:04:30Z</dcterms:modified>
  <cp:revision>4</cp:revision>
  <dc:subject/>
  <dc:title>Review Help</dc:title>
</cp:coreProperties>
</file>