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B6A-6DD9-45E3-B53A-078262E0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E40-A400-4CB6-BF5A-9F7AA863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F34-2BDD-4D84-B7E6-3B14D6F8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EB5-AA87-42D5-9DC9-FC9DC1F7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98E-7FAD-4999-BED0-2F589CCC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6FA-5F20-4CD5-9329-85F20C8A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888-B712-4DF2-AE05-F655A7EA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35A-DB71-4419-A0C4-DADB7B97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265-32A1-4259-806B-F1042EBF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3D9-5AD7-4DCB-9E15-C2BD1E79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634-A4ED-46DE-B8A7-D7E89BA4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244-89B4-4A85-A803-84C837D8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B3E7-2D5E-43FD-A8DC-3C2DA812F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5687" t="5556" r="10785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Physiographic Re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57800" y="10663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oup of places with similar physical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057640"/>
            <a:ext cx="28954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map, found on p. 118 will help with #1 and #4 to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#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Gulf coastal plain p.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oastal Plains p.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Plains p. 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ssippi River p.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lachian Mountains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Mountain Ran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Shield p. 119 or p. 12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Lawrence Seaway p. 1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09:23Z</dcterms:created>
  <dc:creator>cfisd</dc:creator>
  <dc:description/>
  <dc:language>en-US</dc:language>
  <cp:lastModifiedBy>cfisd</cp:lastModifiedBy>
  <dcterms:modified xsi:type="dcterms:W3CDTF">2008-11-03T22:04:30Z</dcterms:modified>
  <cp:revision>4</cp:revision>
  <dc:subject/>
  <dc:title>Review Help</dc:title>
</cp:coreProperties>
</file>