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0F5-B9FA-434F-BD9E-4268A263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6F4-7E27-446A-B505-2F0B5BDC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585-0E32-4F3B-8AC8-D9F4B921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DE3-9297-433E-8A80-D023B464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63E-8292-40C4-87E6-675D5205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E56-7843-4910-939D-CB317FE6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A07-DE8B-4624-89E1-C17AFA7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ECB-67B1-480B-B17E-0B88AA5F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752-5D41-435C-AE56-DC89B3F6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A44-B20C-460F-B1F6-46AD4BE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CC1-1FFF-4838-B5F7-344F500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54D-880A-4737-898E-66D21C4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6C73-4A6D-436F-BD92-D2294BF10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2/hi/middle_east/7238114.s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annel.nationalgeographic.com/series/man-made/3134/Overview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atural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at is bought and s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05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ic Commodit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resource that countries are willing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105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ersian Gulf War 1991 United States vs. Iraq over the oil supply in 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ituation that demonstrates oil a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happen? Would there b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consequences of your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US?  What about OPEC? How would they rea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ictional story explaining how oil i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arm-up on the small slip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Question of the Day in your notebook like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–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Nation – The K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Commo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thnic group located in Iraq, Turkey, Iran, and 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OIL fields on thei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Kurd map/washingtonpost.com staff"/>
          <p:cNvPicPr/>
          <p:nvPr/>
        </p:nvPicPr>
        <p:blipFill>
          <a:blip r:embed="rId1"/>
          <a:stretch/>
        </p:blipFill>
        <p:spPr>
          <a:xfrm>
            <a:off x="4876920" y="0"/>
            <a:ext cx="42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LESS NATION – a group of people without a defined home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ituation – The group in northern Iraq wants to be an independent state separate from the rest of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urd map/washingtonpost.com staff"/>
          <p:cNvPicPr/>
          <p:nvPr/>
        </p:nvPicPr>
        <p:blipFill>
          <a:blip r:embed="rId1"/>
          <a:stretch/>
        </p:blipFill>
        <p:spPr>
          <a:xfrm>
            <a:off x="6049800" y="1143000"/>
            <a:ext cx="309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I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Kurds suppor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Iran-Iraq War. 1980-1988.  After the conflict Iraqi President Saddam Hussein responded with a vicious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be Saddam Hussein’s reaction to the Kurds’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ur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– 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Use the article provided to answer the questions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e the Kurds represented by the new flag in Iraq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ould address this situation as Iraq’s Prime Min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are the Kurds addressed in Obama’s Plan for withdraw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dict the outcome for the Kurds after the US leaves Ira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would you do as Iraq’s Prime Minister to ensure a positive outcome for Iraq and the Ku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in SW Asia use money from oil to pay for moder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the President of Kuwait.  Create a plan for modernizing you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initiatives, 2 that will make your country rich, and 2 that will help you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34" t="3015" r="2498" b="5466"/>
          <a:stretch/>
        </p:blipFill>
        <p:spPr>
          <a:xfrm>
            <a:off x="0" y="121932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3581280"/>
            <a:ext cx="45720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how the Dubai World Project is cre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is this an example of moder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43:32Z</dcterms:created>
  <dc:creator>CFISD</dc:creator>
  <dc:description/>
  <dc:language>en-US</dc:language>
  <cp:lastModifiedBy>CFISD</cp:lastModifiedBy>
  <dcterms:modified xsi:type="dcterms:W3CDTF">2009-03-04T13:43:52Z</dcterms:modified>
  <cp:revision>1</cp:revision>
  <dc:subject/>
  <dc:title>1st Period</dc:title>
</cp:coreProperties>
</file>