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635-E8E7-4A6E-A256-CAAF34D4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6F4-17B0-4151-B030-CEB1904D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C7F1-7110-46B1-929B-4662D5C2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200F-994C-4A6E-B4E1-F3D12C39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0E05-26B0-4C2C-9814-C6E8305E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DCA-72BF-4AE0-B558-8296A8DF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19E5-84E8-4891-977C-EA7034F67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75A9-D2D9-44BE-8FC9-009824D95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50CD-B319-4A44-A749-8B2FBA63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105A-7F82-49AA-A31C-DD889A7B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6BE6-F86C-4CC6-8150-B6C6DCEC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395-DC20-425C-8244-B23D48FF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66A3-6D53-43F6-A2CE-D282A7B22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ews.bbc.co.uk/2/hi/middle_east/7238114.stm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channel.nationalgeographic.com/series/man-made/3134/Overview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Strategic Commod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Natural 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RE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at is bought and so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3505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rategic Commodity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A resource that countries are willing to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05520" y="51055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- Persian Gulf War 1991 United States vs. Iraq over the oil supply in Kuwa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Strategic Commod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ituation that demonstrates oil as a strategic commod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happen? Would there be confli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ould be the consequences of your a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the US?  What about OPEC? How would they reac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fictional story explaining how oil is a strategic commodit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906200"/>
            <a:ext cx="822960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your warm-up on the small slip provi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Question of the Day in your notebook like norm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 – Review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less Nation – The Ku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Commo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Ti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91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thnic group located in Iraq, Turkey, Iran, and Sy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ny OIL fields on their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Kurd map/washingtonpost.com staff"/>
          <p:cNvPicPr/>
          <p:nvPr/>
        </p:nvPicPr>
        <p:blipFill>
          <a:blip r:embed="rId1"/>
          <a:stretch/>
        </p:blipFill>
        <p:spPr>
          <a:xfrm>
            <a:off x="4876920" y="0"/>
            <a:ext cx="4219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66320"/>
            <a:ext cx="5486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TELESS NATION – a group of people without a defined homel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urrent situation – The group in northern Iraq wants to be an independent state separate from the rest of the 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Kurd map/washingtonpost.com staff"/>
          <p:cNvPicPr/>
          <p:nvPr/>
        </p:nvPicPr>
        <p:blipFill>
          <a:blip r:embed="rId1"/>
          <a:stretch/>
        </p:blipFill>
        <p:spPr>
          <a:xfrm>
            <a:off x="6049800" y="1143000"/>
            <a:ext cx="3094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Ku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Int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The Kurds support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r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Iran-Iraq War. 1980-1988.  After the conflict Iraqi President Saddam Hussein responded with a vicious atta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Describe Saddam Hussein’s reaction to the Kurds’ rebell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Kurds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– 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ions: Use the article provided to answer the questions be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Are the Kurds represented by the new flag in Iraq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ould address this situation as Iraq’s Prime Minis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How are the Kurds addressed in Obama’s Plan for withdraw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redict the outcome for the Kurds after the US leaves Iraq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What would you do as Iraq’s Prime Minister to ensure a positive outcome for Iraq and the Kur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Moder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s in SW Asia use money from oil to pay for moderniz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ou are the President of Kuwait.  Create a plan for modernizing your count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t least 4 initiatives, 2 that will make your country rich, and 2 that will help your peop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3334" t="3015" r="2498" b="5466"/>
          <a:stretch/>
        </p:blipFill>
        <p:spPr>
          <a:xfrm>
            <a:off x="0" y="1219320"/>
            <a:ext cx="9144000" cy="5649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Modern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0" y="3581280"/>
            <a:ext cx="4572000" cy="3276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p Quest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Describe how the Dubai World Project is creat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How is this an example of moderniz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3:43:32Z</dcterms:created>
  <dc:creator>CFISD</dc:creator>
  <dc:description/>
  <dc:language>en-US</dc:language>
  <cp:lastModifiedBy>CFISD</cp:lastModifiedBy>
  <dcterms:modified xsi:type="dcterms:W3CDTF">2009-03-04T13:43:52Z</dcterms:modified>
  <cp:revision>1</cp:revision>
  <dc:subject/>
  <dc:title>1st Period</dc:title>
</cp:coreProperties>
</file>