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06ED-E024-4790-A0E6-6CD6BBCE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73B3-ABC2-428C-BE4E-97F0E30B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158-1E2D-4C9C-9C1B-13E8526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BECD-C28C-44FB-8527-F0CA6A92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3F0-59A5-4249-ABF2-612874558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2A1C-2052-47E9-A408-6E57E511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A88-A0A3-49DC-834F-807FEF23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30F-E134-4236-8330-2D5E8001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A3B4-9149-48D0-A2AD-5338EBDCA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C2E7-18DC-42D2-9574-B6583603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217A-FFFB-49D0-BC80-4E3A4349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516-BEA9-44FE-B1E2-C4947D7B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A63A-74F7-4008-AC1A-357694E8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2/hi/middle_east/7238114.s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annel.nationalgeographic.com/series/man-made/3134/Overview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atural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is bought and s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ic Commodit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resource that countries are willing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105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ersian Gulf War 1991 United States vs. Iraq over the oil supply in 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ituation that demonstrates oil a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happen? Would there b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consequences of your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US?  What about OPEC? How would they rea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ictional story explaining how oil i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arm-up on the small slip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Question of the Day in your notebook like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–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Nation – The K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Commo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thnic group located in Iraq, Turkey, Iran, and 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OIL fields on thei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Kurd map/washingtonpost.com staff"/>
          <p:cNvPicPr/>
          <p:nvPr/>
        </p:nvPicPr>
        <p:blipFill>
          <a:blip r:embed="rId1"/>
          <a:stretch/>
        </p:blipFill>
        <p:spPr>
          <a:xfrm>
            <a:off x="487692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LESS NATION – a group of people without a defined home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ituation – The group in northern Iraq wants to be an independent state separate from the rest of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urd map/washingtonpost.com staff"/>
          <p:cNvPicPr/>
          <p:nvPr/>
        </p:nvPicPr>
        <p:blipFill>
          <a:blip r:embed="rId1"/>
          <a:stretch/>
        </p:blipFill>
        <p:spPr>
          <a:xfrm>
            <a:off x="6049800" y="1143000"/>
            <a:ext cx="309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Kurds suppor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ran-Iraq War. 1980-1988.  After the conflict Iraqi President Saddam Hussein responded with a vicious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be Saddam Hussein’s reaction to the Kurds’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ur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– 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Use the article provided to answer the questions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e the Kurds represented by the new flag in Iraq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ould address this situation as Iraq’s Prime Min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are the Kurds addressed in Obama’s Plan for withdraw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dict the outcome for the Kurds after the US leaves Ira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would you do as Iraq’s Prime Minister to ensure a positive outcome for Iraq and the Ku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in SW Asia use money from oil to pay for moder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the President of Kuwait.  Create a plan for modernizing you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initiatives, 2 that will make your country rich, and 2 that will help you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34" t="3015" r="2498" b="5466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3581280"/>
            <a:ext cx="45720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how the Dubai World Project is cre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is this an example of moder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43:32Z</dcterms:created>
  <dc:creator>CFISD</dc:creator>
  <dc:description/>
  <dc:language>en-US</dc:language>
  <cp:lastModifiedBy>CFISD</cp:lastModifiedBy>
  <dcterms:modified xsi:type="dcterms:W3CDTF">2009-03-04T13:43:52Z</dcterms:modified>
  <cp:revision>1</cp:revision>
  <dc:subject/>
  <dc:title>1st Period</dc:title>
</cp:coreProperties>
</file>