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687-274E-4B1A-87F7-7F30DCD0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440-6B59-4E04-9E45-A822555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6EF-83A3-49E1-972B-6C79EB41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951-5630-463B-AF4E-9CFC03B3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162-933B-435F-8560-5BC7498F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9F2-862A-49FD-ADC8-5AC10C62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FB1-9D6C-4644-BEC0-CBA649E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E09-E48B-4F22-BEA8-5F9851F3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EAA-4C3C-4B82-B2FC-A7F684A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B76-368F-4B5E-918F-13D0350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8AF-D08B-4F4F-9750-A9DCCD58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C62-B873-4405-A2FA-A7C6C1D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8F94-4BEF-48BD-877C-B035594C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2/hi/middle_east/7238114.s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annel.nationalgeographic.com/series/man-made/3134/Overview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atural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is bought and s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ic Commodit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resource that countries are willing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105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ersian Gulf War 1991 United States vs. Iraq over the oil supply in 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ituation that demonstrates oil a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happen? Would there b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consequences of your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US?  What about OPEC? How would they rea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ictional story explaining how oil i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arm-up on the small slip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Question of the Day in your notebook like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–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Nation – The K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Commo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thnic group located in Iraq, Turkey, Iran, and 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OIL fields on thei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Kurd map/washingtonpost.com staff"/>
          <p:cNvPicPr/>
          <p:nvPr/>
        </p:nvPicPr>
        <p:blipFill>
          <a:blip r:embed="rId1"/>
          <a:stretch/>
        </p:blipFill>
        <p:spPr>
          <a:xfrm>
            <a:off x="487692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LESS NATION – a group of people without a defined home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ituation – The group in northern Iraq wants to be an independent state separate from the rest of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urd map/washingtonpost.com staff"/>
          <p:cNvPicPr/>
          <p:nvPr/>
        </p:nvPicPr>
        <p:blipFill>
          <a:blip r:embed="rId1"/>
          <a:stretch/>
        </p:blipFill>
        <p:spPr>
          <a:xfrm>
            <a:off x="6049800" y="1143000"/>
            <a:ext cx="309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Kurds suppor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ran-Iraq War. 1980-1988.  After the conflict Iraqi President Saddam Hussein responded with a vicious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be Saddam Hussein’s reaction to the Kurds’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ur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– 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Use the article provided to answer the questions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e the Kurds represented by the new flag in Iraq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ould address this situation as Iraq’s Prime Min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are the Kurds addressed in Obama’s Plan for withdraw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dict the outcome for the Kurds after the US leaves Ira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would you do as Iraq’s Prime Minister to ensure a positive outcome for Iraq and the Ku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in SW Asia use money from oil to pay for moder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the President of Kuwait.  Create a plan for modernizing you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initiatives, 2 that will make your country rich, and 2 that will help you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34" t="3015" r="2498" b="5466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3581280"/>
            <a:ext cx="45720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how the Dubai World Project is cre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is this an example of moder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43:32Z</dcterms:created>
  <dc:creator>CFISD</dc:creator>
  <dc:description/>
  <dc:language>en-US</dc:language>
  <cp:lastModifiedBy>CFISD</cp:lastModifiedBy>
  <dcterms:modified xsi:type="dcterms:W3CDTF">2009-03-04T13:43:52Z</dcterms:modified>
  <cp:revision>1</cp:revision>
  <dc:subject/>
  <dc:title>1st Period</dc:title>
</cp:coreProperties>
</file>