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958-7A8E-45C9-9219-4147623F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CE0-BA04-4DC8-BF6E-B2042FC2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A27-E119-42AA-8B81-F55CD91F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689-1BFE-4789-9446-3036C4FD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429-DA83-4046-B193-8B649BD9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06D-73E4-49B3-A190-844E6159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1EB-DE99-44A2-B940-B1F852BE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932-C1F8-4E11-B779-5DE3A394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FA6-5D01-4AFE-9CC1-A4CD4BF7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526-8DC9-4CC3-8E18-5004714B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54F-961B-4DA4-8044-BE8C7DDB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805-C84E-42F9-A34A-6D58892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D47F-8ED1-4E3B-A89D-6C516BE54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5687" t="5556" r="10785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Physiographic Re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57800" y="10663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oup of places with similar physical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057640"/>
            <a:ext cx="28954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map, found on p. 118 will help with #1 and #4 to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#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Gulf coastal plain p.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oastal Plains p.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Plains p. 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ssippi River p.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lachian Mountains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Mountain Ran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Shield p. 119 or p. 12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Lawrence Seaway p. 1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09:23Z</dcterms:created>
  <dc:creator>cfisd</dc:creator>
  <dc:description/>
  <dc:language>en-US</dc:language>
  <cp:lastModifiedBy>cfisd</cp:lastModifiedBy>
  <dcterms:modified xsi:type="dcterms:W3CDTF">2008-11-03T22:04:30Z</dcterms:modified>
  <cp:revision>4</cp:revision>
  <dc:subject/>
  <dc:title>Review Help</dc:title>
</cp:coreProperties>
</file>