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737-44D4-4C14-BCCB-32B51590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BD4-C163-4E33-9148-62D65D81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328-F3CA-43F1-AF68-A8D15EDC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3A3E-1EB3-45F8-8FF8-F9E2604F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F41B-C513-40B1-9036-AB8F8335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FDE8-62D2-4625-B1FA-C4E24E4C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7500-AE2B-457E-9075-4DF3BC36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B531-C1C9-4EBA-B005-ECCB2BA2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C08-7EB2-4D40-96BA-653F2BC4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6D16-F7F2-4494-9C63-22986408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8FA-F9FF-4737-87CA-4182BAC4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E39-78FB-4B57-BA09-3B09FE24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AD34-A510-4C7B-82F0-5061DB251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5687" t="5556" r="10785" b="88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04960" y="0"/>
            <a:ext cx="5638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Physiographic Reg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57800" y="106632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roup of places with similar physical character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057640"/>
            <a:ext cx="289548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s map, found on p. 118 will help with #1 and #4 to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#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Gulf coastal plain p. 11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lantic Coastal Plains p. 1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ior Plains p. 1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ssippi River p. 1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alachian Mountains 11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Mountain Rang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ian Shield p. 119 or p. 12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. Lawrence Seaway p. 1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7:09:23Z</dcterms:created>
  <dc:creator>cfisd</dc:creator>
  <dc:description/>
  <dc:language>en-US</dc:language>
  <cp:lastModifiedBy>cfisd</cp:lastModifiedBy>
  <dcterms:modified xsi:type="dcterms:W3CDTF">2008-11-03T22:04:30Z</dcterms:modified>
  <cp:revision>4</cp:revision>
  <dc:subject/>
  <dc:title>Review Help</dc:title>
</cp:coreProperties>
</file>