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ACC-3F3C-43C2-B78F-3BD79BD7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3C4-BE8E-4CFF-8F7C-8F5AAAC6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F10-01BF-4A95-A4AC-E7892D8F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153-27AE-4AF5-BB04-F065DE97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EEF-D4A2-48A5-B179-BD6388AA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E42-CCC5-4456-AB92-A36D9AB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D90-86A5-4076-B3F9-79791C51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688-0E5D-4294-880D-91249758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A31-0A59-4FBD-9162-F0E96F63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EC5-529E-4B15-902D-37C5ACD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38C-632B-4478-B803-1909C28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9DC-B231-4CB6-A33D-92F307F3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5154-BEBF-46F8-8B2E-DB694C864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2/hi/middle_east/7238114.s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annel.nationalgeographic.com/series/man-made/3134/Overview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atural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at is bought and s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05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ic Commodit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resource that countries are willing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105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ersian Gulf War 1991 United States vs. Iraq over the oil supply in 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ituation that demonstrates oil a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happen? Would there b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consequences of your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US?  What about OPEC? How would they rea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ictional story explaining how oil i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arm-up on the small slip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Question of the Day in your notebook like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–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Nation – The K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Commo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thnic group located in Iraq, Turkey, Iran, and 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OIL fields on thei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Kurd map/washingtonpost.com staff"/>
          <p:cNvPicPr/>
          <p:nvPr/>
        </p:nvPicPr>
        <p:blipFill>
          <a:blip r:embed="rId1"/>
          <a:stretch/>
        </p:blipFill>
        <p:spPr>
          <a:xfrm>
            <a:off x="4876920" y="0"/>
            <a:ext cx="42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LESS NATION – a group of people without a defined home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ituation – The group in northern Iraq wants to be an independent state separate from the rest of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urd map/washingtonpost.com staff"/>
          <p:cNvPicPr/>
          <p:nvPr/>
        </p:nvPicPr>
        <p:blipFill>
          <a:blip r:embed="rId1"/>
          <a:stretch/>
        </p:blipFill>
        <p:spPr>
          <a:xfrm>
            <a:off x="6049800" y="1143000"/>
            <a:ext cx="309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I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Kurds suppor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Iran-Iraq War. 1980-1988.  After the conflict Iraqi President Saddam Hussein responded with a vicious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be Saddam Hussein’s reaction to the Kurds’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ur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– 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Use the article provided to answer the questions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e the Kurds represented by the new flag in Iraq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ould address this situation as Iraq’s Prime Min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are the Kurds addressed in Obama’s Plan for withdraw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dict the outcome for the Kurds after the US leaves Ira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would you do as Iraq’s Prime Minister to ensure a positive outcome for Iraq and the Ku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in SW Asia use money from oil to pay for moder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the President of Kuwait.  Create a plan for modernizing you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initiatives, 2 that will make your country rich, and 2 that will help you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34" t="3015" r="2498" b="5466"/>
          <a:stretch/>
        </p:blipFill>
        <p:spPr>
          <a:xfrm>
            <a:off x="0" y="121932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3581280"/>
            <a:ext cx="45720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how the Dubai World Project is cre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is this an example of moder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43:32Z</dcterms:created>
  <dc:creator>CFISD</dc:creator>
  <dc:description/>
  <dc:language>en-US</dc:language>
  <cp:lastModifiedBy>CFISD</cp:lastModifiedBy>
  <dcterms:modified xsi:type="dcterms:W3CDTF">2009-03-04T13:43:52Z</dcterms:modified>
  <cp:revision>1</cp:revision>
  <dc:subject/>
  <dc:title>1st Period</dc:title>
</cp:coreProperties>
</file>