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8215-8B02-4F86-B039-EF1DB037D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EB73-3399-483E-A2FB-C2A58F319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F295-0CE4-4862-B547-732E8B2C7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24F7-7F5A-4AE4-A55D-25AF7AFBA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7571-3CEB-4CB3-808F-DF3D79B8B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D909-91F2-43A4-A72A-96685DC64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6A06-DBEA-49F2-9660-604E67A0D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5FEB-22CC-4186-AF84-965119B57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D38A-581D-4BF9-9ACB-06EC0B173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3E12-B785-4BD7-9610-A1A4832E0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B980-B83B-4BCD-B7F9-EF546F03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E999-E05C-4EA7-9F11-BEF7C17F1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8284D-E4FB-4EAB-B0C4-85E5A1256B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en.wikipedia.org/wiki/Image:Itsukushima_torii_distance.jpg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ds.yahoo.com/_ylt=A0oGkxIeWfJHjxYAnLFXNyoA;_ylu=X3oDMTBsZDdmM2M5BHNlYwNzYwRjb2xvA3NrMQR2dGlkAw--/SIG=1g1cfe6gs/EXP=1207151262/**http%3A//images.search.yahoo.com/images/view%3Fback=http%253A%252F%252Fsearch.yahoo.com%252Fsearch%253Fei%253DUTF-8%2526p%253DBuddha%2526y%253DSearch%26w=499%26h=500%26imgurl=static.flickr.com%252F45%252F111416125_ebe6c3c3de.jpg%26size=243.7%26name=111416125_ebe6c3c3de.jpg%26rcurl=http%253A%252F%252Fwww.flickr.com%252Fphotos%252Fespionic%252F111416125%252F%26rurl=http%253A%252F%252Fwww.flickr.com%252Fphotos%252Fespionic%252F111416125%252F%26p=buddha%26type=jpeg%26no=3%26tt=1%252C105%252C964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ds.yahoo.com/_ylt=A0oGkxIeWfJHjxYAnLFXNyoA;_ylu=X3oDMTBsZDdmM2M5BHNlYwNzYwRjb2xvA3NrMQR2dGlkAw--/SIG=1g1cfe6gs/EXP=1207151262/**http%3A//images.search.yahoo.com/images/view%3Fback=http%253A%252F%252Fsearch.yahoo.com%252Fsearch%253Fei%253DUTF-8%2526p%253DBuddha%2526y%253DSearch%26w=499%26h=500%26imgurl=static.flickr.com%252F45%252F111416125_ebe6c3c3de.jpg%26size=243.7%26name=111416125_ebe6c3c3de.jpg%26rcurl=http%253A%252F%252Fwww.flickr.com%252Fphotos%252Fespionic%252F111416125%252F%26rurl=http%253A%252F%252Fwww.flickr.com%252Fphotos%252Fespionic%252F111416125%252F%26p=buddha%26type=jpeg%26no=3%26tt=1%252C105%252C964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en.wikipedia.org/wiki/Image:Buddha_lantau.jpg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Angkor_wat_temple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5146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Religions of East and Southeast Asi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f you said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fuciu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you are righ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ucius was a philosopher and reformer who lived in China from 551 B.C. to 479 B.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 sayings instructed Chinese to live with good morals/values and political responsib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 philosophy became a religion and many of its ideas (such as respect) are similar to other religions like Christianity and Isl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400800" y="1447920"/>
            <a:ext cx="2514600" cy="48765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www.jimpoz.com/quotes/images/speakers/confucius.jpg"/>
          <p:cNvPicPr/>
          <p:nvPr/>
        </p:nvPicPr>
        <p:blipFill>
          <a:blip r:embed="rId2"/>
          <a:stretch/>
        </p:blipFill>
        <p:spPr>
          <a:xfrm>
            <a:off x="4572000" y="2438280"/>
            <a:ext cx="17524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 What do the these represe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Floating Torii, Miyajima, Japan"/>
          <p:cNvPicPr/>
          <p:nvPr/>
        </p:nvPicPr>
        <p:blipFill>
          <a:blip r:embed="rId1"/>
          <a:stretch/>
        </p:blipFill>
        <p:spPr>
          <a:xfrm>
            <a:off x="457200" y="2057400"/>
            <a:ext cx="4038480" cy="41148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A famous &quot;floating&quot; torii at Itsukushima Shrin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00600" y="205740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d you say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at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6248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are called Torii Gates and are an important type of architectural element used in Jap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religion of Shinto, practiced in Japan, the gates serve as symbolic entries to the spiritual wor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hinto, they believe in spirits and demons living in nature.  These gates represent that connection in their everyday l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858000" y="1066680"/>
            <a:ext cx="2057400" cy="25146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705720" y="3886200"/>
            <a:ext cx="2209680" cy="230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ion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Sketch a Torii Gate in your noteboo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Label it Shinto and explain its significan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152280" y="685800"/>
          <a:ext cx="8763120" cy="5932440"/>
        </p:xfrm>
        <a:graphic>
          <a:graphicData uri="http://schemas.openxmlformats.org/drawingml/2006/table">
            <a:tbl>
              <a:tblPr/>
              <a:tblGrid>
                <a:gridCol w="1752840"/>
                <a:gridCol w="1600200"/>
                <a:gridCol w="990360"/>
                <a:gridCol w="2286000"/>
                <a:gridCol w="2133720"/>
              </a:tblGrid>
              <a:tr h="113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igion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ilosoph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ilosopher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und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i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 Belief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storic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graph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a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9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dhis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ur Nobel Truths (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st all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ightfold Path (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marize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rvana (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e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ucianis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in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ast and Southeast Asian Relig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172200" y="4648320"/>
            <a:ext cx="1523880" cy="133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ion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Create this chart in your noteboo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rections - Cha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you create your chart it is time to complete it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each member of your group choose one religion.  Send one student to pick up a handout for each religion from the table by my des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d A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uddh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d B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hi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d C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fuci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tudent should complete one of the religions individu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you finish, take turns TEACHING your religion to the other members of your gro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t-Chart 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Use your completed chart to answer the following question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religion diffused (spread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religions remain isolated (did not diffuse) and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any of the religions on the chart, explain how it affects the everyday life of the people who practice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 some people think the religions of East and Southeast Asia ar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ally relig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 – SE As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28600" y="914400"/>
          <a:ext cx="8763120" cy="4838760"/>
        </p:xfrm>
        <a:graphic>
          <a:graphicData uri="http://schemas.openxmlformats.org/drawingml/2006/table">
            <a:tbl>
              <a:tblPr/>
              <a:tblGrid>
                <a:gridCol w="1219320"/>
                <a:gridCol w="5715000"/>
                <a:gridCol w="182880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shm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SE Asia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ver P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man-Environment Intera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ig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228600" y="2971800"/>
            <a:ext cx="8763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Who is this a statue of?  Why is the person rubbing the bel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static.flickr.com/45/111416125_ebe6c3c3d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47920" y="1905120"/>
            <a:ext cx="6400800" cy="43434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04920" y="1676520"/>
            <a:ext cx="1752480" cy="188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ion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Record each question 1-5 and summarize the answer in one sentence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rrect! This is a statue of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uddh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4723920"/>
            <a:ext cx="853416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uddh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as a philosopher/founder of the religion of Buddhis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people rub the laughing Buddha’s belly for luck and prosper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argest outdoor Buddha statue is located in Hong Kong at the Po Lin Monastery and symbolizes the impact of Buddhism as a center for their beliefs.  It is visible at great distances and is also a tourist attr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static.flickr.com/45/111416125_ebe6c3c3d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1295280"/>
            <a:ext cx="3657600" cy="3276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The Big Buddha, on Lantau Island, Hong Ko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48320" y="1295280"/>
            <a:ext cx="40384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What do you think this building 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The main entrance to the temple proper, seen from the eastern end of the Naga causewa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1371600"/>
            <a:ext cx="7086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f you said a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emple or place of worshi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you are correc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43430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gkor W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series of temples and towers that covers 203 ac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t in the 1100’s, it was first used for Hindu worship and today is used for Buddhist worshi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ted in Cambodia, this serves as a spiritual center as well as a tourist attr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Aerial view of Angkor Wat"/>
          <p:cNvPicPr/>
          <p:nvPr/>
        </p:nvPicPr>
        <p:blipFill>
          <a:blip r:embed="rId1"/>
          <a:stretch/>
        </p:blipFill>
        <p:spPr>
          <a:xfrm>
            <a:off x="1676520" y="1295280"/>
            <a:ext cx="56386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Who is this ma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952880" y="1828800"/>
            <a:ext cx="3657600" cy="42670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838080" y="1828800"/>
            <a:ext cx="32767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f you said the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alai Lam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you are correct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9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is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piritual lead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ibetan Buddh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is believed to be the reincarnation of the long line of “Buddhist Masters” who choose to come back to earth to teach about human values such as compassion, forgiveness and tole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 is currently in exile as Tibet is under the control of the Communist govern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Map of Tibet's location in China"/>
          <p:cNvPicPr/>
          <p:nvPr/>
        </p:nvPicPr>
        <p:blipFill>
          <a:blip r:embed="rId1"/>
          <a:stretch/>
        </p:blipFill>
        <p:spPr>
          <a:xfrm>
            <a:off x="5029200" y="2057400"/>
            <a:ext cx="3962520" cy="35812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935760" y="380988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ec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44792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Who do you think said this?  Does it sound like anything you have ever hear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533520"/>
            <a:ext cx="800100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Respect yourself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and others will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 Black"/>
              </a:rPr>
              <a:t>respect you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5:51:31Z</dcterms:created>
  <dc:creator>CFISD</dc:creator>
  <dc:description/>
  <dc:language>en-US</dc:language>
  <cp:lastModifiedBy>CFISD</cp:lastModifiedBy>
  <dcterms:modified xsi:type="dcterms:W3CDTF">2009-04-13T12:35:52Z</dcterms:modified>
  <cp:revision>12</cp:revision>
  <dc:subject/>
  <dc:title>Slide 1</dc:title>
</cp:coreProperties>
</file>