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FE7-87AD-4CA1-8C5A-AA106312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60D-AD7C-4D89-921D-CF7BF9C8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2B7-9536-41F1-8391-01550122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A16-A899-4E75-8278-C21DB922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831-2DB7-4E09-BA1B-EBEBCA5F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30F-0005-474E-93F3-51CABEEF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A3C-2B98-4101-BB03-57F125E5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0DD-B7CA-4BA6-B19B-1E6DEED7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EBF-EC2D-46F9-A4B6-F15287E2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FC4-B674-4CB2-988C-25077C86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652-4F61-4C35-9A7F-901E2BF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16D-CF99-40A1-AB4C-EF1C17E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A4E3-425C-4B08-ACFB-A176527F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en.wikipedia.org/wiki/Image:Itsukushima_torii_distance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en.wikipedia.org/wiki/Image:Buddha_lantau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ngkor_wat_templ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ligions of East and Southeast A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uci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righ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cius was a philosopher and reformer who lived in China from 551 B.C. to 479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ayings instructed Chinese to live with good morals/values and political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philosophy became a religion and many of its ideas (such as respect) are similar to other religions like Christianity and Is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2514600" cy="487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www.jimpoz.com/quotes/images/speakers/confucius.jpg"/>
          <p:cNvPicPr/>
          <p:nvPr/>
        </p:nvPicPr>
        <p:blipFill>
          <a:blip r:embed="rId2"/>
          <a:stretch/>
        </p:blipFill>
        <p:spPr>
          <a:xfrm>
            <a:off x="4572000" y="2438280"/>
            <a:ext cx="1752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What do the these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Floating Torii, Miyajima, Japan"/>
          <p:cNvPicPr/>
          <p:nvPr/>
        </p:nvPicPr>
        <p:blipFill>
          <a:blip r:embed="rId1"/>
          <a:stretch/>
        </p:blipFill>
        <p:spPr>
          <a:xfrm>
            <a:off x="457200" y="205740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A famous &quot;floating&quot; torii at Itsukushima Shri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sa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248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called Torii Gates and are an important type of architectural element used in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religion of Shinto, practiced in Japan, the gates serve as symbolic entries to the spiritual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hinto, they believe in spirits and demons living in nature.  These gates represent that connection in their everyday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574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705720" y="3886200"/>
            <a:ext cx="2209680" cy="23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ketch a Torii Gate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abel it Shinto and explain its signific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685800"/>
          <a:ext cx="8763120" cy="5932440"/>
        </p:xfrm>
        <a:graphic>
          <a:graphicData uri="http://schemas.openxmlformats.org/drawingml/2006/table">
            <a:tbl>
              <a:tblPr/>
              <a:tblGrid>
                <a:gridCol w="1752840"/>
                <a:gridCol w="1600200"/>
                <a:gridCol w="990360"/>
                <a:gridCol w="2286000"/>
                <a:gridCol w="213372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er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Bel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dh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 Nobel Truths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al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htfold Path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rvana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ci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 and Southeast Asian Reli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4648320"/>
            <a:ext cx="1523880" cy="133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reate this chart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-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create your chart it is time to complete 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ach member of your group choose one religion.  Send one student to pick up a handout for each religion from the table by my de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dd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uci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should complete one of the religions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you finish, take turns TEACHING your religion to the other members of you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Chart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your completed chart to answer the following 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 diffused (sprea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s remain isolated (did not diffuse)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y of the religions on the chart, explain how it affects the everyday life of the people who practic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eople think the religions of East and Southeast Asia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lly relig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ho is this a statue of?  Why is the person rubbing the be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90512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676520"/>
            <a:ext cx="17524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cord each question 1-5 and summarize the answer in one sentenc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! This is a statue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ddh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472392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dd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a philosopher/founder of the religion of Buddh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eople rub the laughing Buddha’s belly for luck and prospe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st outdoor Buddha statue is located in Hong Kong at the Po Lin Monastery and symbolizes the impact of Buddhism as a center for their beliefs.  It is visible at great distances and is also a tourist at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The Big Buddha, on Lantau Island, Hong Ko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2952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do you think this building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main entrance to the temple proper, seen from the eastern end of the Naga causew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3716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mple or place of worshi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gkor W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ries of temples and towers that covers 203 ac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 the 1100’s, it was first used for Hindu worship and today is used for Buddhist wo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Cambodia, this serves as a spiritual center as well as a tourist at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Aerial view of Angkor Wat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Who is this 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lai La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iritual l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ibetan Buddh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believed to be the reincarnation of the long line of “Buddhist Masters” who choose to come back to earth to teach about human values such as compassion, forgiveness and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currently in exile as Tibet is under the control of the Communist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Map of Tibet's location in China"/>
          <p:cNvPicPr/>
          <p:nvPr/>
        </p:nvPicPr>
        <p:blipFill>
          <a:blip r:embed="rId1"/>
          <a:stretch/>
        </p:blipFill>
        <p:spPr>
          <a:xfrm>
            <a:off x="5029200" y="2057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5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o do you think said this?  Does it sound like anything you have ever he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533520"/>
            <a:ext cx="8001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espect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d others wil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respect you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5:51:31Z</dcterms:created>
  <dc:creator>CFISD</dc:creator>
  <dc:description/>
  <dc:language>en-US</dc:language>
  <cp:lastModifiedBy>CFISD</cp:lastModifiedBy>
  <dcterms:modified xsi:type="dcterms:W3CDTF">2009-04-13T12:35:52Z</dcterms:modified>
  <cp:revision>12</cp:revision>
  <dc:subject/>
  <dc:title>Slide 1</dc:title>
</cp:coreProperties>
</file>