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F93-A449-46DC-92CC-36E16142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E2C-A945-40DD-B9DF-8E9633FE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C9C-DC62-445D-AD8D-9AAD9D69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453C-2050-446E-8744-3D6BF9E7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5DE-58AA-417D-AEA3-3F228E67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4CE-CF08-40D4-B1A9-F719B048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A4B-AECD-4FF4-8B50-6F85C6FE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086-B3B1-4668-9D71-4EB45C4D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862-1E76-4987-9BCD-6B8187AF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D8B-A5FC-4031-BF70-F673B218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4783-FEFD-4D3B-998F-DD93A214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4EC-8249-4755-80D8-24C58DA7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A4F3-ACF3-49D7-BD6C-A45681888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en.wikipedia.org/wiki/Image:Itsukushima_torii_distance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oGkxIeWfJHjxYAnLFXNyoA;_ylu=X3oDMTBsZDdmM2M5BHNlYwNzYwRjb2xvA3NrMQR2dGlkAw--/SIG=1g1cfe6gs/EXP=1207151262/**http%3A//images.search.yahoo.com/images/view%3Fback=http%253A%252F%252Fsearch.yahoo.com%252Fsearch%253Fei%253DUTF-8%2526p%253DBuddha%2526y%253DSearch%26w=499%26h=500%26imgurl=static.flickr.com%252F45%252F111416125_ebe6c3c3de.jpg%26size=243.7%26name=111416125_ebe6c3c3de.jpg%26rcurl=http%253A%252F%252Fwww.flickr.com%252Fphotos%252Fespionic%252F111416125%252F%26rurl=http%253A%252F%252Fwww.flickr.com%252Fphotos%252Fespionic%252F111416125%252F%26p=buddha%26type=jpeg%26no=3%26tt=1%252C105%252C96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ds.yahoo.com/_ylt=A0oGkxIeWfJHjxYAnLFXNyoA;_ylu=X3oDMTBsZDdmM2M5BHNlYwNzYwRjb2xvA3NrMQR2dGlkAw--/SIG=1g1cfe6gs/EXP=1207151262/**http%3A//images.search.yahoo.com/images/view%3Fback=http%253A%252F%252Fsearch.yahoo.com%252Fsearch%253Fei%253DUTF-8%2526p%253DBuddha%2526y%253DSearch%26w=499%26h=500%26imgurl=static.flickr.com%252F45%252F111416125_ebe6c3c3de.jpg%26size=243.7%26name=111416125_ebe6c3c3de.jpg%26rcurl=http%253A%252F%252Fwww.flickr.com%252Fphotos%252Fespionic%252F111416125%252F%26rurl=http%253A%252F%252Fwww.flickr.com%252Fphotos%252Fespionic%252F111416125%252F%26p=buddha%26type=jpeg%26no=3%26tt=1%252C105%252C964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en.wikipedia.org/wiki/Image:Buddha_lantau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ngkor_wat_temple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ligions of East and Southeast As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uci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you are righ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ucius was a philosopher and reformer who lived in China from 551 B.C. to 479 B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sayings instructed Chinese to live with good morals/values and political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philosophy became a religion and many of its ideas (such as respect) are similar to other religions like Christianity and Is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00800" y="1447920"/>
            <a:ext cx="2514600" cy="487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www.jimpoz.com/quotes/images/speakers/confucius.jpg"/>
          <p:cNvPicPr/>
          <p:nvPr/>
        </p:nvPicPr>
        <p:blipFill>
          <a:blip r:embed="rId2"/>
          <a:stretch/>
        </p:blipFill>
        <p:spPr>
          <a:xfrm>
            <a:off x="4572000" y="2438280"/>
            <a:ext cx="1752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What do the these repres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Floating Torii, Miyajima, Japan"/>
          <p:cNvPicPr/>
          <p:nvPr/>
        </p:nvPicPr>
        <p:blipFill>
          <a:blip r:embed="rId1"/>
          <a:stretch/>
        </p:blipFill>
        <p:spPr>
          <a:xfrm>
            <a:off x="457200" y="205740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A famous &quot;floating&quot; torii at Itsukushima Shrin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you say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6248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called Torii Gates and are an important type of architectural element used in Ja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religion of Shinto, practiced in Japan, the gates serve as symbolic entries to the spiritual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hinto, they believe in spirits and demons living in nature.  These gates represent that connection in their everyday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205740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705720" y="3886200"/>
            <a:ext cx="2209680" cy="23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ketch a Torii Gate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abel it Shinto and explain its signific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2280" y="685800"/>
          <a:ext cx="8763120" cy="5932440"/>
        </p:xfrm>
        <a:graphic>
          <a:graphicData uri="http://schemas.openxmlformats.org/drawingml/2006/table">
            <a:tbl>
              <a:tblPr/>
              <a:tblGrid>
                <a:gridCol w="1752840"/>
                <a:gridCol w="1600200"/>
                <a:gridCol w="990360"/>
                <a:gridCol w="2286000"/>
                <a:gridCol w="213372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oso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osopher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Belie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graph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dh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 Nobel Truths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al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htfold Path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rvana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ucian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t and Southeast Asian Relig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4648320"/>
            <a:ext cx="1523880" cy="133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reate this chart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 -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create your chart it is time to complete i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ach member of your group choose one religion.  Send one student to pick up a handout for each religion from the table by my des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 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dd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 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 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fuci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udent should complete one of the religions individ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you finish, take turns TEACHING your religion to the other members of your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Chart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 your completed chart to answer the following ques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religion diffused (sprea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religions remain isolated (did not diffuse)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ny of the religions on the chart, explain how it affects the everyday life of the people who practic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some people think the religions of East and Southeast Asia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lly relig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E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h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29718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Who is this a statue of?  Why is the person rubbing the be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static.flickr.com/45/111416125_ebe6c3c3d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1905120"/>
            <a:ext cx="6400800" cy="4343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1676520"/>
            <a:ext cx="175248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cord each question 1-5 and summarize the answer in one sentenc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ect! This is a statue of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ddh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4723920"/>
            <a:ext cx="8534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dd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a philosopher/founder of the religion of Buddh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eople rub the laughing Buddha’s belly for luck and prospe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rgest outdoor Buddha statue is located in Hong Kong at the Po Lin Monastery and symbolizes the impact of Buddhism as a center for their beliefs.  It is visible at great distances and is also a tourist att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tatic.flickr.com/45/111416125_ebe6c3c3d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The Big Buddha, on Lantau Island, Hong Ko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129528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hat do you think this building 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The main entrance to the temple proper, seen from the eastern end of the Naga causewa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3716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mple or place of worshi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you are correc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gkor W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eries of temples and towers that covers 203 ac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 the 1100’s, it was first used for Hindu worship and today is used for Buddhist wor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in Cambodia, this serves as a spiritual center as well as a tourist at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Aerial view of Angkor Wat"/>
          <p:cNvPicPr/>
          <p:nvPr/>
        </p:nvPicPr>
        <p:blipFill>
          <a:blip r:embed="rId1"/>
          <a:stretch/>
        </p:blipFill>
        <p:spPr>
          <a:xfrm>
            <a:off x="1676520" y="1295280"/>
            <a:ext cx="5638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Who is this 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657600" cy="4267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3276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lai Lam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you are correct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iritual l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ibetan Buddh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believed to be the reincarnation of the long line of “Buddhist Masters” who choose to come back to earth to teach about human values such as compassion, forgiveness and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currently in exile as Tibet is under the control of the Communist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Map of Tibet's location in China"/>
          <p:cNvPicPr/>
          <p:nvPr/>
        </p:nvPicPr>
        <p:blipFill>
          <a:blip r:embed="rId1"/>
          <a:stretch/>
        </p:blipFill>
        <p:spPr>
          <a:xfrm>
            <a:off x="5029200" y="20574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35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ho do you think said this?  Does it sound like anything you have ever he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533520"/>
            <a:ext cx="8001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Respect yourse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and others wil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respect you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5:51:31Z</dcterms:created>
  <dc:creator>CFISD</dc:creator>
  <dc:description/>
  <dc:language>en-US</dc:language>
  <cp:lastModifiedBy>CFISD</cp:lastModifiedBy>
  <dcterms:modified xsi:type="dcterms:W3CDTF">2009-04-13T12:35:52Z</dcterms:modified>
  <cp:revision>12</cp:revision>
  <dc:subject/>
  <dc:title>Slide 1</dc:title>
</cp:coreProperties>
</file>